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1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default.mspx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microsoft.com/windows/default.mspx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microsoft.com/windows/default.mspx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hyperlink" Target="http://www.linux.org/" TargetMode="External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default.mspx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microsoft.com/windows/default.mspx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microsoft.com/windows/default.mspx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hyperlink" Target="http://www.linux.org/" TargetMode="External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8.wmf"/><Relationship Id="rId5" Type="http://schemas.openxmlformats.org/officeDocument/2006/relationships/image" Target="../media/image1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8.wmf"/><Relationship Id="rId7" Type="http://schemas.openxmlformats.org/officeDocument/2006/relationships/image" Target="../media/image1.wmf"/><Relationship Id="rId8" Type="http://schemas.openxmlformats.org/officeDocument/2006/relationships/image" Target="../media/image8.wmf"/><Relationship Id="rId9" Type="http://schemas.openxmlformats.org/officeDocument/2006/relationships/image" Target="../media/image1.wmf"/><Relationship Id="rId10" Type="http://schemas.openxmlformats.org/officeDocument/2006/relationships/image" Target="../media/image8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default.mspx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microsoft.com/windows/default.mspx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hyperlink" Target="http://www.linux.org/" TargetMode="External"/><Relationship Id="rId7" Type="http://schemas.openxmlformats.org/officeDocument/2006/relationships/image" Target="../media/image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image" Target="../media/image5.wmf"/><Relationship Id="rId11" Type="http://schemas.openxmlformats.org/officeDocument/2006/relationships/hyperlink" Target="http://www.linux.org/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1.wmf"/><Relationship Id="rId14" Type="http://schemas.openxmlformats.org/officeDocument/2006/relationships/hyperlink" Target="http://www.microsoft.com/windows/default.mspx" TargetMode="External"/><Relationship Id="rId15" Type="http://schemas.openxmlformats.org/officeDocument/2006/relationships/image" Target="../media/image4.png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cc"/>
                </a:solidFill>
                <a:latin typeface="Verdana"/>
              </a:rPr>
              <a:t>Tutorial IPv6.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Verdana"/>
              </a:rPr>
              <a:t>Una aproximación Técnica de Implementació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64320" y="358128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Verdana"/>
              </a:rPr>
              <a:t>MSC. Jorge Daniel Villa Herná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Verdana"/>
              </a:rPr>
              <a:t>Ministerio de Educación Sup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Verdana"/>
              </a:rPr>
              <a:t>Grupo de Trabajo IPv6 Cu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Verdana"/>
              </a:rPr>
              <a:t>Villa@reduniv.edu.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305320"/>
            <a:ext cx="83822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rebuchet MS"/>
              </a:rPr>
              <a:t>IX Evento Internacional de Redes y Telecomunic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rebuchet MS"/>
              </a:rPr>
              <a:t>Capitolio Nacional, Ciudad de La Habana, Cu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rebuchet MS"/>
              </a:rPr>
              <a:t>11 de noviembre de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34680" y="6141960"/>
            <a:ext cx="7321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http://www.ripe.net/ripencc/mem-services/registration/ipv6/ipv6allocs.htm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04600" y="31680"/>
            <a:ext cx="59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Ubicación de Prefijos IPv6 (sept. 2004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33440" y="1442880"/>
            <a:ext cx="8042760" cy="4649400"/>
            <a:chOff x="433440" y="1442880"/>
            <a:chExt cx="8042760" cy="4649400"/>
          </a:xfrm>
        </p:grpSpPr>
        <p:sp>
          <p:nvSpPr>
            <p:cNvPr id="395" name=""/>
            <p:cNvSpPr/>
            <p:nvPr/>
          </p:nvSpPr>
          <p:spPr>
            <a:xfrm>
              <a:off x="4584600" y="1938240"/>
              <a:ext cx="1595520" cy="189252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61" y="89"/>
                  </a:moveTo>
                  <a:cubicBezTo>
                    <a:pt x="126" y="34"/>
                    <a:pt x="6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191"/>
                  </a:lnTo>
                  <a:lnTo>
                    <a:pt x="161" y="89"/>
                  </a:lnTo>
                  <a:close/>
                </a:path>
              </a:pathLst>
            </a:custGeom>
            <a:solidFill>
              <a:srgbClr val="00cc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84600" y="2820960"/>
              <a:ext cx="1892520" cy="2427480"/>
            </a:xfrm>
            <a:custGeom>
              <a:avLst/>
              <a:gdLst/>
              <a:ahLst/>
              <a:rect l="l" t="t" r="r" b="b"/>
              <a:pathLst>
                <a:path w="191" h="245">
                  <a:moveTo>
                    <a:pt x="125" y="245"/>
                  </a:moveTo>
                  <a:cubicBezTo>
                    <a:pt x="167" y="209"/>
                    <a:pt x="191" y="157"/>
                    <a:pt x="191" y="102"/>
                  </a:cubicBezTo>
                  <a:cubicBezTo>
                    <a:pt x="191" y="66"/>
                    <a:pt x="180" y="31"/>
                    <a:pt x="161" y="0"/>
                  </a:cubicBezTo>
                  <a:lnTo>
                    <a:pt x="0" y="102"/>
                  </a:lnTo>
                  <a:lnTo>
                    <a:pt x="125" y="245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84600" y="3830760"/>
              <a:ext cx="1238400" cy="1485720"/>
            </a:xfrm>
            <a:custGeom>
              <a:avLst/>
              <a:gdLst/>
              <a:ahLst/>
              <a:rect l="l" t="t" r="r" b="b"/>
              <a:pathLst>
                <a:path w="125" h="150">
                  <a:moveTo>
                    <a:pt x="117" y="150"/>
                  </a:moveTo>
                  <a:cubicBezTo>
                    <a:pt x="120" y="148"/>
                    <a:pt x="123" y="146"/>
                    <a:pt x="125" y="143"/>
                  </a:cubicBezTo>
                  <a:lnTo>
                    <a:pt x="0" y="0"/>
                  </a:lnTo>
                  <a:lnTo>
                    <a:pt x="117" y="150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1800" y="2216160"/>
              <a:ext cx="3041640" cy="3506760"/>
            </a:xfrm>
            <a:custGeom>
              <a:avLst/>
              <a:gdLst/>
              <a:ahLst/>
              <a:rect l="l" t="t" r="r" b="b"/>
              <a:pathLst>
                <a:path w="307" h="354">
                  <a:moveTo>
                    <a:pt x="92" y="0"/>
                  </a:moveTo>
                  <a:cubicBezTo>
                    <a:pt x="34" y="34"/>
                    <a:pt x="0" y="96"/>
                    <a:pt x="0" y="163"/>
                  </a:cubicBezTo>
                  <a:cubicBezTo>
                    <a:pt x="0" y="268"/>
                    <a:pt x="85" y="354"/>
                    <a:pt x="190" y="354"/>
                  </a:cubicBezTo>
                  <a:cubicBezTo>
                    <a:pt x="232" y="353"/>
                    <a:pt x="274" y="339"/>
                    <a:pt x="307" y="313"/>
                  </a:cubicBezTo>
                  <a:lnTo>
                    <a:pt x="190" y="16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13320" y="1949400"/>
              <a:ext cx="971280" cy="1881360"/>
            </a:xfrm>
            <a:custGeom>
              <a:avLst/>
              <a:gdLst/>
              <a:ahLst/>
              <a:rect l="l" t="t" r="r" b="b"/>
              <a:pathLst>
                <a:path w="98" h="190">
                  <a:moveTo>
                    <a:pt x="98" y="0"/>
                  </a:moveTo>
                  <a:cubicBezTo>
                    <a:pt x="63" y="0"/>
                    <a:pt x="29" y="9"/>
                    <a:pt x="0" y="27"/>
                  </a:cubicBezTo>
                  <a:lnTo>
                    <a:pt x="98" y="19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16640" y="2185920"/>
              <a:ext cx="1703160" cy="406440"/>
            </a:xfrm>
            <a:custGeom>
              <a:avLst/>
              <a:gdLst/>
              <a:ahLst/>
              <a:rect l="l" t="t" r="r" b="b"/>
              <a:pathLst>
                <a:path w="172" h="41">
                  <a:moveTo>
                    <a:pt x="172" y="41"/>
                  </a:moveTo>
                  <a:lnTo>
                    <a:pt x="161" y="4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67400" y="4019400"/>
              <a:ext cx="930240" cy="88920"/>
            </a:xfrm>
            <a:custGeom>
              <a:avLst/>
              <a:gdLst/>
              <a:ahLst/>
              <a:rect l="l" t="t" r="r" b="b"/>
              <a:pathLst>
                <a:path w="94" h="9">
                  <a:moveTo>
                    <a:pt x="94" y="0"/>
                  </a:moveTo>
                  <a:lnTo>
                    <a:pt x="83" y="0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3280" y="5288040"/>
              <a:ext cx="852480" cy="50472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86" y="51"/>
                  </a:moveTo>
                  <a:lnTo>
                    <a:pt x="75" y="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51120" y="4583160"/>
              <a:ext cx="1198440" cy="34776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0"/>
                  </a:moveTo>
                  <a:lnTo>
                    <a:pt x="11" y="0"/>
                  </a:lnTo>
                  <a:lnTo>
                    <a:pt x="121" y="35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63920" y="1739880"/>
              <a:ext cx="1504800" cy="277920"/>
            </a:xfrm>
            <a:custGeom>
              <a:avLst/>
              <a:gdLst/>
              <a:ahLst/>
              <a:rect l="l" t="t" r="r" b="b"/>
              <a:pathLst>
                <a:path w="152" h="28">
                  <a:moveTo>
                    <a:pt x="0" y="0"/>
                  </a:moveTo>
                  <a:lnTo>
                    <a:pt x="11" y="0"/>
                  </a:lnTo>
                  <a:lnTo>
                    <a:pt x="152" y="28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3440" y="4356000"/>
              <a:ext cx="149040" cy="149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5240" y="4286160"/>
              <a:ext cx="114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RIPE NCC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54080" y="4594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51%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78840" y="2365200"/>
              <a:ext cx="149040" cy="1479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49920" y="229536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ARIN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560" y="26020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16%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24800" y="5564160"/>
              <a:ext cx="149040" cy="1494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2640" y="5495760"/>
              <a:ext cx="910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LACNIC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94320" y="5802480"/>
              <a:ext cx="34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1%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58120" y="3790800"/>
              <a:ext cx="147600" cy="149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27040" y="3722760"/>
              <a:ext cx="74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APNIC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80400" y="40291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23%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94000" y="1512720"/>
              <a:ext cx="149040" cy="149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62200" y="1442880"/>
              <a:ext cx="790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ffffcc"/>
                  </a:solidFill>
                  <a:latin typeface="arial"/>
                </a:rPr>
                <a:t>IPv6 IX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03040" y="1751040"/>
              <a:ext cx="34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cc"/>
                  </a:solidFill>
                  <a:latin typeface="arial"/>
                </a:rPr>
                <a:t>9%</a:t>
              </a:r>
              <a:endParaRPr b="0" lang="en-US" sz="1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609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RFC3513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:Internet Protocol Version 6 (IPv6) Addressing Archite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39840" y="1295280"/>
            <a:ext cx="2875320" cy="39888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Direccionamiento 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7160" y="2013120"/>
            <a:ext cx="1269000" cy="3988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00640" y="2013120"/>
            <a:ext cx="1108800" cy="398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Anyca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57120" y="2013120"/>
            <a:ext cx="1067760" cy="39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920" y="3003480"/>
            <a:ext cx="1267200" cy="3988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Assign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81760" y="3003480"/>
            <a:ext cx="1915200" cy="3988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Solicited-No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89840" y="3343320"/>
            <a:ext cx="137412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-Loc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34240" y="3301920"/>
            <a:ext cx="1752480" cy="100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Aggregatabl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Glob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68520" y="3343320"/>
            <a:ext cx="1195560" cy="3988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Site-Lin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840" y="5289480"/>
            <a:ext cx="173052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especifi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opbac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9440" y="5289480"/>
            <a:ext cx="1557000" cy="703800"/>
          </a:xfrm>
          <a:prstGeom prst="rect">
            <a:avLst/>
          </a:prstGeom>
          <a:solidFill>
            <a:srgbClr val="33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IPv4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Compati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37240" y="5289480"/>
            <a:ext cx="137412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-Loc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60560" y="5289480"/>
            <a:ext cx="1872360" cy="703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Aggregatabl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Glob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01480" y="5289480"/>
            <a:ext cx="1195560" cy="3988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Site-Lin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0212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45820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692440"/>
            <a:ext cx="2057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269244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4600" y="269244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292104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610480" y="292104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81680" y="292104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00600" y="2921040"/>
            <a:ext cx="3809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2463840"/>
            <a:ext cx="0" cy="2438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246384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46384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170172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1473120"/>
            <a:ext cx="1752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473120"/>
            <a:ext cx="1752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147312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0120" y="147312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7640" y="34164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00::/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8280" y="346860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02::1:FF00:0000/10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65080" y="37735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E80::/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55920" y="37591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C0::/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72920" y="4002120"/>
            <a:ext cx="117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001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002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3FFE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04280" y="575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80::/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00400" y="57405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C0::/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12480" y="5983200"/>
            <a:ext cx="117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001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002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3FFE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2960" y="60451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:0:0:0:0:0::/9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9560" y="60451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::/12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::1/12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657360"/>
            <a:ext cx="838224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Verdana"/>
                <a:ea typeface="Times New Roman"/>
              </a:rPr>
              <a:t>Unicast:</a:t>
            </a:r>
            <a:r>
              <a:rPr b="1" lang="es-ES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Identificador para una única interfaz. Un paquete enviado a una dirección unicast es entregado sólo a la interfaz identificada con dicha dirección. Es el equivalente a las direcciones IPv4 actuales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Verdana"/>
                <a:ea typeface="Times New Roman"/>
              </a:rPr>
              <a:t>Anycast:</a:t>
            </a:r>
            <a:r>
              <a:rPr b="1" lang="es-ES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Identificador para un conjunto de interfaces (típicamente pertenecen a diferentes nodos). Un paquete enviado a una dirección anycast es entregado a una (cualquiera) de las interfaces identificadas con dicha dirección (la más próxima, de acuerdo a las medidas de distancia del protocolo de routing).</a:t>
            </a:r>
            <a:r>
              <a:rPr b="1" lang="es-ES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Verdana"/>
                <a:ea typeface="Times New Roman"/>
              </a:rPr>
              <a:t>Multicast:</a:t>
            </a:r>
            <a:r>
              <a:rPr b="1" lang="es-ES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Identificador para un conjunto de interfaces (por lo general pertenecientes a diferentes nodos). Un paquete enviado a una dirección multicast es entregado a todas las interfaces identificadas por dicha dirección. La misión de este tipo de paquetes es evidente: aplicaciones de retransmisión múltiple (broadca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1964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0976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0108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686480" y="1143000"/>
            <a:ext cx="906120" cy="5335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6819840" y="11430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1028880" y="914400"/>
            <a:ext cx="909360" cy="8222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181160" y="1981080"/>
            <a:ext cx="6553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05808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20928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.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92436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07556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.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4328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4720" y="15238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. 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12720" y="31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utoconfiguración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" y="2286000"/>
            <a:ext cx="5105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 - ICMP Type = 133 (R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Src = :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Dst =</a:t>
            </a: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All-Routers multicast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query= please send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33840" y="2290680"/>
            <a:ext cx="4915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 - ICMP Type = 134 (R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Src = Router Link-local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Dst = All-nodes multicast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Data= options, prefix, lifetime, autoconfig fla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70280" y="457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Stateless </a:t>
            </a:r>
            <a:r>
              <a:rPr b="1" i="1" lang="es-ES" sz="2400" spc="-1" strike="noStrike">
                <a:solidFill>
                  <a:srgbClr val="33cccc"/>
                </a:solidFill>
                <a:latin typeface="Trebuchet MS"/>
              </a:rPr>
              <a:t>(RFC 246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44000" y="6400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Stateful DHCPv6 </a:t>
            </a:r>
            <a:r>
              <a:rPr b="1" i="1" lang="es-ES" sz="2400" spc="-1" strike="noStrike">
                <a:solidFill>
                  <a:srgbClr val="33cccc"/>
                </a:solidFill>
                <a:latin typeface="Trebuchet MS"/>
              </a:rPr>
              <a:t>(RFC 331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10360" y="5045040"/>
            <a:ext cx="1604880" cy="1023840"/>
          </a:xfrm>
          <a:prstGeom prst="rightArrow">
            <a:avLst>
              <a:gd name="adj1" fmla="val 50000"/>
              <a:gd name="adj2" fmla="val 39188"/>
            </a:avLst>
          </a:prstGeom>
          <a:gradFill rotWithShape="0">
            <a:gsLst>
              <a:gs pos="0">
                <a:srgbClr val="745b15"/>
              </a:gs>
              <a:gs pos="50000">
                <a:srgbClr val="fdc72f"/>
              </a:gs>
              <a:gs pos="100000">
                <a:srgbClr val="745b15"/>
              </a:gs>
            </a:gsLst>
            <a:lin ang="13500000"/>
          </a:gradFill>
          <a:ln w="9360">
            <a:solidFill>
              <a:srgbClr val="fed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72200" y="4368960"/>
            <a:ext cx="15238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040" rIns="131040" tIns="65520" bIns="65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RA indica 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65720" y="4844880"/>
            <a:ext cx="530280" cy="1800"/>
          </a:xfrm>
          <a:prstGeom prst="line">
            <a:avLst/>
          </a:prstGeom>
          <a:ln w="57240">
            <a:solidFill>
              <a:srgbClr val="3ce2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4560" bIns="-345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10360" y="5557680"/>
            <a:ext cx="34398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10360" y="4886280"/>
            <a:ext cx="0" cy="13701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18200" y="5557680"/>
            <a:ext cx="0" cy="698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05800" y="4886280"/>
            <a:ext cx="0" cy="671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6715080" y="5872320"/>
            <a:ext cx="660600" cy="5968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7375680" y="4756320"/>
            <a:ext cx="660240" cy="5968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6"/>
          <a:stretch/>
        </p:blipFill>
        <p:spPr>
          <a:xfrm>
            <a:off x="5421240" y="5313240"/>
            <a:ext cx="835200" cy="4892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7139160" y="4191120"/>
            <a:ext cx="2004840" cy="49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 + MAC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39160" y="5867280"/>
            <a:ext cx="2004840" cy="49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 + MAC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88880" y="608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EUI-6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53840" y="836640"/>
            <a:ext cx="751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Dirección MAC: 00:08:02:A2:BC:B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Paso 1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Insertar FFFE al centro de la dirección M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           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00:08:02: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FF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: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FE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:A2:BC:B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Paso 2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Hacer Bit 7 = 1 (Dirección Agregable Glob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                       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Bit 7 = 0 (Dirección Loc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02:08:02: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FF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: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FE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:A2:BC:BF = 208:02FF:FEA2:BCB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1800" y="32749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URLs con direccione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37339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http:[2001:410:0:1:250:fcee:e450:33ab]:8443/abc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0080" y="4265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ivisión en Subre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70120" y="487512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2001:410:0::/48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(red con 2</a:t>
            </a:r>
            <a:r>
              <a:rPr b="0" lang="es-ES" sz="2400" spc="-1" strike="noStrike" baseline="30000">
                <a:solidFill>
                  <a:srgbClr val="ffffcc"/>
                </a:solidFill>
                <a:latin typeface="Trebuchet MS"/>
              </a:rPr>
              <a:t>16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subred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2001:410:0:1::/64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(red con 2</a:t>
            </a:r>
            <a:r>
              <a:rPr b="0" lang="es-ES" sz="2400" spc="-1" strike="noStrike" baseline="30000">
                <a:solidFill>
                  <a:srgbClr val="ffffcc"/>
                </a:solidFill>
                <a:latin typeface="Trebuchet MS"/>
              </a:rPr>
              <a:t>64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host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2001:410:0:1:0:0:0:45FF/128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(dirección de un hos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8360" y="632304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hay direcciones reservadas para red y broadc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5800" y="838080"/>
            <a:ext cx="7162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0:0:0:0:0:0:192.168.30.1 = ::192.168.30.1 = ::C0A8:1E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17400" y="1419120"/>
            <a:ext cx="70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presentación de direcciones compatibles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2819520" y="1190160"/>
            <a:ext cx="1828800" cy="265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2009880"/>
            <a:ext cx="7162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0:0:0:0:0:0:0: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81840" y="259092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Loopb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2819520" y="2362320"/>
            <a:ext cx="1828800" cy="264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3076560"/>
            <a:ext cx="7162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0:0:0:0:0:0:0: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67080" y="36576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No Especificada (Todo Cer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819520" y="3429000"/>
            <a:ext cx="1828800" cy="264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4219560"/>
            <a:ext cx="8153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0:0:0:0:0:FFFF.192.168.30.1 = ::ffff:192.168.30.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00120" y="480060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presentación de direcciones mapeadas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2819520" y="4572000"/>
            <a:ext cx="1828800" cy="264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rcRect l="0" t="0" r="17001" b="44667"/>
          <a:stretch/>
        </p:blipFill>
        <p:spPr>
          <a:xfrm>
            <a:off x="762120" y="1028880"/>
            <a:ext cx="7543800" cy="37717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086640" y="3168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Clientes/Server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57200"/>
            <a:ext cx="19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Windows X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1640" y="35812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dHat Linu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8380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Instalar SP1 o Superior (incluyendo Advanced Networking Pack para Windows XP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Ejecutar el comando “</a:t>
            </a:r>
            <a:r>
              <a:rPr b="0" lang="es-ES" sz="2000" spc="-1" strike="noStrike">
                <a:solidFill>
                  <a:srgbClr val="ff9933"/>
                </a:solidFill>
                <a:latin typeface="Trebuchet MS"/>
              </a:rPr>
              <a:t>ipv6 install</a:t>
            </a: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” o “</a:t>
            </a:r>
            <a:r>
              <a:rPr b="0" lang="es-ES" sz="2000" spc="-1" strike="noStrike">
                <a:solidFill>
                  <a:srgbClr val="ff9933"/>
                </a:solidFill>
                <a:latin typeface="Trebuchet MS"/>
              </a:rPr>
              <a:t>netsh interface ipv6 install</a:t>
            </a: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 “ desde el prompt de MS-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Aparecerá un mensaje indicando que ha sido correcta la insta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Ejecutar el comando “</a:t>
            </a:r>
            <a:r>
              <a:rPr b="0" lang="es-ES" sz="2000" spc="-1" strike="noStrike">
                <a:solidFill>
                  <a:srgbClr val="ff9933"/>
                </a:solidFill>
                <a:latin typeface="Trebuchet MS"/>
              </a:rPr>
              <a:t>ipv6 if</a:t>
            </a: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” para ver la configuración de las interfaces de r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Ejecutar “</a:t>
            </a:r>
            <a:r>
              <a:rPr b="0" lang="es-ES" sz="2000" spc="-1" strike="noStrike">
                <a:solidFill>
                  <a:srgbClr val="ff9933"/>
                </a:solidFill>
                <a:latin typeface="Trebuchet MS"/>
              </a:rPr>
              <a:t>ping ::1</a:t>
            </a: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” para probar el funcionamiento del stack 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40384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Todas las distribuciones de Linux con Kernel 2.2.x y 2.4.x poseen soporte para IPv6 (</a:t>
            </a:r>
            <a:r>
              <a:rPr b="0" i="1" lang="es-ES" sz="2000" spc="-1" strike="noStrike">
                <a:solidFill>
                  <a:srgbClr val="00cccc"/>
                </a:solidFill>
                <a:latin typeface="Trebuchet MS"/>
              </a:rPr>
              <a:t>http://www.bieringer.de/linux/IPv6/status/IPv6+Linux-status-distributions.html</a:t>
            </a: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Las versiones RedHat 6.2 en adelante soportan IPv6 en la distribución estánd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Añadir la línea </a:t>
            </a:r>
            <a:r>
              <a:rPr b="0" lang="es-ES" sz="2000" spc="-1" strike="noStrike">
                <a:solidFill>
                  <a:srgbClr val="ff9933"/>
                </a:solidFill>
                <a:latin typeface="Trebuchet MS"/>
              </a:rPr>
              <a:t>NETWORKING_IPV6=“ye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Reiniciar el servidor y observar que aparece </a:t>
            </a:r>
            <a:r>
              <a:rPr b="1" lang="es-ES" sz="2000" spc="-1" strike="noStrike">
                <a:solidFill>
                  <a:srgbClr val="ffffcc"/>
                </a:solidFill>
                <a:latin typeface="Trebuchet MS"/>
              </a:rPr>
              <a:t>xinetd-ipv6</a:t>
            </a: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 como proces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702480" y="316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Laboratorio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371600" y="1219320"/>
            <a:ext cx="1006560" cy="909000"/>
            <a:chOff x="1371600" y="1219320"/>
            <a:chExt cx="1006560" cy="909000"/>
          </a:xfrm>
        </p:grpSpPr>
        <p:sp>
          <p:nvSpPr>
            <p:cNvPr id="529" name=""/>
            <p:cNvSpPr/>
            <p:nvPr/>
          </p:nvSpPr>
          <p:spPr>
            <a:xfrm>
              <a:off x="1371600" y="1828440"/>
              <a:ext cx="909720" cy="16632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3400" y="1830240"/>
              <a:ext cx="906480" cy="16308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71600" y="17366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1600" y="17366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010960" y="1904760"/>
              <a:ext cx="219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1320" y="17366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1320" y="17366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76640" y="19764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76640" y="19764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78280" y="19764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78280" y="19764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76640" y="2103120"/>
              <a:ext cx="701640" cy="252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78080" y="2104920"/>
              <a:ext cx="698400" cy="216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09840" y="17366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09840" y="17366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03360" y="12193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03360" y="12193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05160" y="1287360"/>
              <a:ext cx="647640" cy="509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49560" y="12193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149560" y="12193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62040" y="1352520"/>
              <a:ext cx="535320" cy="39312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550" name="bnr_windows_LTR" descr="Windows Home Page">
              <a:hlinkClick r:id="rId1"/>
            </p:cNvPr>
            <p:cNvPicPr/>
            <p:nvPr/>
          </p:nvPicPr>
          <p:blipFill>
            <a:blip r:embed="rId2"/>
            <a:srcRect l="0" t="0" r="78624" b="0"/>
            <a:stretch/>
          </p:blipFill>
          <p:spPr>
            <a:xfrm>
              <a:off x="1689120" y="1398240"/>
              <a:ext cx="289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"/>
          <p:cNvGrpSpPr/>
          <p:nvPr/>
        </p:nvGrpSpPr>
        <p:grpSpPr>
          <a:xfrm>
            <a:off x="4038480" y="1219320"/>
            <a:ext cx="1006560" cy="909000"/>
            <a:chOff x="4038480" y="1219320"/>
            <a:chExt cx="1006560" cy="909000"/>
          </a:xfrm>
        </p:grpSpPr>
        <p:sp>
          <p:nvSpPr>
            <p:cNvPr id="552" name=""/>
            <p:cNvSpPr/>
            <p:nvPr/>
          </p:nvSpPr>
          <p:spPr>
            <a:xfrm>
              <a:off x="4038480" y="1828440"/>
              <a:ext cx="909720" cy="16632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40280" y="1830240"/>
              <a:ext cx="906480" cy="16308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38480" y="17366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38480" y="17366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677840" y="1904760"/>
              <a:ext cx="219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48200" y="17366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48200" y="17366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43520" y="19764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43520" y="19764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45160" y="19764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45160" y="19764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43520" y="2103120"/>
              <a:ext cx="701640" cy="252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44960" y="2104920"/>
              <a:ext cx="698400" cy="216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76720" y="17366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76720" y="17366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70240" y="12193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70240" y="12193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72040" y="1287360"/>
              <a:ext cx="647640" cy="509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16440" y="12193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16440" y="12193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28920" y="1352520"/>
              <a:ext cx="535320" cy="39312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573" name="bnr_windows_LTR" descr="Windows Home Page">
              <a:hlinkClick r:id="rId3"/>
            </p:cNvPr>
            <p:cNvPicPr/>
            <p:nvPr/>
          </p:nvPicPr>
          <p:blipFill>
            <a:blip r:embed="rId4"/>
            <a:srcRect l="0" t="0" r="78624" b="0"/>
            <a:stretch/>
          </p:blipFill>
          <p:spPr>
            <a:xfrm>
              <a:off x="4356000" y="1398240"/>
              <a:ext cx="289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7010280" y="1219320"/>
            <a:ext cx="1006560" cy="909000"/>
            <a:chOff x="7010280" y="1219320"/>
            <a:chExt cx="1006560" cy="909000"/>
          </a:xfrm>
        </p:grpSpPr>
        <p:sp>
          <p:nvSpPr>
            <p:cNvPr id="575" name=""/>
            <p:cNvSpPr/>
            <p:nvPr/>
          </p:nvSpPr>
          <p:spPr>
            <a:xfrm>
              <a:off x="7010280" y="1828440"/>
              <a:ext cx="909720" cy="16632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12080" y="1830240"/>
              <a:ext cx="906480" cy="16308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10280" y="17366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10280" y="17366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649640" y="1904760"/>
              <a:ext cx="219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0000" y="17366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20000" y="17366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5320" y="19764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5320" y="19764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16960" y="19764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16960" y="19764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15320" y="2103120"/>
              <a:ext cx="701640" cy="252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16760" y="2104920"/>
              <a:ext cx="698400" cy="216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48520" y="17366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48520" y="17366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42040" y="12193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42040" y="12193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43840" y="1287360"/>
              <a:ext cx="647640" cy="509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88240" y="12193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88240" y="12193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00720" y="1352520"/>
              <a:ext cx="535320" cy="39312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596" name="bnr_windows_LTR" descr="Windows Home Page">
              <a:hlinkClick r:id="rId5"/>
            </p:cNvPr>
            <p:cNvPicPr/>
            <p:nvPr/>
          </p:nvPicPr>
          <p:blipFill>
            <a:blip r:embed="rId6"/>
            <a:srcRect l="0" t="0" r="78624" b="0"/>
            <a:stretch/>
          </p:blipFill>
          <p:spPr>
            <a:xfrm>
              <a:off x="7327800" y="1398240"/>
              <a:ext cx="289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2590920" y="4038480"/>
            <a:ext cx="838080" cy="914400"/>
            <a:chOff x="2590920" y="4038480"/>
            <a:chExt cx="838080" cy="914400"/>
          </a:xfrm>
        </p:grpSpPr>
        <p:pic>
          <p:nvPicPr>
            <p:cNvPr id="598" name="" descr=""/>
            <p:cNvPicPr/>
            <p:nvPr/>
          </p:nvPicPr>
          <p:blipFill>
            <a:blip r:embed="rId7"/>
            <a:stretch/>
          </p:blipFill>
          <p:spPr>
            <a:xfrm>
              <a:off x="2590920" y="4038480"/>
              <a:ext cx="8380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linuxorg" descr="Linux Online">
              <a:hlinkClick r:id="rId8"/>
            </p:cNvPr>
            <p:cNvPicPr/>
            <p:nvPr/>
          </p:nvPicPr>
          <p:blipFill>
            <a:blip r:embed="rId9"/>
            <a:srcRect l="5092" t="11806" r="69475" b="11538"/>
            <a:stretch/>
          </p:blipFill>
          <p:spPr>
            <a:xfrm>
              <a:off x="2819520" y="4343400"/>
              <a:ext cx="4093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"/>
          <p:cNvSpPr/>
          <p:nvPr/>
        </p:nvSpPr>
        <p:spPr>
          <a:xfrm flipV="1">
            <a:off x="2971800" y="3428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76520" y="213372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048120"/>
            <a:ext cx="28191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0" y="21337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57800" y="3200400"/>
            <a:ext cx="2286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543800" y="213336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267080" y="2743200"/>
          <a:ext cx="1143000" cy="1049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67080" y="2743200"/>
                    <a:ext cx="11430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246960" y="5181480"/>
            <a:ext cx="91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hequear configuración de 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Ver funcionamiento de autoconfigu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hequear conectividad ipv6 (ping6 (Liunx), ping (Windows X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419240" y="31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47520" y="533520"/>
            <a:ext cx="60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Bind 4.9 o superior, versión 9 o sup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4960" y="99072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AAA </a:t>
            </a:r>
            <a:r>
              <a:rPr b="0" i="1" lang="en-US" sz="2400" spc="-1" strike="noStrike">
                <a:solidFill>
                  <a:srgbClr val="ff9933"/>
                </a:solidFill>
                <a:latin typeface="Trebuchet MS"/>
              </a:rPr>
              <a:t>(obsole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04920" y="1373040"/>
            <a:ext cx="8152560" cy="703800"/>
            <a:chOff x="304920" y="1373040"/>
            <a:chExt cx="8152560" cy="703800"/>
          </a:xfrm>
        </p:grpSpPr>
        <p:sp>
          <p:nvSpPr>
            <p:cNvPr id="614" name=""/>
            <p:cNvSpPr/>
            <p:nvPr/>
          </p:nvSpPr>
          <p:spPr>
            <a:xfrm>
              <a:off x="304920" y="1373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4920" y="1373040"/>
              <a:ext cx="815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$ORIGIN </a:t>
              </a:r>
              <a:r>
                <a:rPr b="1" i="1" lang="es-ES" sz="2000" spc="-1" strike="noStrike">
                  <a:solidFill>
                    <a:srgbClr val="00cccc"/>
                  </a:solidFill>
                  <a:latin typeface="Trebuchet MS"/>
                </a:rPr>
                <a:t>example.com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.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cc"/>
                  </a:solidFill>
                  <a:latin typeface="Trebuchet MS"/>
                </a:rPr>
                <a:t>host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3600 IN </a:t>
              </a:r>
              <a:r>
                <a:rPr b="1" lang="es-ES" sz="2000" spc="-1" strike="noStrike">
                  <a:solidFill>
                    <a:srgbClr val="ffffcc"/>
                  </a:solidFill>
                  <a:latin typeface="Trebuchet MS"/>
                </a:rPr>
                <a:t>AAAA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1" lang="es-ES" sz="2000" spc="-1" strike="noStrike">
                  <a:solidFill>
                    <a:srgbClr val="ff9933"/>
                  </a:solidFill>
                  <a:latin typeface="Trebuchet MS"/>
                </a:rPr>
                <a:t>3ffe:8050:201:1860:42::1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04920" y="2592360"/>
            <a:ext cx="8000280" cy="703800"/>
            <a:chOff x="304920" y="2592360"/>
            <a:chExt cx="8000280" cy="703800"/>
          </a:xfrm>
        </p:grpSpPr>
        <p:sp>
          <p:nvSpPr>
            <p:cNvPr id="617" name=""/>
            <p:cNvSpPr/>
            <p:nvPr/>
          </p:nvSpPr>
          <p:spPr>
            <a:xfrm>
              <a:off x="304920" y="2592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4920" y="2592360"/>
              <a:ext cx="800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$ORIGIN </a:t>
              </a:r>
              <a:r>
                <a:rPr b="1" i="1" lang="es-ES" sz="2000" spc="-1" strike="noStrike">
                  <a:solidFill>
                    <a:srgbClr val="00cccc"/>
                  </a:solidFill>
                  <a:latin typeface="Trebuchet MS"/>
                </a:rPr>
                <a:t>example.com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.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cc"/>
                  </a:solidFill>
                  <a:latin typeface="Trebuchet MS"/>
                </a:rPr>
                <a:t>host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3600</a:t>
              </a:r>
              <a:r>
                <a:rPr b="0" lang="es-ES" sz="900" spc="-1" strike="noStrike">
                  <a:solidFill>
                    <a:srgbClr val="ffffff"/>
                  </a:solidFill>
                  <a:latin typeface="Trebuchet MS"/>
                  <a:ea typeface="arial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IN </a:t>
              </a:r>
              <a:r>
                <a:rPr b="1" lang="es-ES" sz="2000" spc="-1" strike="noStrike">
                  <a:solidFill>
                    <a:srgbClr val="ffffcc"/>
                  </a:solidFill>
                  <a:latin typeface="Trebuchet MS"/>
                </a:rPr>
                <a:t>A6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0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1" lang="es-ES" sz="2000" spc="-1" strike="noStrike">
                  <a:solidFill>
                    <a:srgbClr val="ff9933"/>
                  </a:solidFill>
                  <a:latin typeface="Trebuchet MS"/>
                </a:rPr>
                <a:t>3ffe:8050:201:1860:42::1</a:t>
              </a:r>
              <a:r>
                <a:rPr b="1" lang="es-ES" sz="20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45520" y="220968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04920" y="3809880"/>
            <a:ext cx="8381520" cy="3111480"/>
            <a:chOff x="304920" y="3809880"/>
            <a:chExt cx="8381520" cy="3111480"/>
          </a:xfrm>
        </p:grpSpPr>
        <p:sp>
          <p:nvSpPr>
            <p:cNvPr id="621" name=""/>
            <p:cNvSpPr/>
            <p:nvPr/>
          </p:nvSpPr>
          <p:spPr>
            <a:xfrm>
              <a:off x="304920" y="3809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4920" y="3809880"/>
              <a:ext cx="838152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example.com.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3600 IN </a:t>
              </a:r>
              <a:r>
                <a:rPr b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6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64 0:0:0:0:42::1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00cccc"/>
                  </a:solidFill>
                  <a:latin typeface="Trebuchet MS"/>
                  <a:ea typeface="arial"/>
                </a:rPr>
                <a:t>company.example1.net.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3600 IN </a:t>
              </a:r>
              <a:r>
                <a:rPr b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6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64 0:0:0:0:42::1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00cccc"/>
                  </a:solidFill>
                  <a:latin typeface="Trebuchet MS"/>
                  <a:ea typeface="arial"/>
                </a:rPr>
                <a:t>company.example2.net.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SP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example1.net.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company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3600 IN </a:t>
              </a:r>
              <a:r>
                <a:rPr b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6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0 </a:t>
              </a:r>
              <a:r>
                <a:rPr b="1" lang="es-ES" sz="1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3ffe:8050:201:1860::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SP2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example2.net.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company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3600 IN</a:t>
              </a:r>
              <a:r>
                <a:rPr b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A6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0 </a:t>
              </a:r>
              <a:r>
                <a:rPr b="1" lang="es-ES" sz="1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1234:5678:90ab:fffa::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6760" y="335268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6 Encaden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353640" y="3168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El paquete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0360" y="1066680"/>
            <a:ext cx="4329360" cy="3111480"/>
            <a:chOff x="90360" y="1066680"/>
            <a:chExt cx="4329360" cy="3111480"/>
          </a:xfrm>
        </p:grpSpPr>
        <p:sp>
          <p:nvSpPr>
            <p:cNvPr id="141" name=""/>
            <p:cNvSpPr/>
            <p:nvPr/>
          </p:nvSpPr>
          <p:spPr>
            <a:xfrm>
              <a:off x="3119400" y="1712880"/>
              <a:ext cx="13003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ragment Offse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1712880"/>
              <a:ext cx="6811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lags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1066680"/>
              <a:ext cx="1981440" cy="64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otal Length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84120" y="1066680"/>
              <a:ext cx="1154160" cy="64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ype of Service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0160" y="1066680"/>
              <a:ext cx="45396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IH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3811680"/>
              <a:ext cx="109872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Padding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360" y="3811680"/>
              <a:ext cx="323064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ptions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360" y="3409920"/>
              <a:ext cx="4329360" cy="40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1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0360" y="3008160"/>
              <a:ext cx="4329360" cy="40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1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2359080"/>
              <a:ext cx="1981440" cy="649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Header Checksum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84120" y="2359080"/>
              <a:ext cx="1154160" cy="649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Protocol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360" y="2359080"/>
              <a:ext cx="1193760" cy="649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ime to Live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360" y="1712880"/>
              <a:ext cx="23479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Identification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360" y="1066680"/>
              <a:ext cx="739800" cy="646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360" y="17128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360" y="23590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360" y="300816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360" y="340992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360" y="38116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84120" y="2359080"/>
              <a:ext cx="0" cy="6490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0160" y="10666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84120" y="10666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1066680"/>
              <a:ext cx="0" cy="19414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19400" y="17128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1000" y="3811680"/>
              <a:ext cx="0" cy="3664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360" y="1066680"/>
              <a:ext cx="43293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360" y="1066680"/>
              <a:ext cx="0" cy="311148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9720" y="1066680"/>
              <a:ext cx="0" cy="311148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0360" y="4178160"/>
              <a:ext cx="43293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724280" y="1066680"/>
            <a:ext cx="4343400" cy="4572000"/>
            <a:chOff x="4724280" y="1066680"/>
            <a:chExt cx="4343400" cy="4572000"/>
          </a:xfrm>
        </p:grpSpPr>
        <p:sp>
          <p:nvSpPr>
            <p:cNvPr id="171" name=""/>
            <p:cNvSpPr/>
            <p:nvPr/>
          </p:nvSpPr>
          <p:spPr>
            <a:xfrm>
              <a:off x="68644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Next Header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60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Hop Limi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7800" y="1066680"/>
              <a:ext cx="2369880" cy="885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Flow Labe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5880" y="1066680"/>
              <a:ext cx="1231920" cy="885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raffic Class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4280" y="4181400"/>
              <a:ext cx="4343400" cy="145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4280" y="2754360"/>
              <a:ext cx="4343400" cy="142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1952640"/>
              <a:ext cx="21402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Payload Length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1066680"/>
              <a:ext cx="741600" cy="88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4280" y="195264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24280" y="275436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5638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418140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588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9780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660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44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1066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42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676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67040" y="609480"/>
            <a:ext cx="2634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ncabezado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44080" y="609480"/>
            <a:ext cx="2634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ncabezad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57200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02920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541008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86728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506840"/>
            <a:ext cx="34290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anchorCtr="1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mantienen su nombre IPv4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se eliminan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cambian de nombre y posición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 nuevo en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1295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1143000"/>
            <a:ext cx="3581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990720" y="2590920"/>
            <a:ext cx="739116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2438280"/>
            <a:ext cx="48006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7419240" y="31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520" y="6858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6 para Servidores D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019160" y="1644480"/>
            <a:ext cx="7819560" cy="1922760"/>
            <a:chOff x="1019160" y="1644480"/>
            <a:chExt cx="7819560" cy="1922760"/>
          </a:xfrm>
        </p:grpSpPr>
        <p:sp>
          <p:nvSpPr>
            <p:cNvPr id="627" name=""/>
            <p:cNvSpPr/>
            <p:nvPr/>
          </p:nvSpPr>
          <p:spPr>
            <a:xfrm>
              <a:off x="1019160" y="1644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19160" y="1644480"/>
              <a:ext cx="781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example.com.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@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NS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ns0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NS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ns1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ccc"/>
                  </a:solidFill>
                  <a:latin typeface="Trebuchet MS"/>
                  <a:ea typeface="arial"/>
                </a:rPr>
                <a:t>ns0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6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0 </a:t>
              </a:r>
              <a:r>
                <a:rPr b="1" lang="es-ES" sz="24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3ffe:8050:201:1860:42::1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ccc"/>
                  </a:solidFill>
                  <a:latin typeface="Trebuchet MS"/>
                  <a:ea typeface="arial"/>
                </a:rPr>
                <a:t>ns1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192.168.42.1</a:t>
              </a:r>
              <a:r>
                <a:rPr b="1" lang="es-ES" sz="24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57200" y="4235400"/>
            <a:ext cx="8379360" cy="1373760"/>
            <a:chOff x="457200" y="4235400"/>
            <a:chExt cx="8379360" cy="1373760"/>
          </a:xfrm>
        </p:grpSpPr>
        <p:sp>
          <p:nvSpPr>
            <p:cNvPr id="630" name=""/>
            <p:cNvSpPr/>
            <p:nvPr/>
          </p:nvSpPr>
          <p:spPr>
            <a:xfrm>
              <a:off x="457200" y="4235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7200" y="4235400"/>
              <a:ext cx="8379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No usar direcciones mapeadas IPv4 en IPv6 para Servidores de D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</a:t>
              </a:r>
              <a:r>
                <a:rPr b="0" lang="es-ES" sz="2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::ffff:192.168.42.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914400" y="2162160"/>
            <a:ext cx="7467120" cy="824040"/>
            <a:chOff x="914400" y="2162160"/>
            <a:chExt cx="7467120" cy="824040"/>
          </a:xfrm>
        </p:grpSpPr>
        <p:sp>
          <p:nvSpPr>
            <p:cNvPr id="634" name=""/>
            <p:cNvSpPr/>
            <p:nvPr/>
          </p:nvSpPr>
          <p:spPr>
            <a:xfrm>
              <a:off x="914400" y="2162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14400" y="2162160"/>
              <a:ext cx="746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0.6.8.1.1.0.2.0.0.5.0.8.e.f.f.3.</a:t>
              </a:r>
              <a:r>
                <a:rPr b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p6.int.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1.0.0.0.0.0.0.0.0.0.0.0.2.0.4..0</a:t>
              </a:r>
              <a:r>
                <a:rPr b="1" lang="es-ES" sz="16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PTR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i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.example.com.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95200" y="982800"/>
            <a:ext cx="62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gistro Inverso (Nibble Format) </a:t>
            </a:r>
            <a:r>
              <a:rPr b="0" i="1" lang="es-ES" sz="2400" spc="-1" strike="noStrike">
                <a:solidFill>
                  <a:srgbClr val="ffffcc"/>
                </a:solidFill>
                <a:latin typeface="Trebuchet MS"/>
              </a:rPr>
              <a:t>(obsolet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3520" y="1552680"/>
            <a:ext cx="7999920" cy="520560"/>
            <a:chOff x="533520" y="1552680"/>
            <a:chExt cx="7999920" cy="520560"/>
          </a:xfrm>
        </p:grpSpPr>
        <p:sp>
          <p:nvSpPr>
            <p:cNvPr id="638" name=""/>
            <p:cNvSpPr/>
            <p:nvPr/>
          </p:nvSpPr>
          <p:spPr>
            <a:xfrm>
              <a:off x="533520" y="1552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520" y="1552680"/>
              <a:ext cx="799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 con dirección: </a:t>
              </a:r>
              <a:r>
                <a:rPr b="0" lang="es-ES" sz="28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3ffe:8050:201:1860:42::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62800" y="299880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gistro Inverso (Bitstring Forma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914400" y="3762360"/>
            <a:ext cx="7391160" cy="580680"/>
            <a:chOff x="914400" y="3762360"/>
            <a:chExt cx="7391160" cy="580680"/>
          </a:xfrm>
        </p:grpSpPr>
        <p:sp>
          <p:nvSpPr>
            <p:cNvPr id="642" name=""/>
            <p:cNvSpPr/>
            <p:nvPr/>
          </p:nvSpPr>
          <p:spPr>
            <a:xfrm>
              <a:off x="914400" y="3762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4400" y="3762360"/>
              <a:ext cx="7391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\[x3ffe805002011860/64].</a:t>
              </a:r>
              <a:r>
                <a:rPr b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p6.arpa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.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\[x0042000000000001/64]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PTR 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i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.example.com</a:t>
              </a:r>
              <a:r>
                <a:rPr b="0" i="1" lang="es-ES" sz="9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.</a:t>
              </a:r>
              <a:r>
                <a:rPr b="0" lang="es-ES" sz="9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28600" y="792000"/>
          <a:ext cx="8763120" cy="5989680"/>
        </p:xfrm>
        <a:graphic>
          <a:graphicData uri="http://schemas.openxmlformats.org/drawingml/2006/table">
            <a:tbl>
              <a:tblPr/>
              <a:tblGrid>
                <a:gridCol w="642960"/>
                <a:gridCol w="2405160"/>
                <a:gridCol w="3352680"/>
                <a:gridCol w="2362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Organiza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Ubica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Direccione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nformation Sciences Institute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arina Del Rey C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92.228.79.201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478:65::5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nternet Systems Consortium, Inc.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Ottawa; Palo Alto; San Jose CA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New York City; San Francisco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adrid; Hong Kong; Los Angeles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Rome; Auckland; Sao Paulo; 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Beijing; Seoul; Moscow; Taipei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Dubai; Paris; Singapore; Brisbane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Toronto; Monterrey; Lisbon; 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Johannesburg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92.5.5.241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500::103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U.S. Army Research Lab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Aberdeen M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28.63.2.53</a:t>
                      </a:r>
                      <a:br>
                        <a:rPr sz="2000"/>
                      </a:b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500:1::803f:2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WIDE Projec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Toky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202.12.27.33</a:t>
                      </a:r>
                      <a:br>
                        <a:rPr sz="2000"/>
                      </a:b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dc3::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"/>
          <p:cNvSpPr/>
          <p:nvPr/>
        </p:nvSpPr>
        <p:spPr>
          <a:xfrm>
            <a:off x="380880" y="304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rebuchet MS"/>
              </a:rPr>
              <a:t>Root 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533520" y="0"/>
            <a:ext cx="807696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greatplains.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TTL 86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greatplains     IN       SOA nic-ks.greatplains.net. root.greatplains.net. (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002081205 ; serial - YYYYMMDDX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1600      ; refresh - 6 hou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1200       ; retry - 20 minu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000    ; expire - long ti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86400)     ; minimum TTL - 24 hou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Nameserv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.kanren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990720" y="484200"/>
            <a:ext cx="746748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MX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MX        10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Hos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est nam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tmp-ks          IN        A         164.113.238.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tmp-ks          IN        AAAA      2001:468:1FD:1::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tmp-ks          IN        AAAA      2001:468:1FD:4::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e nic machi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nic-ks          IN        AAAA      2001:468:1FD:0:201:3FF:FED8:61C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nic-ks-s        IN        AAAA      2001:468:1FD:1:201:3FF:FED8:61C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fre-ks          IN        AAAA      2001:468:1FD:0:0210:4bff:fec9:370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80880" y="304920"/>
            <a:ext cx="84582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1.0.8.6.4.0.1.0.0.2.ip6.i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TTL 86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@               IN        SOA nic-ks.greatplains.net. root.nic-ks.greatplains.net. (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002050300  ; Serial - YYYYMMDDX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10800            ; Refres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            ; Ret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000            ; Exp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86400 )            ; Minimu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Nameserv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762120" y="228600"/>
            <a:ext cx="77724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We delegate out 2001:468:100::/40 to other nameserv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is is the 2001:468:1fd::/48 delegated to GPN loc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d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is is the 2001:468:1fe::/48 delegated to Summerhil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e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cody.summerhill.org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is is the 2001:468:1ff::/48 delegated to GPN point-to-po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f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228600" y="152280"/>
            <a:ext cx="883908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d.f.1.0.8.6.4.0.1.0.0.2.ip6.i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TTL                86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d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@               IN       SOA nic-ks.greatplains.net. root.nic-ks.greatplains.net. (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002081202  ; Serial - YYYYMMDDX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10800       ; Refres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        ; Ret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000     ; Exp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86400 )     ; Minimu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Nameserv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Hosts on 2001:468:1fd::/64, the GPN ether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0.0.0.0.d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6.c.1.6.8.d.e.f.f.f.3.0.1.0.2.0  IN    PTR nic-ks.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d.0.7.3.9.c.e.f.f.f.b.4.0.1.2.0  IN    PTR fre-ks.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0880" y="223920"/>
            <a:ext cx="84582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x2001046801fd-48.ip6.arp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TTL                86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\[x2001046801fd/48].ip6.arp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@               IN       SOA nic-ks.greatplains.net. root.nic-ks.greatplains.net. (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002081204  ; Serial - YYYYMMDDX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10800       ; Refres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        ; Ret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000     ; Exp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86400 )     ; Minimu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Nameserv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e hosts in 2001:468:1fd::/64 on the GPN ether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\[x2001046801fd0000/64].ip6.arp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\[x020103fffed861c6]             IN    PTR nic-ks.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\[x02104bfffec9370d]             IN    PTR fre-ks.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702480" y="316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Laboratorio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371600" y="917640"/>
            <a:ext cx="1006560" cy="909720"/>
            <a:chOff x="1371600" y="917640"/>
            <a:chExt cx="1006560" cy="909720"/>
          </a:xfrm>
        </p:grpSpPr>
        <p:sp>
          <p:nvSpPr>
            <p:cNvPr id="661" name=""/>
            <p:cNvSpPr/>
            <p:nvPr/>
          </p:nvSpPr>
          <p:spPr>
            <a:xfrm>
              <a:off x="1371600" y="1527120"/>
              <a:ext cx="909720" cy="1666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73400" y="1528920"/>
              <a:ext cx="906480" cy="1634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71600" y="1435320"/>
              <a:ext cx="1006560" cy="9180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71600" y="1435320"/>
              <a:ext cx="1006560" cy="9180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010960" y="1603440"/>
              <a:ext cx="219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81320" y="1435320"/>
              <a:ext cx="96840" cy="25848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81320" y="1435320"/>
              <a:ext cx="96840" cy="25848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6640" y="1675080"/>
              <a:ext cx="803160" cy="12672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76640" y="1675080"/>
              <a:ext cx="803160" cy="12672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78280" y="1675080"/>
              <a:ext cx="101520" cy="15228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78280" y="1675080"/>
              <a:ext cx="101520" cy="15228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76640" y="1801800"/>
              <a:ext cx="701640" cy="255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78080" y="1803600"/>
              <a:ext cx="698400" cy="2196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09840" y="1435320"/>
              <a:ext cx="720720" cy="7128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09840" y="1435320"/>
              <a:ext cx="720720" cy="7128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503360" y="917640"/>
              <a:ext cx="716040" cy="6660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03360" y="917640"/>
              <a:ext cx="716040" cy="6660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05160" y="986040"/>
              <a:ext cx="647640" cy="5094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49560" y="917640"/>
              <a:ext cx="69840" cy="57456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49560" y="917640"/>
              <a:ext cx="69840" cy="57456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562040" y="1051200"/>
              <a:ext cx="535320" cy="39348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82" name="bnr_windows_LTR" descr="Windows Home Page">
              <a:hlinkClick r:id="rId1"/>
            </p:cNvPr>
            <p:cNvPicPr/>
            <p:nvPr/>
          </p:nvPicPr>
          <p:blipFill>
            <a:blip r:embed="rId2"/>
            <a:srcRect l="0" t="0" r="78624" b="0"/>
            <a:stretch/>
          </p:blipFill>
          <p:spPr>
            <a:xfrm>
              <a:off x="1689120" y="1096920"/>
              <a:ext cx="28908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"/>
          <p:cNvGrpSpPr/>
          <p:nvPr/>
        </p:nvGrpSpPr>
        <p:grpSpPr>
          <a:xfrm>
            <a:off x="4038480" y="917640"/>
            <a:ext cx="1006560" cy="909720"/>
            <a:chOff x="4038480" y="917640"/>
            <a:chExt cx="1006560" cy="909720"/>
          </a:xfrm>
        </p:grpSpPr>
        <p:sp>
          <p:nvSpPr>
            <p:cNvPr id="684" name=""/>
            <p:cNvSpPr/>
            <p:nvPr/>
          </p:nvSpPr>
          <p:spPr>
            <a:xfrm>
              <a:off x="4038480" y="1527120"/>
              <a:ext cx="909720" cy="1666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40280" y="1528920"/>
              <a:ext cx="906480" cy="1634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38480" y="1435320"/>
              <a:ext cx="1006560" cy="9180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38480" y="1435320"/>
              <a:ext cx="1006560" cy="9180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677840" y="1603440"/>
              <a:ext cx="219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48200" y="1435320"/>
              <a:ext cx="96840" cy="25848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48200" y="1435320"/>
              <a:ext cx="96840" cy="25848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043520" y="1675080"/>
              <a:ext cx="803160" cy="12672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43520" y="1675080"/>
              <a:ext cx="803160" cy="12672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45160" y="1675080"/>
              <a:ext cx="101520" cy="15228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45160" y="1675080"/>
              <a:ext cx="101520" cy="15228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43520" y="1801800"/>
              <a:ext cx="701640" cy="255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44960" y="1803600"/>
              <a:ext cx="698400" cy="2196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76720" y="1435320"/>
              <a:ext cx="720720" cy="7128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76720" y="1435320"/>
              <a:ext cx="720720" cy="7128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70240" y="917640"/>
              <a:ext cx="716040" cy="6660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70240" y="917640"/>
              <a:ext cx="716040" cy="6660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72040" y="986040"/>
              <a:ext cx="647640" cy="5094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16440" y="917640"/>
              <a:ext cx="69840" cy="57456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16440" y="917640"/>
              <a:ext cx="69840" cy="57456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28920" y="1051200"/>
              <a:ext cx="535320" cy="39348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5" name="bnr_windows_LTR" descr="Windows Home Page">
              <a:hlinkClick r:id="rId3"/>
            </p:cNvPr>
            <p:cNvPicPr/>
            <p:nvPr/>
          </p:nvPicPr>
          <p:blipFill>
            <a:blip r:embed="rId4"/>
            <a:srcRect l="0" t="0" r="78624" b="0"/>
            <a:stretch/>
          </p:blipFill>
          <p:spPr>
            <a:xfrm>
              <a:off x="4356000" y="1096920"/>
              <a:ext cx="28908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7010280" y="917640"/>
            <a:ext cx="1006560" cy="909720"/>
            <a:chOff x="7010280" y="917640"/>
            <a:chExt cx="1006560" cy="909720"/>
          </a:xfrm>
        </p:grpSpPr>
        <p:sp>
          <p:nvSpPr>
            <p:cNvPr id="707" name=""/>
            <p:cNvSpPr/>
            <p:nvPr/>
          </p:nvSpPr>
          <p:spPr>
            <a:xfrm>
              <a:off x="7010280" y="1527120"/>
              <a:ext cx="909720" cy="1666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12080" y="1528920"/>
              <a:ext cx="906480" cy="1634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10280" y="1435320"/>
              <a:ext cx="1006560" cy="9180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10280" y="1435320"/>
              <a:ext cx="1006560" cy="9180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649640" y="1603440"/>
              <a:ext cx="219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20000" y="1435320"/>
              <a:ext cx="96840" cy="25848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920000" y="1435320"/>
              <a:ext cx="96840" cy="25848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15320" y="1675080"/>
              <a:ext cx="803160" cy="12672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15320" y="1675080"/>
              <a:ext cx="803160" cy="12672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16960" y="1675080"/>
              <a:ext cx="101520" cy="15228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16960" y="1675080"/>
              <a:ext cx="101520" cy="15228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15320" y="1801800"/>
              <a:ext cx="701640" cy="255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16760" y="1803600"/>
              <a:ext cx="698400" cy="2196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48520" y="1435320"/>
              <a:ext cx="720720" cy="7128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48520" y="1435320"/>
              <a:ext cx="720720" cy="7128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2040" y="917640"/>
              <a:ext cx="716040" cy="6660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2040" y="917640"/>
              <a:ext cx="716040" cy="6660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986040"/>
              <a:ext cx="647640" cy="5094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88240" y="917640"/>
              <a:ext cx="69840" cy="57456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88240" y="917640"/>
              <a:ext cx="69840" cy="57456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00720" y="1051200"/>
              <a:ext cx="535320" cy="39348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28" name="bnr_windows_LTR" descr="Windows Home Page">
              <a:hlinkClick r:id="rId5"/>
            </p:cNvPr>
            <p:cNvPicPr/>
            <p:nvPr/>
          </p:nvPicPr>
          <p:blipFill>
            <a:blip r:embed="rId6"/>
            <a:srcRect l="0" t="0" r="78624" b="0"/>
            <a:stretch/>
          </p:blipFill>
          <p:spPr>
            <a:xfrm>
              <a:off x="7327800" y="1096920"/>
              <a:ext cx="28908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"/>
          <p:cNvGrpSpPr/>
          <p:nvPr/>
        </p:nvGrpSpPr>
        <p:grpSpPr>
          <a:xfrm>
            <a:off x="2590920" y="3736800"/>
            <a:ext cx="838080" cy="914400"/>
            <a:chOff x="2590920" y="3736800"/>
            <a:chExt cx="838080" cy="914400"/>
          </a:xfrm>
        </p:grpSpPr>
        <p:pic>
          <p:nvPicPr>
            <p:cNvPr id="730" name="" descr=""/>
            <p:cNvPicPr/>
            <p:nvPr/>
          </p:nvPicPr>
          <p:blipFill>
            <a:blip r:embed="rId7"/>
            <a:stretch/>
          </p:blipFill>
          <p:spPr>
            <a:xfrm>
              <a:off x="2590920" y="3736800"/>
              <a:ext cx="8380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linuxorg" descr="Linux Online">
              <a:hlinkClick r:id="rId8"/>
            </p:cNvPr>
            <p:cNvPicPr/>
            <p:nvPr/>
          </p:nvPicPr>
          <p:blipFill>
            <a:blip r:embed="rId9"/>
            <a:srcRect l="5092" t="11806" r="69475" b="11538"/>
            <a:stretch/>
          </p:blipFill>
          <p:spPr>
            <a:xfrm>
              <a:off x="2819520" y="4041720"/>
              <a:ext cx="4093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"/>
          <p:cNvSpPr/>
          <p:nvPr/>
        </p:nvSpPr>
        <p:spPr>
          <a:xfrm flipV="1">
            <a:off x="2971800" y="312696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312732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520" y="183204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76520" y="2746440"/>
            <a:ext cx="28191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0" y="183204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57800" y="2898720"/>
            <a:ext cx="2286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543800" y="183168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267080" y="2441520"/>
          <a:ext cx="1143000" cy="1049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67080" y="2441520"/>
                    <a:ext cx="11430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380880" y="457524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stalar Internet Explorer compatible IPv6 (</a:t>
            </a:r>
            <a:r>
              <a:rPr b="0" i="1" lang="es-ES" sz="2400" spc="-1" strike="noStrike">
                <a:solidFill>
                  <a:srgbClr val="00cccc"/>
                </a:solidFill>
                <a:latin typeface="Trebuchet MS"/>
              </a:rPr>
              <a:t>www.microsoft.com/www.hs247.com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stalar y configurar Bind 9 (</a:t>
            </a:r>
            <a:r>
              <a:rPr b="0" i="1" lang="es-ES" sz="2400" spc="-1" strike="noStrike">
                <a:solidFill>
                  <a:srgbClr val="00cccc"/>
                </a:solidFill>
                <a:latin typeface="Trebuchet MS"/>
              </a:rPr>
              <a:t>www.bind9.net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) en Linu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stalar Apache (</a:t>
            </a:r>
            <a:r>
              <a:rPr b="0" i="1" lang="es-ES" sz="2400" spc="-1" strike="noStrike">
                <a:solidFill>
                  <a:srgbClr val="00cccc"/>
                </a:solidFill>
                <a:latin typeface="Trebuchet MS"/>
              </a:rPr>
              <a:t>www.apache.org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) en Linu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rear un sitio Web, añadirlo al DNS y consultarlo desde Windows X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8800" y="3962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NS/Apa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81720" y="3168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Filosofía de diseño de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85800"/>
            <a:ext cx="8381880" cy="60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rebuchet MS"/>
              </a:rPr>
              <a:t>Encabezados simplificado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rebuchet MS"/>
              </a:rPr>
              <a:t>Reducción del costo de manipulación de los paquetes ordin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rebuchet MS"/>
              </a:rPr>
              <a:t>Mantener baja la sobrecargas de ancho de banda producto del aumento en el tamaño del campo de direcci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liminación del Checksum al nivel de 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ínimo MTU es 1280 bytes (680 en IPv4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Se elimina la fragmentación de la 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rebuchet MS"/>
              </a:rPr>
              <a:t>Flexible y exten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rebuchet MS"/>
              </a:rPr>
              <a:t>Segur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2280" y="170496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redes IPv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enlaces dedic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backbones MP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usando backbones de doble pila (dual-stack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Traslación de Protocol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52280" y="8287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Estrateg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050840" y="1574640"/>
            <a:ext cx="786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Manu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Pv6 over IPv4 Generic Routing Encapsulation (G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unnel Brok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automáticos 6to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SAT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6over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DS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ere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 BG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74240" y="82872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Técnicas de Túne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295280" y="1066680"/>
            <a:ext cx="5715000" cy="685800"/>
          </a:xfrm>
          <a:prstGeom prst="rect">
            <a:avLst/>
          </a:prstGeom>
          <a:solidFill>
            <a:srgbClr val="ffe1c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plic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95280" y="4114800"/>
            <a:ext cx="5715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ivel de Acceso a la r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95280" y="2031840"/>
            <a:ext cx="2046240" cy="71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CP4/UDP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95280" y="3073320"/>
            <a:ext cx="2046240" cy="7113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64040" y="2031840"/>
            <a:ext cx="2046240" cy="7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CP6/UDP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64040" y="3073320"/>
            <a:ext cx="2046240" cy="711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36120" y="316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ual Stack Host/Rou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660600" cy="5968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8077320" y="2514600"/>
            <a:ext cx="660240" cy="59688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143000" y="274320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772400" y="281952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2362320" y="36576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761" name=""/>
          <p:cNvGrpSpPr/>
          <p:nvPr/>
        </p:nvGrpSpPr>
        <p:grpSpPr>
          <a:xfrm>
            <a:off x="1523880" y="2349360"/>
            <a:ext cx="1523880" cy="774360"/>
            <a:chOff x="1523880" y="2349360"/>
            <a:chExt cx="1523880" cy="774360"/>
          </a:xfrm>
        </p:grpSpPr>
        <p:pic>
          <p:nvPicPr>
            <p:cNvPr id="762" name="" descr=""/>
            <p:cNvPicPr/>
            <p:nvPr/>
          </p:nvPicPr>
          <p:blipFill>
            <a:blip r:embed="rId4"/>
            <a:stretch/>
          </p:blipFill>
          <p:spPr>
            <a:xfrm>
              <a:off x="1523880" y="234936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763" name=""/>
            <p:cNvSpPr/>
            <p:nvPr/>
          </p:nvSpPr>
          <p:spPr>
            <a:xfrm>
              <a:off x="1816200" y="251460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3819600" y="3513240"/>
            <a:ext cx="1961640" cy="899640"/>
            <a:chOff x="3819600" y="3513240"/>
            <a:chExt cx="1961640" cy="899640"/>
          </a:xfrm>
        </p:grpSpPr>
        <p:grpSp>
          <p:nvGrpSpPr>
            <p:cNvPr id="765" name=""/>
            <p:cNvGrpSpPr/>
            <p:nvPr/>
          </p:nvGrpSpPr>
          <p:grpSpPr>
            <a:xfrm>
              <a:off x="3819600" y="3516480"/>
              <a:ext cx="1957320" cy="892080"/>
              <a:chOff x="3819600" y="3516480"/>
              <a:chExt cx="1957320" cy="892080"/>
            </a:xfrm>
          </p:grpSpPr>
          <p:sp>
            <p:nvSpPr>
              <p:cNvPr id="766" name=""/>
              <p:cNvSpPr/>
              <p:nvPr/>
            </p:nvSpPr>
            <p:spPr>
              <a:xfrm>
                <a:off x="4487760" y="3516480"/>
                <a:ext cx="85248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017960" y="3613320"/>
                <a:ext cx="65412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819600" y="3835440"/>
                <a:ext cx="441360" cy="3016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952800" y="3967200"/>
                <a:ext cx="663480" cy="32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421160" y="4021200"/>
                <a:ext cx="990720" cy="3873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51520" y="3624120"/>
                <a:ext cx="63504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146560" y="3809880"/>
                <a:ext cx="63036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89680" y="3870360"/>
                <a:ext cx="625320" cy="4777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75280" y="3727440"/>
                <a:ext cx="1269720" cy="476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819600" y="3513240"/>
              <a:ext cx="1961640" cy="899640"/>
              <a:chOff x="3819600" y="3513240"/>
              <a:chExt cx="1961640" cy="899640"/>
            </a:xfrm>
          </p:grpSpPr>
          <p:sp>
            <p:nvSpPr>
              <p:cNvPr id="776" name=""/>
              <p:cNvSpPr/>
              <p:nvPr/>
            </p:nvSpPr>
            <p:spPr>
              <a:xfrm>
                <a:off x="4488840" y="3513240"/>
                <a:ext cx="861120" cy="3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93520" y="3517920"/>
                <a:ext cx="8521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017960" y="3610080"/>
                <a:ext cx="658440" cy="3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022640" y="3614760"/>
                <a:ext cx="648360" cy="36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948120" y="3961440"/>
                <a:ext cx="68148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952800" y="3966120"/>
                <a:ext cx="67320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56920" y="3619440"/>
                <a:ext cx="633960" cy="2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60520" y="3624120"/>
                <a:ext cx="62568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51880" y="3799080"/>
                <a:ext cx="729360" cy="31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56200" y="3804120"/>
                <a:ext cx="72036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081040" y="3875400"/>
                <a:ext cx="642960" cy="47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85000" y="3881160"/>
                <a:ext cx="6343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819600" y="3832200"/>
                <a:ext cx="46620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824280" y="3836880"/>
                <a:ext cx="4568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426200" y="4054680"/>
                <a:ext cx="970920" cy="35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430520" y="4059360"/>
                <a:ext cx="961560" cy="34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2" name=""/>
          <p:cNvSpPr/>
          <p:nvPr/>
        </p:nvSpPr>
        <p:spPr>
          <a:xfrm>
            <a:off x="4191120" y="374796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5"/>
          <a:stretch/>
        </p:blipFill>
        <p:spPr>
          <a:xfrm>
            <a:off x="6256440" y="365760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3276720" y="38098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6720" y="40384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324480" y="2438280"/>
            <a:ext cx="1523880" cy="774360"/>
            <a:chOff x="6324480" y="2438280"/>
            <a:chExt cx="1523880" cy="774360"/>
          </a:xfrm>
        </p:grpSpPr>
        <p:pic>
          <p:nvPicPr>
            <p:cNvPr id="798" name="" descr=""/>
            <p:cNvPicPr/>
            <p:nvPr/>
          </p:nvPicPr>
          <p:blipFill>
            <a:blip r:embed="rId6"/>
            <a:stretch/>
          </p:blipFill>
          <p:spPr>
            <a:xfrm>
              <a:off x="6324480" y="243828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799" name=""/>
            <p:cNvSpPr/>
            <p:nvPr/>
          </p:nvSpPr>
          <p:spPr>
            <a:xfrm>
              <a:off x="6616800" y="260352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6705720" y="30481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90920" y="30481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12952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57400" y="12952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91320" y="12952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162920" y="12952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91120" y="49528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562720" y="49528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819520" y="49528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4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18148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1600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238880" y="1600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88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o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543800" y="320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o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3505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010280" y="3505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711480" y="316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úneles 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5360" y="5754600"/>
            <a:ext cx="89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FC 2893, Transition Mechanisms for IPv6 Hosts and Route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914400" y="5486400"/>
            <a:ext cx="2209320" cy="1142640"/>
            <a:chOff x="914400" y="5486400"/>
            <a:chExt cx="2209320" cy="1142640"/>
          </a:xfrm>
        </p:grpSpPr>
        <p:pic>
          <p:nvPicPr>
            <p:cNvPr id="819" name="" descr=""/>
            <p:cNvPicPr/>
            <p:nvPr/>
          </p:nvPicPr>
          <p:blipFill>
            <a:blip r:embed="rId1"/>
            <a:stretch/>
          </p:blipFill>
          <p:spPr>
            <a:xfrm>
              <a:off x="914400" y="548640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20" name=""/>
            <p:cNvSpPr/>
            <p:nvPr/>
          </p:nvSpPr>
          <p:spPr>
            <a:xfrm>
              <a:off x="1338480" y="573048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048120" y="2971800"/>
            <a:ext cx="3503880" cy="2436120"/>
            <a:chOff x="3048120" y="2971800"/>
            <a:chExt cx="3503880" cy="2436120"/>
          </a:xfrm>
        </p:grpSpPr>
        <p:grpSp>
          <p:nvGrpSpPr>
            <p:cNvPr id="822" name=""/>
            <p:cNvGrpSpPr/>
            <p:nvPr/>
          </p:nvGrpSpPr>
          <p:grpSpPr>
            <a:xfrm>
              <a:off x="3048120" y="2980440"/>
              <a:ext cx="3495600" cy="2414880"/>
              <a:chOff x="3048120" y="2980440"/>
              <a:chExt cx="3495600" cy="2414880"/>
            </a:xfrm>
          </p:grpSpPr>
          <p:sp>
            <p:nvSpPr>
              <p:cNvPr id="823" name=""/>
              <p:cNvSpPr/>
              <p:nvPr/>
            </p:nvSpPr>
            <p:spPr>
              <a:xfrm>
                <a:off x="4241160" y="298044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402360" y="324252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48120" y="384372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85720" y="420048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22360" y="4346640"/>
                <a:ext cx="176904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48080" y="327168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418000" y="377460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16120" y="393840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83160" y="355140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3048120" y="2971800"/>
              <a:ext cx="3503880" cy="2436120"/>
              <a:chOff x="3048120" y="2971800"/>
              <a:chExt cx="3503880" cy="2436120"/>
            </a:xfrm>
          </p:grpSpPr>
          <p:sp>
            <p:nvSpPr>
              <p:cNvPr id="833" name=""/>
              <p:cNvSpPr/>
              <p:nvPr/>
            </p:nvSpPr>
            <p:spPr>
              <a:xfrm>
                <a:off x="4243320" y="2971800"/>
                <a:ext cx="153792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251600" y="298440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402360" y="3233880"/>
                <a:ext cx="117612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410640" y="324648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277440" y="418536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285720" y="419760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57800" y="325908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64280" y="327168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48440" y="374508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257440" y="3759120"/>
                <a:ext cx="128592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301000" y="395208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307840" y="396792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048120" y="383472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56400" y="384732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131360" y="443772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139280" y="4450320"/>
                <a:ext cx="171720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"/>
          <p:cNvSpPr/>
          <p:nvPr/>
        </p:nvSpPr>
        <p:spPr>
          <a:xfrm>
            <a:off x="4495680" y="4006800"/>
            <a:ext cx="14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3124080" y="31240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4"/>
          <a:stretch/>
        </p:blipFill>
        <p:spPr>
          <a:xfrm>
            <a:off x="5181480" y="30481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5"/>
          <a:stretch/>
        </p:blipFill>
        <p:spPr>
          <a:xfrm>
            <a:off x="2057400" y="518148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854" name=""/>
          <p:cNvGrpSpPr/>
          <p:nvPr/>
        </p:nvGrpSpPr>
        <p:grpSpPr>
          <a:xfrm>
            <a:off x="533520" y="3505320"/>
            <a:ext cx="2209320" cy="1142640"/>
            <a:chOff x="533520" y="3505320"/>
            <a:chExt cx="2209320" cy="1142640"/>
          </a:xfrm>
        </p:grpSpPr>
        <p:pic>
          <p:nvPicPr>
            <p:cNvPr id="855" name="" descr=""/>
            <p:cNvPicPr/>
            <p:nvPr/>
          </p:nvPicPr>
          <p:blipFill>
            <a:blip r:embed="rId6"/>
            <a:stretch/>
          </p:blipFill>
          <p:spPr>
            <a:xfrm>
              <a:off x="533520" y="35053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56" name=""/>
            <p:cNvSpPr/>
            <p:nvPr/>
          </p:nvSpPr>
          <p:spPr>
            <a:xfrm>
              <a:off x="957600" y="37494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B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857" name="" descr=""/>
          <p:cNvPicPr/>
          <p:nvPr/>
        </p:nvPicPr>
        <p:blipFill>
          <a:blip r:embed="rId7"/>
          <a:stretch/>
        </p:blipFill>
        <p:spPr>
          <a:xfrm>
            <a:off x="1676520" y="32004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858" name=""/>
          <p:cNvGrpSpPr/>
          <p:nvPr/>
        </p:nvGrpSpPr>
        <p:grpSpPr>
          <a:xfrm>
            <a:off x="6400800" y="5334120"/>
            <a:ext cx="2209320" cy="1142640"/>
            <a:chOff x="6400800" y="5334120"/>
            <a:chExt cx="2209320" cy="1142640"/>
          </a:xfrm>
        </p:grpSpPr>
        <p:pic>
          <p:nvPicPr>
            <p:cNvPr id="859" name="" descr=""/>
            <p:cNvPicPr/>
            <p:nvPr/>
          </p:nvPicPr>
          <p:blipFill>
            <a:blip r:embed="rId8"/>
            <a:stretch/>
          </p:blipFill>
          <p:spPr>
            <a:xfrm>
              <a:off x="64008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60" name=""/>
            <p:cNvSpPr/>
            <p:nvPr/>
          </p:nvSpPr>
          <p:spPr>
            <a:xfrm>
              <a:off x="68248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C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861" name="" descr=""/>
          <p:cNvPicPr/>
          <p:nvPr/>
        </p:nvPicPr>
        <p:blipFill>
          <a:blip r:embed="rId9"/>
          <a:stretch/>
        </p:blipFill>
        <p:spPr>
          <a:xfrm>
            <a:off x="6553080" y="51055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862" name=""/>
          <p:cNvGrpSpPr/>
          <p:nvPr/>
        </p:nvGrpSpPr>
        <p:grpSpPr>
          <a:xfrm>
            <a:off x="6705720" y="3505320"/>
            <a:ext cx="2209320" cy="1142640"/>
            <a:chOff x="6705720" y="3505320"/>
            <a:chExt cx="2209320" cy="1142640"/>
          </a:xfrm>
        </p:grpSpPr>
        <p:pic>
          <p:nvPicPr>
            <p:cNvPr id="863" name="" descr=""/>
            <p:cNvPicPr/>
            <p:nvPr/>
          </p:nvPicPr>
          <p:blipFill>
            <a:blip r:embed="rId10"/>
            <a:stretch/>
          </p:blipFill>
          <p:spPr>
            <a:xfrm>
              <a:off x="6705720" y="35053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64" name=""/>
            <p:cNvSpPr/>
            <p:nvPr/>
          </p:nvSpPr>
          <p:spPr>
            <a:xfrm>
              <a:off x="7129800" y="37494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D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865" name="" descr=""/>
          <p:cNvPicPr/>
          <p:nvPr/>
        </p:nvPicPr>
        <p:blipFill>
          <a:blip r:embed="rId11"/>
          <a:stretch/>
        </p:blipFill>
        <p:spPr>
          <a:xfrm>
            <a:off x="6858000" y="3276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866" name=""/>
          <p:cNvGrpSpPr/>
          <p:nvPr/>
        </p:nvGrpSpPr>
        <p:grpSpPr>
          <a:xfrm>
            <a:off x="6488280" y="1380960"/>
            <a:ext cx="2188800" cy="1123920"/>
            <a:chOff x="6488280" y="1380960"/>
            <a:chExt cx="2188800" cy="1123920"/>
          </a:xfrm>
        </p:grpSpPr>
        <p:grpSp>
          <p:nvGrpSpPr>
            <p:cNvPr id="867" name=""/>
            <p:cNvGrpSpPr/>
            <p:nvPr/>
          </p:nvGrpSpPr>
          <p:grpSpPr>
            <a:xfrm>
              <a:off x="6488280" y="1384200"/>
              <a:ext cx="2182680" cy="1117800"/>
              <a:chOff x="6488280" y="1384200"/>
              <a:chExt cx="2182680" cy="1117800"/>
            </a:xfrm>
          </p:grpSpPr>
          <p:sp>
            <p:nvSpPr>
              <p:cNvPr id="868" name=""/>
              <p:cNvSpPr/>
              <p:nvPr/>
            </p:nvSpPr>
            <p:spPr>
              <a:xfrm>
                <a:off x="7232760" y="1384200"/>
                <a:ext cx="952560" cy="462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10400" y="1506600"/>
                <a:ext cx="72864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488280" y="1784520"/>
                <a:ext cx="490320" cy="3762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635880" y="1949400"/>
                <a:ext cx="739800" cy="407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159680" y="2017800"/>
                <a:ext cx="1104840" cy="4842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1320" y="1519200"/>
                <a:ext cx="709560" cy="3636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967880" y="1752480"/>
                <a:ext cx="703080" cy="3636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04160" y="1828800"/>
                <a:ext cx="698760" cy="59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83560" y="1649520"/>
                <a:ext cx="1417680" cy="59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6488280" y="1380960"/>
              <a:ext cx="2188800" cy="1123920"/>
              <a:chOff x="6488280" y="1380960"/>
              <a:chExt cx="2188800" cy="1123920"/>
            </a:xfrm>
          </p:grpSpPr>
          <p:sp>
            <p:nvSpPr>
              <p:cNvPr id="878" name=""/>
              <p:cNvSpPr/>
              <p:nvPr/>
            </p:nvSpPr>
            <p:spPr>
              <a:xfrm>
                <a:off x="7233480" y="1380960"/>
                <a:ext cx="961200" cy="46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237800" y="1386000"/>
                <a:ext cx="952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10400" y="1501920"/>
                <a:ext cx="732960" cy="46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5080" y="1506600"/>
                <a:ext cx="723960" cy="4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631200" y="1941840"/>
                <a:ext cx="760680" cy="42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35880" y="1947600"/>
                <a:ext cx="749880" cy="41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866360" y="1514520"/>
                <a:ext cx="709200" cy="36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873560" y="1519200"/>
                <a:ext cx="696960" cy="35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861680" y="1739520"/>
                <a:ext cx="815400" cy="39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866360" y="1744560"/>
                <a:ext cx="806040" cy="38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893360" y="1834560"/>
                <a:ext cx="718560" cy="59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99480" y="1837440"/>
                <a:ext cx="709200" cy="59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488280" y="1780920"/>
                <a:ext cx="517320" cy="38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492960" y="1785960"/>
                <a:ext cx="5079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164720" y="2057400"/>
                <a:ext cx="1084320" cy="44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171200" y="2062440"/>
                <a:ext cx="10742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6902640" y="161604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895" name="" descr=""/>
          <p:cNvPicPr/>
          <p:nvPr/>
        </p:nvPicPr>
        <p:blipFill>
          <a:blip r:embed="rId12"/>
          <a:stretch/>
        </p:blipFill>
        <p:spPr>
          <a:xfrm>
            <a:off x="6629400" y="11430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896" name=""/>
          <p:cNvGrpSpPr/>
          <p:nvPr/>
        </p:nvGrpSpPr>
        <p:grpSpPr>
          <a:xfrm>
            <a:off x="4797360" y="1295280"/>
            <a:ext cx="1216080" cy="606600"/>
            <a:chOff x="4797360" y="1295280"/>
            <a:chExt cx="1216080" cy="606600"/>
          </a:xfrm>
        </p:grpSpPr>
        <p:sp>
          <p:nvSpPr>
            <p:cNvPr id="897" name=""/>
            <p:cNvSpPr/>
            <p:nvPr/>
          </p:nvSpPr>
          <p:spPr>
            <a:xfrm>
              <a:off x="5212080" y="129528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20840" y="136152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797360" y="151236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879440" y="160200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171400" y="163908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62360" y="136836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21760" y="149508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86120" y="153648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17320" y="143928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 flipH="1" flipV="1">
            <a:off x="5409720" y="1828440"/>
            <a:ext cx="228600" cy="1219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15000" y="137160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800600" y="1295280"/>
            <a:ext cx="1218960" cy="609120"/>
            <a:chOff x="4800600" y="1295280"/>
            <a:chExt cx="1218960" cy="609120"/>
          </a:xfrm>
        </p:grpSpPr>
        <p:sp>
          <p:nvSpPr>
            <p:cNvPr id="909" name=""/>
            <p:cNvSpPr/>
            <p:nvPr/>
          </p:nvSpPr>
          <p:spPr>
            <a:xfrm>
              <a:off x="5215680" y="1295280"/>
              <a:ext cx="5349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17840" y="129780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24080" y="136080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926600" y="136332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80160" y="159984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82680" y="160272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68480" y="1367640"/>
              <a:ext cx="394560" cy="19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72440" y="137016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65600" y="1489680"/>
              <a:ext cx="453960" cy="21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68480" y="1492560"/>
              <a:ext cx="448200" cy="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83240" y="1541520"/>
              <a:ext cx="39960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86840" y="1542960"/>
              <a:ext cx="39420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00600" y="1512360"/>
              <a:ext cx="287640" cy="20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03120" y="1514880"/>
              <a:ext cx="282600" cy="2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77520" y="166212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80760" y="166500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 flipH="1" flipV="1">
            <a:off x="5943600" y="3200040"/>
            <a:ext cx="9144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 flipV="1">
            <a:off x="5866920" y="4952520"/>
            <a:ext cx="68580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3"/>
          <a:stretch/>
        </p:blipFill>
        <p:spPr>
          <a:xfrm>
            <a:off x="5418000" y="464832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 flipV="1">
            <a:off x="2819520" y="5105160"/>
            <a:ext cx="6094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90920" y="3352680"/>
            <a:ext cx="5331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5760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4267080" y="49528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5790960" y="3505320"/>
            <a:ext cx="1522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238880" y="66816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715000" y="25146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666880" y="2362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541008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2057760" y="1827720"/>
            <a:ext cx="182808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038480" y="3429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5410080" y="1600200"/>
            <a:ext cx="1295640" cy="3047400"/>
            <a:chOff x="5410080" y="1600200"/>
            <a:chExt cx="1295640" cy="3047400"/>
          </a:xfrm>
        </p:grpSpPr>
        <p:sp>
          <p:nvSpPr>
            <p:cNvPr id="941" name=""/>
            <p:cNvSpPr/>
            <p:nvPr/>
          </p:nvSpPr>
          <p:spPr>
            <a:xfrm flipH="1">
              <a:off x="5410080" y="160020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43600" y="160020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5699160" y="83808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5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46600" y="358128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95280" y="480060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3.0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832200" y="271152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1.0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030920" y="3389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60960" y="3595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048120" y="408312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92.168.2.0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57600" y="4495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876920" y="2971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152280" y="5345280"/>
            <a:ext cx="2209680" cy="1142640"/>
            <a:chOff x="152280" y="5345280"/>
            <a:chExt cx="2209680" cy="1142640"/>
          </a:xfrm>
        </p:grpSpPr>
        <p:pic>
          <p:nvPicPr>
            <p:cNvPr id="954" name="" descr=""/>
            <p:cNvPicPr/>
            <p:nvPr/>
          </p:nvPicPr>
          <p:blipFill>
            <a:blip r:embed="rId1"/>
            <a:stretch/>
          </p:blipFill>
          <p:spPr>
            <a:xfrm>
              <a:off x="152280" y="5345280"/>
              <a:ext cx="220968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955" name=""/>
            <p:cNvSpPr/>
            <p:nvPr/>
          </p:nvSpPr>
          <p:spPr>
            <a:xfrm>
              <a:off x="576360" y="5589360"/>
              <a:ext cx="157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209680" y="2830680"/>
            <a:ext cx="3503880" cy="2436120"/>
            <a:chOff x="2209680" y="2830680"/>
            <a:chExt cx="3503880" cy="2436120"/>
          </a:xfrm>
        </p:grpSpPr>
        <p:grpSp>
          <p:nvGrpSpPr>
            <p:cNvPr id="957" name=""/>
            <p:cNvGrpSpPr/>
            <p:nvPr/>
          </p:nvGrpSpPr>
          <p:grpSpPr>
            <a:xfrm>
              <a:off x="2209680" y="2839320"/>
              <a:ext cx="3495600" cy="2414880"/>
              <a:chOff x="2209680" y="2839320"/>
              <a:chExt cx="3495600" cy="2414880"/>
            </a:xfrm>
          </p:grpSpPr>
          <p:sp>
            <p:nvSpPr>
              <p:cNvPr id="958" name=""/>
              <p:cNvSpPr/>
              <p:nvPr/>
            </p:nvSpPr>
            <p:spPr>
              <a:xfrm>
                <a:off x="3403080" y="283932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563920" y="310140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209680" y="370260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447280" y="405936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83920" y="420552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410000" y="313056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579560" y="363348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478040" y="379728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844720" y="341028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2209680" y="2830680"/>
              <a:ext cx="3503880" cy="2436120"/>
              <a:chOff x="2209680" y="2830680"/>
              <a:chExt cx="3503880" cy="2436120"/>
            </a:xfrm>
          </p:grpSpPr>
          <p:sp>
            <p:nvSpPr>
              <p:cNvPr id="968" name=""/>
              <p:cNvSpPr/>
              <p:nvPr/>
            </p:nvSpPr>
            <p:spPr>
              <a:xfrm>
                <a:off x="3405240" y="283068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413520" y="284328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563920" y="309276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572200" y="310536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439000" y="404424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447280" y="405648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19360" y="311796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26200" y="313056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10000" y="360396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18280" y="361800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62920" y="381096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469760" y="382680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209680" y="369360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217960" y="370620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92920" y="429660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00840" y="430920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4" name=""/>
          <p:cNvSpPr/>
          <p:nvPr/>
        </p:nvSpPr>
        <p:spPr>
          <a:xfrm>
            <a:off x="3809880" y="4354560"/>
            <a:ext cx="14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2590920" y="465948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3"/>
          <a:stretch/>
        </p:blipFill>
        <p:spPr>
          <a:xfrm>
            <a:off x="2362320" y="298296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4"/>
          <a:stretch/>
        </p:blipFill>
        <p:spPr>
          <a:xfrm>
            <a:off x="4419720" y="290664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5"/>
          <a:stretch/>
        </p:blipFill>
        <p:spPr>
          <a:xfrm>
            <a:off x="1295280" y="504036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989" name=""/>
          <p:cNvGrpSpPr/>
          <p:nvPr/>
        </p:nvGrpSpPr>
        <p:grpSpPr>
          <a:xfrm>
            <a:off x="5726160" y="1239840"/>
            <a:ext cx="2188800" cy="1123200"/>
            <a:chOff x="5726160" y="1239840"/>
            <a:chExt cx="2188800" cy="1123200"/>
          </a:xfrm>
        </p:grpSpPr>
        <p:grpSp>
          <p:nvGrpSpPr>
            <p:cNvPr id="990" name=""/>
            <p:cNvGrpSpPr/>
            <p:nvPr/>
          </p:nvGrpSpPr>
          <p:grpSpPr>
            <a:xfrm>
              <a:off x="5726160" y="1242720"/>
              <a:ext cx="2182680" cy="1117080"/>
              <a:chOff x="5726160" y="1242720"/>
              <a:chExt cx="2182680" cy="1117080"/>
            </a:xfrm>
          </p:grpSpPr>
          <p:sp>
            <p:nvSpPr>
              <p:cNvPr id="991" name=""/>
              <p:cNvSpPr/>
              <p:nvPr/>
            </p:nvSpPr>
            <p:spPr>
              <a:xfrm>
                <a:off x="6470640" y="1242720"/>
                <a:ext cx="95256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48280" y="1364760"/>
                <a:ext cx="728640" cy="461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726160" y="1642680"/>
                <a:ext cx="490320" cy="375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73760" y="1807560"/>
                <a:ext cx="739800" cy="407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397560" y="1875960"/>
                <a:ext cx="1104840" cy="483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099200" y="1377360"/>
                <a:ext cx="70956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205760" y="1610640"/>
                <a:ext cx="70308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142040" y="1686960"/>
                <a:ext cx="69876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121440" y="1507680"/>
                <a:ext cx="141768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5726160" y="1239840"/>
              <a:ext cx="2188800" cy="1123200"/>
              <a:chOff x="5726160" y="1239840"/>
              <a:chExt cx="2188800" cy="1123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6471360" y="123984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475680" y="124452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948280" y="136044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952960" y="136512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9080" y="180072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73760" y="180648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04240" y="137304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111440" y="137772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99560" y="159804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104240" y="160308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131240" y="169344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137360" y="169632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726160" y="163944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730840" y="164448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402600" y="191628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409080" y="192132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6140520" y="147456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18" name="" descr=""/>
          <p:cNvPicPr/>
          <p:nvPr/>
        </p:nvPicPr>
        <p:blipFill>
          <a:blip r:embed="rId6"/>
          <a:stretch/>
        </p:blipFill>
        <p:spPr>
          <a:xfrm>
            <a:off x="5867280" y="100188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019" name=""/>
          <p:cNvGrpSpPr/>
          <p:nvPr/>
        </p:nvGrpSpPr>
        <p:grpSpPr>
          <a:xfrm>
            <a:off x="4035600" y="1154160"/>
            <a:ext cx="1215360" cy="605880"/>
            <a:chOff x="4035600" y="1154160"/>
            <a:chExt cx="1215360" cy="605880"/>
          </a:xfrm>
        </p:grpSpPr>
        <p:sp>
          <p:nvSpPr>
            <p:cNvPr id="1020" name=""/>
            <p:cNvSpPr/>
            <p:nvPr/>
          </p:nvSpPr>
          <p:spPr>
            <a:xfrm>
              <a:off x="4449960" y="1154160"/>
              <a:ext cx="53028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59080" y="122040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35600" y="1371240"/>
              <a:ext cx="272880" cy="2037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17680" y="1460520"/>
              <a:ext cx="411840" cy="221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09280" y="1497600"/>
              <a:ext cx="615240" cy="2624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00240" y="1227240"/>
              <a:ext cx="394920" cy="196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59640" y="1353600"/>
              <a:ext cx="391320" cy="196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824000" y="139500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55560" y="1297800"/>
              <a:ext cx="78948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 flipH="1" flipV="1">
            <a:off x="4647960" y="1687680"/>
            <a:ext cx="228600" cy="1218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52880" y="123048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4038480" y="1154160"/>
            <a:ext cx="1218960" cy="609120"/>
            <a:chOff x="4038480" y="1154160"/>
            <a:chExt cx="1218960" cy="609120"/>
          </a:xfrm>
        </p:grpSpPr>
        <p:sp>
          <p:nvSpPr>
            <p:cNvPr id="1032" name=""/>
            <p:cNvSpPr/>
            <p:nvPr/>
          </p:nvSpPr>
          <p:spPr>
            <a:xfrm>
              <a:off x="4453560" y="1154160"/>
              <a:ext cx="5349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455720" y="115668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61960" y="121968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64480" y="122220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18040" y="145836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20560" y="146124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06360" y="1226520"/>
              <a:ext cx="39456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810320" y="122904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803480" y="1348560"/>
              <a:ext cx="45396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06360" y="1351440"/>
              <a:ext cx="44820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21120" y="1400040"/>
              <a:ext cx="399600" cy="32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824720" y="1401840"/>
              <a:ext cx="3942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38480" y="1370880"/>
              <a:ext cx="287640" cy="20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41000" y="1373760"/>
              <a:ext cx="282600" cy="2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15400" y="152100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418640" y="152388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 flipV="1">
            <a:off x="2057400" y="4964040"/>
            <a:ext cx="6094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95480" y="34401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276720" y="3211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-76320" y="1611360"/>
            <a:ext cx="3733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Pv6 Addr: 2001:yyyy:0100:0301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2.2.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Dest. 192.168.3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1295640" y="1686960"/>
            <a:ext cx="1828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76720" y="328788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4648320" y="1459080"/>
            <a:ext cx="1294920" cy="3047400"/>
            <a:chOff x="4648320" y="1459080"/>
            <a:chExt cx="1294920" cy="3047400"/>
          </a:xfrm>
        </p:grpSpPr>
        <p:sp>
          <p:nvSpPr>
            <p:cNvPr id="1055" name=""/>
            <p:cNvSpPr/>
            <p:nvPr/>
          </p:nvSpPr>
          <p:spPr>
            <a:xfrm flipH="1">
              <a:off x="4648320" y="1459080"/>
              <a:ext cx="106560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81480" y="145908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3041640" y="333216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2001:yyyy:0300:0201::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Enlace IPv6 Nativ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362320" y="5421240"/>
            <a:ext cx="37335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Pv6 Addr: 2001:yyyy:0100:0301::2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3.1.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Dest. 192.168.2.2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363600"/>
            <a:ext cx="6248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5.1./24, Tunnel Dest.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486400" y="3048120"/>
            <a:ext cx="3733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Dest. 192.168.5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"/>
          <p:cNvGrpSpPr/>
          <p:nvPr/>
        </p:nvGrpSpPr>
        <p:grpSpPr>
          <a:xfrm>
            <a:off x="228600" y="5334120"/>
            <a:ext cx="2209320" cy="1142640"/>
            <a:chOff x="228600" y="5334120"/>
            <a:chExt cx="2209320" cy="1142640"/>
          </a:xfrm>
        </p:grpSpPr>
        <p:pic>
          <p:nvPicPr>
            <p:cNvPr id="1063" name="" descr=""/>
            <p:cNvPicPr/>
            <p:nvPr/>
          </p:nvPicPr>
          <p:blipFill>
            <a:blip r:embed="rId1"/>
            <a:stretch/>
          </p:blipFill>
          <p:spPr>
            <a:xfrm>
              <a:off x="2286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064" name=""/>
            <p:cNvSpPr/>
            <p:nvPr/>
          </p:nvSpPr>
          <p:spPr>
            <a:xfrm>
              <a:off x="6526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2286000" y="2819520"/>
            <a:ext cx="3503880" cy="2436120"/>
            <a:chOff x="2286000" y="2819520"/>
            <a:chExt cx="3503880" cy="2436120"/>
          </a:xfrm>
        </p:grpSpPr>
        <p:grpSp>
          <p:nvGrpSpPr>
            <p:cNvPr id="1066" name=""/>
            <p:cNvGrpSpPr/>
            <p:nvPr/>
          </p:nvGrpSpPr>
          <p:grpSpPr>
            <a:xfrm>
              <a:off x="2286000" y="2828160"/>
              <a:ext cx="3495600" cy="2414880"/>
              <a:chOff x="2286000" y="2828160"/>
              <a:chExt cx="3495600" cy="2414880"/>
            </a:xfrm>
          </p:grpSpPr>
          <p:sp>
            <p:nvSpPr>
              <p:cNvPr id="1067" name=""/>
              <p:cNvSpPr/>
              <p:nvPr/>
            </p:nvSpPr>
            <p:spPr>
              <a:xfrm>
                <a:off x="3479400" y="282816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640240" y="309024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286000" y="369144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523600" y="404820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60240" y="419436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486320" y="311940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655880" y="362232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554360" y="378612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921040" y="339912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2286000" y="2819520"/>
              <a:ext cx="3503880" cy="2436120"/>
              <a:chOff x="2286000" y="2819520"/>
              <a:chExt cx="3503880" cy="2436120"/>
            </a:xfrm>
          </p:grpSpPr>
          <p:sp>
            <p:nvSpPr>
              <p:cNvPr id="1077" name=""/>
              <p:cNvSpPr/>
              <p:nvPr/>
            </p:nvSpPr>
            <p:spPr>
              <a:xfrm>
                <a:off x="3481560" y="281952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489840" y="283212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40240" y="308160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48520" y="309420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5320" y="403308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23600" y="404532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495680" y="310680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502520" y="311940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486320" y="359280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494600" y="360684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539240" y="379980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546080" y="381564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86000" y="368244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294280" y="369504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69240" y="428544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77160" y="429804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3" name=""/>
          <p:cNvSpPr/>
          <p:nvPr/>
        </p:nvSpPr>
        <p:spPr>
          <a:xfrm>
            <a:off x="3886200" y="4343400"/>
            <a:ext cx="14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098" name=""/>
          <p:cNvGrpSpPr/>
          <p:nvPr/>
        </p:nvGrpSpPr>
        <p:grpSpPr>
          <a:xfrm>
            <a:off x="5802480" y="1228680"/>
            <a:ext cx="2188800" cy="1123200"/>
            <a:chOff x="5802480" y="1228680"/>
            <a:chExt cx="2188800" cy="1123200"/>
          </a:xfrm>
        </p:grpSpPr>
        <p:grpSp>
          <p:nvGrpSpPr>
            <p:cNvPr id="1099" name=""/>
            <p:cNvGrpSpPr/>
            <p:nvPr/>
          </p:nvGrpSpPr>
          <p:grpSpPr>
            <a:xfrm>
              <a:off x="5802480" y="1231560"/>
              <a:ext cx="2182680" cy="1117080"/>
              <a:chOff x="5802480" y="1231560"/>
              <a:chExt cx="2182680" cy="1117080"/>
            </a:xfrm>
          </p:grpSpPr>
          <p:sp>
            <p:nvSpPr>
              <p:cNvPr id="1100" name=""/>
              <p:cNvSpPr/>
              <p:nvPr/>
            </p:nvSpPr>
            <p:spPr>
              <a:xfrm>
                <a:off x="6546960" y="1231560"/>
                <a:ext cx="95256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024600" y="1353600"/>
                <a:ext cx="728640" cy="461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02480" y="1631520"/>
                <a:ext cx="490320" cy="375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950080" y="1796400"/>
                <a:ext cx="739800" cy="407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473880" y="1864800"/>
                <a:ext cx="1104840" cy="483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75520" y="1366200"/>
                <a:ext cx="70956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82080" y="1599480"/>
                <a:ext cx="70308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218360" y="1675800"/>
                <a:ext cx="69876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197760" y="1496520"/>
                <a:ext cx="141768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5802480" y="1228680"/>
              <a:ext cx="2188800" cy="1123200"/>
              <a:chOff x="5802480" y="1228680"/>
              <a:chExt cx="2188800" cy="1123200"/>
            </a:xfrm>
          </p:grpSpPr>
          <p:sp>
            <p:nvSpPr>
              <p:cNvPr id="1110" name=""/>
              <p:cNvSpPr/>
              <p:nvPr/>
            </p:nvSpPr>
            <p:spPr>
              <a:xfrm>
                <a:off x="6547680" y="122868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552000" y="123336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024600" y="134928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029280" y="135396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45400" y="178956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950080" y="179532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180560" y="136188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187760" y="136656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175880" y="158688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180560" y="159192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07560" y="168228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13680" y="168516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02480" y="162828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07160" y="163332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478920" y="190512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485400" y="191016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6216840" y="146340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127" name="" descr=""/>
          <p:cNvPicPr/>
          <p:nvPr/>
        </p:nvPicPr>
        <p:blipFill>
          <a:blip r:embed="rId6"/>
          <a:stretch/>
        </p:blipFill>
        <p:spPr>
          <a:xfrm>
            <a:off x="5943600" y="990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128" name=""/>
          <p:cNvGrpSpPr/>
          <p:nvPr/>
        </p:nvGrpSpPr>
        <p:grpSpPr>
          <a:xfrm>
            <a:off x="4111560" y="1143000"/>
            <a:ext cx="1216080" cy="606600"/>
            <a:chOff x="4111560" y="1143000"/>
            <a:chExt cx="1216080" cy="606600"/>
          </a:xfrm>
        </p:grpSpPr>
        <p:sp>
          <p:nvSpPr>
            <p:cNvPr id="1129" name=""/>
            <p:cNvSpPr/>
            <p:nvPr/>
          </p:nvSpPr>
          <p:spPr>
            <a:xfrm>
              <a:off x="4526280" y="114300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5040" y="120924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11560" y="136008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93640" y="144972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485600" y="148680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76560" y="121608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935960" y="134280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900320" y="138420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331520" y="128700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 flipH="1" flipV="1">
            <a:off x="4723920" y="1676520"/>
            <a:ext cx="228600" cy="1218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029200" y="12193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4114800" y="1143000"/>
            <a:ext cx="1218960" cy="609120"/>
            <a:chOff x="4114800" y="1143000"/>
            <a:chExt cx="1218960" cy="609120"/>
          </a:xfrm>
        </p:grpSpPr>
        <p:sp>
          <p:nvSpPr>
            <p:cNvPr id="1141" name=""/>
            <p:cNvSpPr/>
            <p:nvPr/>
          </p:nvSpPr>
          <p:spPr>
            <a:xfrm>
              <a:off x="4529880" y="1143000"/>
              <a:ext cx="5349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32040" y="114552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38280" y="120852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240800" y="121104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94360" y="144720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196880" y="145008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882680" y="1215360"/>
              <a:ext cx="39456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86640" y="121788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79800" y="1337400"/>
              <a:ext cx="45396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882680" y="1340280"/>
              <a:ext cx="44820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97440" y="1388880"/>
              <a:ext cx="399600" cy="32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01040" y="1390680"/>
              <a:ext cx="3942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14800" y="1359720"/>
              <a:ext cx="287640" cy="20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117320" y="1362600"/>
              <a:ext cx="282600" cy="2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491720" y="150984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494960" y="151272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 flipV="1">
            <a:off x="2133720" y="4952880"/>
            <a:ext cx="6094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97180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3526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371960" y="1675800"/>
            <a:ext cx="1828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32767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724280" y="1447920"/>
            <a:ext cx="1295640" cy="3047400"/>
            <a:chOff x="4724280" y="1447920"/>
            <a:chExt cx="1295640" cy="3047400"/>
          </a:xfrm>
        </p:grpSpPr>
        <p:sp>
          <p:nvSpPr>
            <p:cNvPr id="1163" name=""/>
            <p:cNvSpPr/>
            <p:nvPr/>
          </p:nvSpPr>
          <p:spPr>
            <a:xfrm flipH="1">
              <a:off x="4724280" y="144792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57800" y="14479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438280" y="5410080"/>
            <a:ext cx="3733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Pv6 Addr: 2001:yyyy:0100:0301::2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3.1.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Dest. 192.168.2.2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85800" y="200160"/>
            <a:ext cx="6248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5.1./24, Tunnel Dest.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410080" y="3733200"/>
            <a:ext cx="3429000" cy="1600200"/>
          </a:xfrm>
          <a:prstGeom prst="wedgeRectCallout">
            <a:avLst>
              <a:gd name="adj1" fmla="val -43800"/>
              <a:gd name="adj2" fmla="val 68152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unicast-rout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fastethernet1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1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300:0201::1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ip cisco enab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-720" y="914400"/>
            <a:ext cx="3429000" cy="1752480"/>
          </a:xfrm>
          <a:prstGeom prst="wedgeRectCallout">
            <a:avLst>
              <a:gd name="adj1" fmla="val -27962"/>
              <a:gd name="adj2" fmla="val 60685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unicast-rout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fastethernet1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1.2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300:0201::2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ip cisco enab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"/>
          <p:cNvGrpSpPr/>
          <p:nvPr/>
        </p:nvGrpSpPr>
        <p:grpSpPr>
          <a:xfrm>
            <a:off x="228600" y="5334120"/>
            <a:ext cx="2209320" cy="1142640"/>
            <a:chOff x="228600" y="5334120"/>
            <a:chExt cx="2209320" cy="1142640"/>
          </a:xfrm>
        </p:grpSpPr>
        <p:pic>
          <p:nvPicPr>
            <p:cNvPr id="1171" name="" descr=""/>
            <p:cNvPicPr/>
            <p:nvPr/>
          </p:nvPicPr>
          <p:blipFill>
            <a:blip r:embed="rId1"/>
            <a:stretch/>
          </p:blipFill>
          <p:spPr>
            <a:xfrm>
              <a:off x="2286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172" name=""/>
            <p:cNvSpPr/>
            <p:nvPr/>
          </p:nvSpPr>
          <p:spPr>
            <a:xfrm>
              <a:off x="6526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2286000" y="2819520"/>
            <a:ext cx="3503880" cy="2436120"/>
            <a:chOff x="2286000" y="2819520"/>
            <a:chExt cx="3503880" cy="2436120"/>
          </a:xfrm>
        </p:grpSpPr>
        <p:grpSp>
          <p:nvGrpSpPr>
            <p:cNvPr id="1174" name=""/>
            <p:cNvGrpSpPr/>
            <p:nvPr/>
          </p:nvGrpSpPr>
          <p:grpSpPr>
            <a:xfrm>
              <a:off x="2286000" y="2828160"/>
              <a:ext cx="3495600" cy="2414880"/>
              <a:chOff x="2286000" y="2828160"/>
              <a:chExt cx="3495600" cy="2414880"/>
            </a:xfrm>
          </p:grpSpPr>
          <p:sp>
            <p:nvSpPr>
              <p:cNvPr id="1175" name=""/>
              <p:cNvSpPr/>
              <p:nvPr/>
            </p:nvSpPr>
            <p:spPr>
              <a:xfrm>
                <a:off x="3479400" y="282816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640240" y="309024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286000" y="369144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523600" y="404820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360240" y="419436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486320" y="311940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655880" y="362232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554360" y="378612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921040" y="339912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2286000" y="2819520"/>
              <a:ext cx="3503880" cy="2436120"/>
              <a:chOff x="2286000" y="2819520"/>
              <a:chExt cx="3503880" cy="2436120"/>
            </a:xfrm>
          </p:grpSpPr>
          <p:sp>
            <p:nvSpPr>
              <p:cNvPr id="1185" name=""/>
              <p:cNvSpPr/>
              <p:nvPr/>
            </p:nvSpPr>
            <p:spPr>
              <a:xfrm>
                <a:off x="3481560" y="281952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489840" y="283212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40240" y="308160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648520" y="309420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515320" y="403308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523600" y="404532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95680" y="310680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502520" y="311940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86320" y="359280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494600" y="360684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539240" y="379980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546080" y="381564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286000" y="368244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294280" y="369504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369240" y="428544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377160" y="429804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1" name=""/>
          <p:cNvSpPr/>
          <p:nvPr/>
        </p:nvSpPr>
        <p:spPr>
          <a:xfrm>
            <a:off x="3886200" y="4343400"/>
            <a:ext cx="14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206" name=""/>
          <p:cNvGrpSpPr/>
          <p:nvPr/>
        </p:nvGrpSpPr>
        <p:grpSpPr>
          <a:xfrm>
            <a:off x="5802480" y="1228680"/>
            <a:ext cx="2188800" cy="1123200"/>
            <a:chOff x="5802480" y="1228680"/>
            <a:chExt cx="2188800" cy="1123200"/>
          </a:xfrm>
        </p:grpSpPr>
        <p:grpSp>
          <p:nvGrpSpPr>
            <p:cNvPr id="1207" name=""/>
            <p:cNvGrpSpPr/>
            <p:nvPr/>
          </p:nvGrpSpPr>
          <p:grpSpPr>
            <a:xfrm>
              <a:off x="5802480" y="1231560"/>
              <a:ext cx="2182680" cy="1117080"/>
              <a:chOff x="5802480" y="1231560"/>
              <a:chExt cx="2182680" cy="1117080"/>
            </a:xfrm>
          </p:grpSpPr>
          <p:sp>
            <p:nvSpPr>
              <p:cNvPr id="1208" name=""/>
              <p:cNvSpPr/>
              <p:nvPr/>
            </p:nvSpPr>
            <p:spPr>
              <a:xfrm>
                <a:off x="6546960" y="1231560"/>
                <a:ext cx="95256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024600" y="1353600"/>
                <a:ext cx="728640" cy="461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02480" y="1631520"/>
                <a:ext cx="490320" cy="375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950080" y="1796400"/>
                <a:ext cx="739800" cy="407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73880" y="1864800"/>
                <a:ext cx="1104840" cy="483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175520" y="1366200"/>
                <a:ext cx="70956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282080" y="1599480"/>
                <a:ext cx="70308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218360" y="1675800"/>
                <a:ext cx="69876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97760" y="1496520"/>
                <a:ext cx="141768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802480" y="1228680"/>
              <a:ext cx="2188800" cy="1123200"/>
              <a:chOff x="5802480" y="1228680"/>
              <a:chExt cx="2188800" cy="1123200"/>
            </a:xfrm>
          </p:grpSpPr>
          <p:sp>
            <p:nvSpPr>
              <p:cNvPr id="1218" name=""/>
              <p:cNvSpPr/>
              <p:nvPr/>
            </p:nvSpPr>
            <p:spPr>
              <a:xfrm>
                <a:off x="6547680" y="122868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552000" y="123336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24600" y="134928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29280" y="135396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945400" y="178956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950080" y="179532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180560" y="136188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187760" y="136656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175880" y="158688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180560" y="159192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207560" y="168228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213680" y="168516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02480" y="162828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07160" y="163332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478920" y="190512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485400" y="191016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6216840" y="146340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235" name="" descr=""/>
          <p:cNvPicPr/>
          <p:nvPr/>
        </p:nvPicPr>
        <p:blipFill>
          <a:blip r:embed="rId6"/>
          <a:stretch/>
        </p:blipFill>
        <p:spPr>
          <a:xfrm>
            <a:off x="5943600" y="990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236" name=""/>
          <p:cNvGrpSpPr/>
          <p:nvPr/>
        </p:nvGrpSpPr>
        <p:grpSpPr>
          <a:xfrm>
            <a:off x="4111560" y="1143000"/>
            <a:ext cx="1216080" cy="606600"/>
            <a:chOff x="4111560" y="1143000"/>
            <a:chExt cx="1216080" cy="606600"/>
          </a:xfrm>
        </p:grpSpPr>
        <p:sp>
          <p:nvSpPr>
            <p:cNvPr id="1237" name=""/>
            <p:cNvSpPr/>
            <p:nvPr/>
          </p:nvSpPr>
          <p:spPr>
            <a:xfrm>
              <a:off x="4526280" y="114300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35040" y="120924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111560" y="136008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93640" y="144972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85600" y="148680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876560" y="121608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935960" y="134280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00320" y="138420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31520" y="128700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 flipH="1" flipV="1">
            <a:off x="4723920" y="1676520"/>
            <a:ext cx="228600" cy="1218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029200" y="12193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4114800" y="1143000"/>
            <a:ext cx="1218960" cy="609120"/>
            <a:chOff x="4114800" y="1143000"/>
            <a:chExt cx="1218960" cy="609120"/>
          </a:xfrm>
        </p:grpSpPr>
        <p:sp>
          <p:nvSpPr>
            <p:cNvPr id="1249" name=""/>
            <p:cNvSpPr/>
            <p:nvPr/>
          </p:nvSpPr>
          <p:spPr>
            <a:xfrm>
              <a:off x="4529880" y="1143000"/>
              <a:ext cx="5349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32040" y="114552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38280" y="120852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40800" y="121104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194360" y="144720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96880" y="145008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882680" y="1215360"/>
              <a:ext cx="39456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886640" y="121788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879800" y="1337400"/>
              <a:ext cx="45396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882680" y="1340280"/>
              <a:ext cx="44820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897440" y="1388880"/>
              <a:ext cx="399600" cy="32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01040" y="1390680"/>
              <a:ext cx="3942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14800" y="1359720"/>
              <a:ext cx="287640" cy="20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117320" y="1362600"/>
              <a:ext cx="282600" cy="2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91720" y="150984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94960" y="151272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 flipV="1">
            <a:off x="2133720" y="4952880"/>
            <a:ext cx="6094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97180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3526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1371960" y="1675800"/>
            <a:ext cx="1828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52680" y="32767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4724280" y="1447920"/>
            <a:ext cx="1295640" cy="3047400"/>
            <a:chOff x="4724280" y="1447920"/>
            <a:chExt cx="1295640" cy="3047400"/>
          </a:xfrm>
        </p:grpSpPr>
        <p:sp>
          <p:nvSpPr>
            <p:cNvPr id="1271" name=""/>
            <p:cNvSpPr/>
            <p:nvPr/>
          </p:nvSpPr>
          <p:spPr>
            <a:xfrm flipH="1">
              <a:off x="4724280" y="144792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257800" y="14479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609480" y="200160"/>
            <a:ext cx="6248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5.1./24, Tunnel Dest.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5257800" y="3200400"/>
            <a:ext cx="3886200" cy="3657600"/>
          </a:xfrm>
          <a:prstGeom prst="wedgeRectCallout">
            <a:avLst>
              <a:gd name="adj1" fmla="val -44856"/>
              <a:gd name="adj2" fmla="val 53773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serial 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4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route-cach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300:0202::1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source serial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destination 192.168.5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mode ipv6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2001:yyyy:0300:0201::64/64 fastethernet1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::/0 tunnel 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 flipV="1">
            <a:off x="-720" y="1065960"/>
            <a:ext cx="2438280" cy="3962520"/>
          </a:xfrm>
          <a:prstGeom prst="wedgeRectCallout">
            <a:avLst>
              <a:gd name="adj1" fmla="val -200069"/>
              <a:gd name="adj2" fmla="val 4475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serial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5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route-cach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300:0202::1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source serial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destination 192.168.4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mode ipv6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2001:yyyy:/32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"/>
          <p:cNvGrpSpPr/>
          <p:nvPr/>
        </p:nvGrpSpPr>
        <p:grpSpPr>
          <a:xfrm>
            <a:off x="228600" y="5334120"/>
            <a:ext cx="2209320" cy="1142640"/>
            <a:chOff x="228600" y="5334120"/>
            <a:chExt cx="2209320" cy="1142640"/>
          </a:xfrm>
        </p:grpSpPr>
        <p:pic>
          <p:nvPicPr>
            <p:cNvPr id="1278" name="" descr=""/>
            <p:cNvPicPr/>
            <p:nvPr/>
          </p:nvPicPr>
          <p:blipFill>
            <a:blip r:embed="rId1"/>
            <a:stretch/>
          </p:blipFill>
          <p:spPr>
            <a:xfrm>
              <a:off x="2286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279" name=""/>
            <p:cNvSpPr/>
            <p:nvPr/>
          </p:nvSpPr>
          <p:spPr>
            <a:xfrm>
              <a:off x="6526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2286000" y="2819520"/>
            <a:ext cx="3503880" cy="2436120"/>
            <a:chOff x="2286000" y="2819520"/>
            <a:chExt cx="3503880" cy="2436120"/>
          </a:xfrm>
        </p:grpSpPr>
        <p:grpSp>
          <p:nvGrpSpPr>
            <p:cNvPr id="1281" name=""/>
            <p:cNvGrpSpPr/>
            <p:nvPr/>
          </p:nvGrpSpPr>
          <p:grpSpPr>
            <a:xfrm>
              <a:off x="2286000" y="2828160"/>
              <a:ext cx="3495600" cy="2414880"/>
              <a:chOff x="2286000" y="2828160"/>
              <a:chExt cx="3495600" cy="2414880"/>
            </a:xfrm>
          </p:grpSpPr>
          <p:sp>
            <p:nvSpPr>
              <p:cNvPr id="1282" name=""/>
              <p:cNvSpPr/>
              <p:nvPr/>
            </p:nvSpPr>
            <p:spPr>
              <a:xfrm>
                <a:off x="3479400" y="282816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640240" y="309024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286000" y="369144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523600" y="404820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360240" y="419436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486320" y="311940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655880" y="362232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554360" y="378612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921040" y="339912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2286000" y="2819520"/>
              <a:ext cx="3503880" cy="2436120"/>
              <a:chOff x="2286000" y="2819520"/>
              <a:chExt cx="3503880" cy="2436120"/>
            </a:xfrm>
          </p:grpSpPr>
          <p:sp>
            <p:nvSpPr>
              <p:cNvPr id="1292" name=""/>
              <p:cNvSpPr/>
              <p:nvPr/>
            </p:nvSpPr>
            <p:spPr>
              <a:xfrm>
                <a:off x="3481560" y="281952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489840" y="283212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640240" y="308160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48520" y="309420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515320" y="403308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523600" y="404532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495680" y="310680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502520" y="311940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486320" y="359280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494600" y="360684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539240" y="379980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546080" y="381564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286000" y="368244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294280" y="369504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369240" y="428544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377160" y="429804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8" name=""/>
          <p:cNvSpPr/>
          <p:nvPr/>
        </p:nvSpPr>
        <p:spPr>
          <a:xfrm>
            <a:off x="3886200" y="4343400"/>
            <a:ext cx="14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310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311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313" name=""/>
          <p:cNvGrpSpPr/>
          <p:nvPr/>
        </p:nvGrpSpPr>
        <p:grpSpPr>
          <a:xfrm>
            <a:off x="5802480" y="1228680"/>
            <a:ext cx="2188800" cy="1123200"/>
            <a:chOff x="5802480" y="1228680"/>
            <a:chExt cx="2188800" cy="1123200"/>
          </a:xfrm>
        </p:grpSpPr>
        <p:grpSp>
          <p:nvGrpSpPr>
            <p:cNvPr id="1314" name=""/>
            <p:cNvGrpSpPr/>
            <p:nvPr/>
          </p:nvGrpSpPr>
          <p:grpSpPr>
            <a:xfrm>
              <a:off x="5802480" y="1231560"/>
              <a:ext cx="2182680" cy="1117080"/>
              <a:chOff x="5802480" y="1231560"/>
              <a:chExt cx="2182680" cy="1117080"/>
            </a:xfrm>
          </p:grpSpPr>
          <p:sp>
            <p:nvSpPr>
              <p:cNvPr id="1315" name=""/>
              <p:cNvSpPr/>
              <p:nvPr/>
            </p:nvSpPr>
            <p:spPr>
              <a:xfrm>
                <a:off x="6546960" y="1231560"/>
                <a:ext cx="95256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24600" y="1353600"/>
                <a:ext cx="728640" cy="461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02480" y="1631520"/>
                <a:ext cx="490320" cy="375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950080" y="1796400"/>
                <a:ext cx="739800" cy="407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73880" y="1864800"/>
                <a:ext cx="1104840" cy="483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175520" y="1366200"/>
                <a:ext cx="70956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282080" y="1599480"/>
                <a:ext cx="70308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218360" y="1675800"/>
                <a:ext cx="69876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197760" y="1496520"/>
                <a:ext cx="141768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5802480" y="1228680"/>
              <a:ext cx="2188800" cy="1123200"/>
              <a:chOff x="5802480" y="1228680"/>
              <a:chExt cx="2188800" cy="1123200"/>
            </a:xfrm>
          </p:grpSpPr>
          <p:sp>
            <p:nvSpPr>
              <p:cNvPr id="1325" name=""/>
              <p:cNvSpPr/>
              <p:nvPr/>
            </p:nvSpPr>
            <p:spPr>
              <a:xfrm>
                <a:off x="6547680" y="122868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552000" y="123336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024600" y="134928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029280" y="135396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945400" y="178956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950080" y="179532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180560" y="136188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87760" y="136656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175880" y="158688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180560" y="159192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207560" y="168228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213680" y="168516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02480" y="162828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07160" y="163332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78920" y="190512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485400" y="191016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6216840" y="146340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42" name="" descr=""/>
          <p:cNvPicPr/>
          <p:nvPr/>
        </p:nvPicPr>
        <p:blipFill>
          <a:blip r:embed="rId6"/>
          <a:stretch/>
        </p:blipFill>
        <p:spPr>
          <a:xfrm>
            <a:off x="5943600" y="990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343" name=""/>
          <p:cNvGrpSpPr/>
          <p:nvPr/>
        </p:nvGrpSpPr>
        <p:grpSpPr>
          <a:xfrm>
            <a:off x="4111560" y="1143000"/>
            <a:ext cx="1216080" cy="606600"/>
            <a:chOff x="4111560" y="1143000"/>
            <a:chExt cx="1216080" cy="606600"/>
          </a:xfrm>
        </p:grpSpPr>
        <p:sp>
          <p:nvSpPr>
            <p:cNvPr id="1344" name=""/>
            <p:cNvSpPr/>
            <p:nvPr/>
          </p:nvSpPr>
          <p:spPr>
            <a:xfrm>
              <a:off x="4526280" y="114300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35040" y="120924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11560" y="136008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93640" y="144972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485600" y="148680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76560" y="121608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935960" y="134280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00320" y="138420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31520" y="128700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 flipH="1" flipV="1">
            <a:off x="4723920" y="1676520"/>
            <a:ext cx="228600" cy="1218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29200" y="12193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4114800" y="1143000"/>
            <a:ext cx="1218960" cy="609120"/>
            <a:chOff x="4114800" y="1143000"/>
            <a:chExt cx="1218960" cy="609120"/>
          </a:xfrm>
        </p:grpSpPr>
        <p:sp>
          <p:nvSpPr>
            <p:cNvPr id="1356" name=""/>
            <p:cNvSpPr/>
            <p:nvPr/>
          </p:nvSpPr>
          <p:spPr>
            <a:xfrm>
              <a:off x="4529880" y="1143000"/>
              <a:ext cx="5349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32040" y="114552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38280" y="120852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240800" y="121104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194360" y="144720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96880" y="145008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82680" y="1215360"/>
              <a:ext cx="39456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886640" y="121788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879800" y="1337400"/>
              <a:ext cx="45396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882680" y="1340280"/>
              <a:ext cx="44820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897440" y="1388880"/>
              <a:ext cx="399600" cy="32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01040" y="1390680"/>
              <a:ext cx="3942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4800" y="1359720"/>
              <a:ext cx="287640" cy="20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17320" y="1362600"/>
              <a:ext cx="282600" cy="2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491720" y="150984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494960" y="151272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 flipV="1">
            <a:off x="2133720" y="4952880"/>
            <a:ext cx="6094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97180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3526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1371960" y="1675800"/>
            <a:ext cx="1828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352680" y="32767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724280" y="1447920"/>
            <a:ext cx="1295640" cy="3047400"/>
            <a:chOff x="4724280" y="1447920"/>
            <a:chExt cx="1295640" cy="3047400"/>
          </a:xfrm>
        </p:grpSpPr>
        <p:sp>
          <p:nvSpPr>
            <p:cNvPr id="1378" name=""/>
            <p:cNvSpPr/>
            <p:nvPr/>
          </p:nvSpPr>
          <p:spPr>
            <a:xfrm flipH="1">
              <a:off x="4724280" y="144792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57800" y="14479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685800" y="200160"/>
            <a:ext cx="6248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5.1./24, Tunnel Dest.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486400" y="2971800"/>
            <a:ext cx="3429000" cy="3657600"/>
          </a:xfrm>
          <a:prstGeom prst="wedgeRectCallout">
            <a:avLst>
              <a:gd name="adj1" fmla="val -148055"/>
              <a:gd name="adj2" fmla="val 17402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serial 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3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route-cach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100:0301::2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source serial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destination 192.168.2.2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ode ipv6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2001:yyyy:0101::/64 fastethernet1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::/0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-720" y="914400"/>
            <a:ext cx="3048120" cy="3962520"/>
          </a:xfrm>
          <a:prstGeom prst="wedgeRectCallout">
            <a:avLst>
              <a:gd name="adj1" fmla="val -37708"/>
              <a:gd name="adj2" fmla="val -1203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unicast-rout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fastethernet1/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1.2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100:0301::1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source fastethernet1/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destination 192.168.3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ode ipv6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2001:yyyy:0101::/48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6702480" y="316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Laboratorio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3108240" y="762120"/>
            <a:ext cx="1006560" cy="909000"/>
            <a:chOff x="3108240" y="762120"/>
            <a:chExt cx="1006560" cy="909000"/>
          </a:xfrm>
        </p:grpSpPr>
        <p:sp>
          <p:nvSpPr>
            <p:cNvPr id="1386" name=""/>
            <p:cNvSpPr/>
            <p:nvPr/>
          </p:nvSpPr>
          <p:spPr>
            <a:xfrm>
              <a:off x="3108240" y="1371240"/>
              <a:ext cx="909720" cy="16632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110040" y="1373040"/>
              <a:ext cx="906480" cy="16308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108240" y="12794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108240" y="12794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3747600" y="1447560"/>
              <a:ext cx="219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17960" y="12794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17960" y="12794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113280" y="15192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113280" y="15192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14920" y="15192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14920" y="15192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113280" y="1645920"/>
              <a:ext cx="701640" cy="252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114720" y="1647720"/>
              <a:ext cx="698400" cy="216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246480" y="12794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46480" y="12794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240000" y="7621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240000" y="7621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41800" y="830160"/>
              <a:ext cx="647640" cy="509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86200" y="7621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886200" y="7621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298680" y="895320"/>
              <a:ext cx="535320" cy="39312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07" name="bnr_windows_LTR" descr="Windows Home Page">
              <a:hlinkClick r:id="rId1"/>
            </p:cNvPr>
            <p:cNvPicPr/>
            <p:nvPr/>
          </p:nvPicPr>
          <p:blipFill>
            <a:blip r:embed="rId2"/>
            <a:srcRect l="0" t="0" r="78624" b="0"/>
            <a:stretch/>
          </p:blipFill>
          <p:spPr>
            <a:xfrm>
              <a:off x="3425760" y="941040"/>
              <a:ext cx="289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8" name=""/>
          <p:cNvGrpSpPr/>
          <p:nvPr/>
        </p:nvGrpSpPr>
        <p:grpSpPr>
          <a:xfrm>
            <a:off x="1905120" y="762120"/>
            <a:ext cx="1006200" cy="909000"/>
            <a:chOff x="1905120" y="762120"/>
            <a:chExt cx="1006200" cy="909000"/>
          </a:xfrm>
        </p:grpSpPr>
        <p:sp>
          <p:nvSpPr>
            <p:cNvPr id="1409" name=""/>
            <p:cNvSpPr/>
            <p:nvPr/>
          </p:nvSpPr>
          <p:spPr>
            <a:xfrm>
              <a:off x="1905120" y="1371240"/>
              <a:ext cx="909360" cy="16632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906560" y="1373040"/>
              <a:ext cx="906120" cy="16308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05120" y="1279440"/>
              <a:ext cx="100620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05120" y="1279440"/>
              <a:ext cx="100620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2544480" y="144756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14480" y="1279440"/>
              <a:ext cx="9648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14480" y="1279440"/>
              <a:ext cx="9648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09800" y="1519200"/>
              <a:ext cx="80280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09800" y="1519200"/>
              <a:ext cx="80280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611440" y="1519200"/>
              <a:ext cx="10116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11440" y="1519200"/>
              <a:ext cx="10116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09800" y="1645920"/>
              <a:ext cx="701280" cy="252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11240" y="1647720"/>
              <a:ext cx="698040" cy="216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43000" y="1279440"/>
              <a:ext cx="72036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043000" y="1279440"/>
              <a:ext cx="72036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036520" y="762120"/>
              <a:ext cx="71568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036520" y="762120"/>
              <a:ext cx="71568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038320" y="830160"/>
              <a:ext cx="647280" cy="509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82720" y="762120"/>
              <a:ext cx="6948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82720" y="762120"/>
              <a:ext cx="6948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095200" y="895320"/>
              <a:ext cx="534960" cy="39312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0" name="bnr_windows_LTR" descr="Windows Home Page">
              <a:hlinkClick r:id="rId3"/>
            </p:cNvPr>
            <p:cNvPicPr/>
            <p:nvPr/>
          </p:nvPicPr>
          <p:blipFill>
            <a:blip r:embed="rId4"/>
            <a:srcRect l="0" t="0" r="78624" b="0"/>
            <a:stretch/>
          </p:blipFill>
          <p:spPr>
            <a:xfrm>
              <a:off x="2222280" y="941040"/>
              <a:ext cx="28872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1" name=""/>
          <p:cNvGrpSpPr/>
          <p:nvPr/>
        </p:nvGrpSpPr>
        <p:grpSpPr>
          <a:xfrm>
            <a:off x="1600200" y="3581280"/>
            <a:ext cx="838080" cy="914400"/>
            <a:chOff x="1600200" y="3581280"/>
            <a:chExt cx="838080" cy="914400"/>
          </a:xfrm>
        </p:grpSpPr>
        <p:pic>
          <p:nvPicPr>
            <p:cNvPr id="1432" name="" descr=""/>
            <p:cNvPicPr/>
            <p:nvPr/>
          </p:nvPicPr>
          <p:blipFill>
            <a:blip r:embed="rId5"/>
            <a:stretch/>
          </p:blipFill>
          <p:spPr>
            <a:xfrm>
              <a:off x="1600200" y="3581280"/>
              <a:ext cx="8380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linuxorg" descr="Linux Online">
              <a:hlinkClick r:id="rId6"/>
            </p:cNvPr>
            <p:cNvPicPr/>
            <p:nvPr/>
          </p:nvPicPr>
          <p:blipFill>
            <a:blip r:embed="rId7"/>
            <a:srcRect l="5092" t="11806" r="69475" b="11538"/>
            <a:stretch/>
          </p:blipFill>
          <p:spPr>
            <a:xfrm>
              <a:off x="1828800" y="3886200"/>
              <a:ext cx="4093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4" name=""/>
          <p:cNvSpPr/>
          <p:nvPr/>
        </p:nvSpPr>
        <p:spPr>
          <a:xfrm flipV="1">
            <a:off x="2041560" y="29714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041560" y="297180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46280" y="2819520"/>
            <a:ext cx="28191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641760" y="16765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327560" y="2743200"/>
            <a:ext cx="2286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2362320" y="167652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3336840" y="2286000"/>
          <a:ext cx="1143000" cy="1049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36840" y="2286000"/>
                    <a:ext cx="11430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2" name=""/>
          <p:cNvSpPr/>
          <p:nvPr/>
        </p:nvSpPr>
        <p:spPr>
          <a:xfrm>
            <a:off x="380880" y="50767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nfigurar los routers para trabajar con IPv6 (Cisco, IOS 12.2T o superi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rear un túnel IPv6 sobre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avegar en el web remo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28560" y="38070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NS/Apa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44" name=""/>
          <p:cNvGrpSpPr/>
          <p:nvPr/>
        </p:nvGrpSpPr>
        <p:grpSpPr>
          <a:xfrm>
            <a:off x="8001000" y="1523880"/>
            <a:ext cx="838080" cy="914400"/>
            <a:chOff x="8001000" y="1523880"/>
            <a:chExt cx="838080" cy="914400"/>
          </a:xfrm>
        </p:grpSpPr>
        <p:pic>
          <p:nvPicPr>
            <p:cNvPr id="1445" name="" descr=""/>
            <p:cNvPicPr/>
            <p:nvPr/>
          </p:nvPicPr>
          <p:blipFill>
            <a:blip r:embed="rId10"/>
            <a:stretch/>
          </p:blipFill>
          <p:spPr>
            <a:xfrm>
              <a:off x="8001000" y="1523880"/>
              <a:ext cx="8380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linuxorg" descr="Linux Online">
              <a:hlinkClick r:id="rId11"/>
            </p:cNvPr>
            <p:cNvPicPr/>
            <p:nvPr/>
          </p:nvPicPr>
          <p:blipFill>
            <a:blip r:embed="rId12"/>
            <a:srcRect l="5092" t="11806" r="69475" b="11538"/>
            <a:stretch/>
          </p:blipFill>
          <p:spPr>
            <a:xfrm>
              <a:off x="8229600" y="1828800"/>
              <a:ext cx="4093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7" name=""/>
          <p:cNvGrpSpPr/>
          <p:nvPr/>
        </p:nvGrpSpPr>
        <p:grpSpPr>
          <a:xfrm>
            <a:off x="4495680" y="2590920"/>
            <a:ext cx="3503880" cy="2436120"/>
            <a:chOff x="4495680" y="2590920"/>
            <a:chExt cx="3503880" cy="2436120"/>
          </a:xfrm>
        </p:grpSpPr>
        <p:grpSp>
          <p:nvGrpSpPr>
            <p:cNvPr id="1448" name=""/>
            <p:cNvGrpSpPr/>
            <p:nvPr/>
          </p:nvGrpSpPr>
          <p:grpSpPr>
            <a:xfrm>
              <a:off x="4495680" y="2599560"/>
              <a:ext cx="3495600" cy="2414880"/>
              <a:chOff x="4495680" y="2599560"/>
              <a:chExt cx="3495600" cy="2414880"/>
            </a:xfrm>
          </p:grpSpPr>
          <p:sp>
            <p:nvSpPr>
              <p:cNvPr id="1449" name=""/>
              <p:cNvSpPr/>
              <p:nvPr/>
            </p:nvSpPr>
            <p:spPr>
              <a:xfrm>
                <a:off x="5689080" y="259956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849920" y="286164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95680" y="346284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33280" y="381960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569920" y="396576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696000" y="289080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865560" y="339372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764040" y="355752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130720" y="317052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4495680" y="2590920"/>
              <a:ext cx="3503880" cy="2436120"/>
              <a:chOff x="4495680" y="2590920"/>
              <a:chExt cx="3503880" cy="2436120"/>
            </a:xfrm>
          </p:grpSpPr>
          <p:sp>
            <p:nvSpPr>
              <p:cNvPr id="1459" name=""/>
              <p:cNvSpPr/>
              <p:nvPr/>
            </p:nvSpPr>
            <p:spPr>
              <a:xfrm>
                <a:off x="5691240" y="259092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699520" y="260352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849920" y="285300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858200" y="286560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725000" y="380448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733280" y="381672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705360" y="287820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712200" y="289080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696000" y="336420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704280" y="337824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748920" y="357120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755760" y="358704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495680" y="345384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503960" y="346644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578920" y="405684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586840" y="406944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75" name="" descr=""/>
          <p:cNvPicPr/>
          <p:nvPr/>
        </p:nvPicPr>
        <p:blipFill>
          <a:blip r:embed="rId13"/>
          <a:stretch/>
        </p:blipFill>
        <p:spPr>
          <a:xfrm>
            <a:off x="4952880" y="259092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2362320" y="259092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762120" y="1599840"/>
            <a:ext cx="0" cy="1219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441360" y="762120"/>
            <a:ext cx="1006560" cy="909000"/>
            <a:chOff x="441360" y="762120"/>
            <a:chExt cx="1006560" cy="909000"/>
          </a:xfrm>
        </p:grpSpPr>
        <p:sp>
          <p:nvSpPr>
            <p:cNvPr id="1479" name=""/>
            <p:cNvSpPr/>
            <p:nvPr/>
          </p:nvSpPr>
          <p:spPr>
            <a:xfrm>
              <a:off x="441360" y="1371240"/>
              <a:ext cx="909720" cy="16632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3160" y="1373040"/>
              <a:ext cx="906480" cy="16308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1360" y="12794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41360" y="1279440"/>
              <a:ext cx="1006560" cy="91440"/>
            </a:xfrm>
            <a:custGeom>
              <a:avLst/>
              <a:gdLst/>
              <a:ahLst/>
              <a:rect l="l" t="t" r="r" b="b"/>
              <a:pathLst>
                <a:path w="634" h="58">
                  <a:moveTo>
                    <a:pt x="0" y="58"/>
                  </a:moveTo>
                  <a:lnTo>
                    <a:pt x="61" y="0"/>
                  </a:lnTo>
                  <a:lnTo>
                    <a:pt x="634" y="0"/>
                  </a:lnTo>
                  <a:lnTo>
                    <a:pt x="57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1080720" y="1447560"/>
              <a:ext cx="219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1080" y="12794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51080" y="1279440"/>
              <a:ext cx="96840" cy="258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0" y="163"/>
                  </a:moveTo>
                  <a:lnTo>
                    <a:pt x="61" y="103"/>
                  </a:lnTo>
                  <a:lnTo>
                    <a:pt x="61" y="0"/>
                  </a:lnTo>
                  <a:lnTo>
                    <a:pt x="0" y="5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46400" y="15192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6400" y="1519200"/>
              <a:ext cx="803160" cy="12636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0" y="80"/>
                  </a:moveTo>
                  <a:lnTo>
                    <a:pt x="64" y="0"/>
                  </a:lnTo>
                  <a:lnTo>
                    <a:pt x="506" y="0"/>
                  </a:lnTo>
                  <a:lnTo>
                    <a:pt x="442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148040" y="15192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148040" y="1519200"/>
              <a:ext cx="101520" cy="15192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0" y="96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6400" y="1645920"/>
              <a:ext cx="701640" cy="252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7840" y="1647720"/>
              <a:ext cx="698400" cy="2160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9600" y="12794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79600" y="1279440"/>
              <a:ext cx="720720" cy="70920"/>
            </a:xfrm>
            <a:custGeom>
              <a:avLst/>
              <a:gdLst/>
              <a:ahLst/>
              <a:rect l="l" t="t" r="r" b="b"/>
              <a:pathLst>
                <a:path w="454" h="45">
                  <a:moveTo>
                    <a:pt x="0" y="45"/>
                  </a:moveTo>
                  <a:lnTo>
                    <a:pt x="48" y="0"/>
                  </a:lnTo>
                  <a:lnTo>
                    <a:pt x="454" y="0"/>
                  </a:lnTo>
                  <a:lnTo>
                    <a:pt x="40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73120" y="7621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73120" y="762120"/>
              <a:ext cx="716040" cy="66240"/>
            </a:xfrm>
            <a:custGeom>
              <a:avLst/>
              <a:gdLst/>
              <a:ahLst/>
              <a:rect l="l" t="t" r="r" b="b"/>
              <a:pathLst>
                <a:path w="451" h="42">
                  <a:moveTo>
                    <a:pt x="0" y="42"/>
                  </a:moveTo>
                  <a:lnTo>
                    <a:pt x="45" y="0"/>
                  </a:lnTo>
                  <a:lnTo>
                    <a:pt x="451" y="0"/>
                  </a:lnTo>
                  <a:lnTo>
                    <a:pt x="407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74920" y="830160"/>
              <a:ext cx="647640" cy="509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19320" y="7621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19320" y="762120"/>
              <a:ext cx="69840" cy="574200"/>
            </a:xfrm>
            <a:custGeom>
              <a:avLst/>
              <a:gdLst/>
              <a:ahLst/>
              <a:rect l="l" t="t" r="r" b="b"/>
              <a:pathLst>
                <a:path w="44" h="362">
                  <a:moveTo>
                    <a:pt x="0" y="362"/>
                  </a:moveTo>
                  <a:lnTo>
                    <a:pt x="44" y="317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1800" y="895320"/>
              <a:ext cx="535320" cy="39312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003c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00" name="bnr_windows_LTR" descr="Windows Home Page">
              <a:hlinkClick r:id="rId14"/>
            </p:cNvPr>
            <p:cNvPicPr/>
            <p:nvPr/>
          </p:nvPicPr>
          <p:blipFill>
            <a:blip r:embed="rId15"/>
            <a:srcRect l="0" t="0" r="78624" b="0"/>
            <a:stretch/>
          </p:blipFill>
          <p:spPr>
            <a:xfrm>
              <a:off x="758880" y="941040"/>
              <a:ext cx="289080" cy="3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1" name="" descr=""/>
          <p:cNvPicPr/>
          <p:nvPr/>
        </p:nvPicPr>
        <p:blipFill>
          <a:blip r:embed="rId16"/>
          <a:stretch/>
        </p:blipFill>
        <p:spPr>
          <a:xfrm>
            <a:off x="7543800" y="411480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 flipV="1">
            <a:off x="8001000" y="2437920"/>
            <a:ext cx="457200" cy="1676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15080" y="167652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Apa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638680" y="3429000"/>
            <a:ext cx="14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401160" y="316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abecer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495680" y="4610160"/>
            <a:ext cx="1904400" cy="1028160"/>
            <a:chOff x="4495680" y="4610160"/>
            <a:chExt cx="1904400" cy="1028160"/>
          </a:xfrm>
        </p:grpSpPr>
        <p:grpSp>
          <p:nvGrpSpPr>
            <p:cNvPr id="205" name=""/>
            <p:cNvGrpSpPr/>
            <p:nvPr/>
          </p:nvGrpSpPr>
          <p:grpSpPr>
            <a:xfrm>
              <a:off x="4495680" y="4610160"/>
              <a:ext cx="1904400" cy="1028160"/>
              <a:chOff x="4495680" y="4610160"/>
              <a:chExt cx="1904400" cy="1028160"/>
            </a:xfrm>
          </p:grpSpPr>
          <p:sp>
            <p:nvSpPr>
              <p:cNvPr id="206" name=""/>
              <p:cNvSpPr/>
              <p:nvPr/>
            </p:nvSpPr>
            <p:spPr>
              <a:xfrm>
                <a:off x="4505760" y="478836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5680" y="461016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60320" y="461016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722840" y="4991040"/>
              <a:ext cx="1193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04920" y="4610160"/>
            <a:ext cx="1906200" cy="1029960"/>
            <a:chOff x="304920" y="4610160"/>
            <a:chExt cx="1906200" cy="1029960"/>
          </a:xfrm>
        </p:grpSpPr>
        <p:grpSp>
          <p:nvGrpSpPr>
            <p:cNvPr id="211" name=""/>
            <p:cNvGrpSpPr/>
            <p:nvPr/>
          </p:nvGrpSpPr>
          <p:grpSpPr>
            <a:xfrm>
              <a:off x="304920" y="4610160"/>
              <a:ext cx="1906200" cy="1029960"/>
              <a:chOff x="304920" y="4610160"/>
              <a:chExt cx="1906200" cy="1029960"/>
            </a:xfrm>
          </p:grpSpPr>
          <p:sp>
            <p:nvSpPr>
              <p:cNvPr id="212" name=""/>
              <p:cNvSpPr/>
              <p:nvPr/>
            </p:nvSpPr>
            <p:spPr>
              <a:xfrm>
                <a:off x="314280" y="4788720"/>
                <a:ext cx="1645920" cy="84276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04920" y="461016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70640" y="4610160"/>
                <a:ext cx="24048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30640" y="483876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Routing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58720" y="4610160"/>
            <a:ext cx="1984320" cy="1029960"/>
            <a:chOff x="2358720" y="4610160"/>
            <a:chExt cx="1984320" cy="1029960"/>
          </a:xfrm>
        </p:grpSpPr>
        <p:grpSp>
          <p:nvGrpSpPr>
            <p:cNvPr id="217" name=""/>
            <p:cNvGrpSpPr/>
            <p:nvPr/>
          </p:nvGrpSpPr>
          <p:grpSpPr>
            <a:xfrm>
              <a:off x="2362320" y="4610160"/>
              <a:ext cx="1980720" cy="1029960"/>
              <a:chOff x="2362320" y="4610160"/>
              <a:chExt cx="1980720" cy="1029960"/>
            </a:xfrm>
          </p:grpSpPr>
          <p:sp>
            <p:nvSpPr>
              <p:cNvPr id="218" name=""/>
              <p:cNvSpPr/>
              <p:nvPr/>
            </p:nvSpPr>
            <p:spPr>
              <a:xfrm>
                <a:off x="2372040" y="47883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62320" y="4610160"/>
                <a:ext cx="198072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92840" y="46101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358720" y="4991400"/>
              <a:ext cx="1783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Routing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362320" y="3314880"/>
            <a:ext cx="1904400" cy="1028160"/>
            <a:chOff x="2362320" y="3314880"/>
            <a:chExt cx="1904400" cy="1028160"/>
          </a:xfrm>
        </p:grpSpPr>
        <p:grpSp>
          <p:nvGrpSpPr>
            <p:cNvPr id="223" name=""/>
            <p:cNvGrpSpPr/>
            <p:nvPr/>
          </p:nvGrpSpPr>
          <p:grpSpPr>
            <a:xfrm>
              <a:off x="2362320" y="3314880"/>
              <a:ext cx="1904400" cy="1028160"/>
              <a:chOff x="2362320" y="3314880"/>
              <a:chExt cx="1904400" cy="1028160"/>
            </a:xfrm>
          </p:grpSpPr>
          <p:sp>
            <p:nvSpPr>
              <p:cNvPr id="224" name=""/>
              <p:cNvSpPr/>
              <p:nvPr/>
            </p:nvSpPr>
            <p:spPr>
              <a:xfrm>
                <a:off x="2372400" y="349308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62320" y="331488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26960" y="331488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2589480" y="3695760"/>
              <a:ext cx="1193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4920" y="3314880"/>
            <a:ext cx="1906200" cy="1029600"/>
            <a:chOff x="304920" y="3314880"/>
            <a:chExt cx="1906200" cy="1029600"/>
          </a:xfrm>
        </p:grpSpPr>
        <p:grpSp>
          <p:nvGrpSpPr>
            <p:cNvPr id="229" name=""/>
            <p:cNvGrpSpPr/>
            <p:nvPr/>
          </p:nvGrpSpPr>
          <p:grpSpPr>
            <a:xfrm>
              <a:off x="304920" y="3314880"/>
              <a:ext cx="1906200" cy="1029600"/>
              <a:chOff x="304920" y="3314880"/>
              <a:chExt cx="1906200" cy="1029600"/>
            </a:xfrm>
          </p:grpSpPr>
          <p:sp>
            <p:nvSpPr>
              <p:cNvPr id="230" name=""/>
              <p:cNvSpPr/>
              <p:nvPr/>
            </p:nvSpPr>
            <p:spPr>
              <a:xfrm>
                <a:off x="314280" y="3493080"/>
                <a:ext cx="1645920" cy="84240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4920" y="331488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70640" y="3314880"/>
                <a:ext cx="240480" cy="102960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30640" y="354312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04920" y="5751360"/>
            <a:ext cx="1906200" cy="1029960"/>
            <a:chOff x="304920" y="5751360"/>
            <a:chExt cx="1906200" cy="1029960"/>
          </a:xfrm>
        </p:grpSpPr>
        <p:grpSp>
          <p:nvGrpSpPr>
            <p:cNvPr id="235" name=""/>
            <p:cNvGrpSpPr/>
            <p:nvPr/>
          </p:nvGrpSpPr>
          <p:grpSpPr>
            <a:xfrm>
              <a:off x="304920" y="5751360"/>
              <a:ext cx="1906200" cy="1029960"/>
              <a:chOff x="304920" y="5751360"/>
              <a:chExt cx="1906200" cy="1029960"/>
            </a:xfrm>
          </p:grpSpPr>
          <p:sp>
            <p:nvSpPr>
              <p:cNvPr id="236" name=""/>
              <p:cNvSpPr/>
              <p:nvPr/>
            </p:nvSpPr>
            <p:spPr>
              <a:xfrm>
                <a:off x="314280" y="5929920"/>
                <a:ext cx="1645920" cy="84276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04920" y="575136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70640" y="5751360"/>
                <a:ext cx="24048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30640" y="597996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Routing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362320" y="5751360"/>
            <a:ext cx="1980720" cy="1029960"/>
            <a:chOff x="2362320" y="5751360"/>
            <a:chExt cx="1980720" cy="1029960"/>
          </a:xfrm>
        </p:grpSpPr>
        <p:grpSp>
          <p:nvGrpSpPr>
            <p:cNvPr id="241" name=""/>
            <p:cNvGrpSpPr/>
            <p:nvPr/>
          </p:nvGrpSpPr>
          <p:grpSpPr>
            <a:xfrm>
              <a:off x="2362320" y="5751360"/>
              <a:ext cx="1980720" cy="1029960"/>
              <a:chOff x="2362320" y="5751360"/>
              <a:chExt cx="1980720" cy="1029960"/>
            </a:xfrm>
          </p:grpSpPr>
          <p:sp>
            <p:nvSpPr>
              <p:cNvPr id="242" name=""/>
              <p:cNvSpPr/>
              <p:nvPr/>
            </p:nvSpPr>
            <p:spPr>
              <a:xfrm>
                <a:off x="2372040" y="59295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362320" y="5751360"/>
                <a:ext cx="198072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092840" y="57513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511720" y="5979960"/>
              <a:ext cx="150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Routing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492080" y="5751360"/>
            <a:ext cx="1984680" cy="1029960"/>
            <a:chOff x="4492080" y="5751360"/>
            <a:chExt cx="1984680" cy="1029960"/>
          </a:xfrm>
        </p:grpSpPr>
        <p:grpSp>
          <p:nvGrpSpPr>
            <p:cNvPr id="247" name=""/>
            <p:cNvGrpSpPr/>
            <p:nvPr/>
          </p:nvGrpSpPr>
          <p:grpSpPr>
            <a:xfrm>
              <a:off x="4495680" y="5751360"/>
              <a:ext cx="1981080" cy="1029960"/>
              <a:chOff x="4495680" y="5751360"/>
              <a:chExt cx="1981080" cy="1029960"/>
            </a:xfrm>
          </p:grpSpPr>
          <p:sp>
            <p:nvSpPr>
              <p:cNvPr id="248" name=""/>
              <p:cNvSpPr/>
              <p:nvPr/>
            </p:nvSpPr>
            <p:spPr>
              <a:xfrm>
                <a:off x="4505400" y="59295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95680" y="5751360"/>
                <a:ext cx="198108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226560" y="57513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2080" y="6132600"/>
              <a:ext cx="1783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705720" y="5753160"/>
            <a:ext cx="1904400" cy="1028160"/>
            <a:chOff x="6705720" y="5753160"/>
            <a:chExt cx="1904400" cy="1028160"/>
          </a:xfrm>
        </p:grpSpPr>
        <p:grpSp>
          <p:nvGrpSpPr>
            <p:cNvPr id="253" name=""/>
            <p:cNvGrpSpPr/>
            <p:nvPr/>
          </p:nvGrpSpPr>
          <p:grpSpPr>
            <a:xfrm>
              <a:off x="6705720" y="5753160"/>
              <a:ext cx="1904400" cy="1028160"/>
              <a:chOff x="6705720" y="5753160"/>
              <a:chExt cx="1904400" cy="1028160"/>
            </a:xfrm>
          </p:grpSpPr>
          <p:sp>
            <p:nvSpPr>
              <p:cNvPr id="254" name=""/>
              <p:cNvSpPr/>
              <p:nvPr/>
            </p:nvSpPr>
            <p:spPr>
              <a:xfrm>
                <a:off x="6715800" y="593136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05720" y="575316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370360" y="575316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931800" y="5981760"/>
              <a:ext cx="1244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 of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98320" y="45720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Definición de cabeceras IPv6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i="1" lang="es-ES" sz="2400" spc="-1" strike="noStrike">
                <a:solidFill>
                  <a:srgbClr val="33cccc"/>
                </a:solidFill>
                <a:latin typeface="Trebuchet MS"/>
              </a:rPr>
              <a:t>(RFC 246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990720"/>
            <a:ext cx="4876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Hop-by-Hop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Destination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Routing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Fragment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Authentication header </a:t>
            </a:r>
            <a:r>
              <a:rPr b="0" i="1" lang="es-ES" sz="2000" spc="-1" strike="noStrike">
                <a:solidFill>
                  <a:srgbClr val="33cccc"/>
                </a:solidFill>
                <a:latin typeface="Trebuchet MS"/>
              </a:rPr>
              <a:t>(RFC 1826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Encapsulating Security Payload header </a:t>
            </a:r>
            <a:r>
              <a:rPr b="0" i="1" lang="es-ES" sz="2000" spc="-1" strike="noStrike">
                <a:solidFill>
                  <a:srgbClr val="33cccc"/>
                </a:solidFill>
                <a:latin typeface="Trebuchet MS"/>
              </a:rPr>
              <a:t>(RFC 1827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Destination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upper-layer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/>
          <p:nvPr/>
        </p:nvSpPr>
        <p:spPr>
          <a:xfrm>
            <a:off x="6764760" y="31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04920" y="380880"/>
            <a:ext cx="883908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No invertir más en infraestructura IPv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Desarrollar aplicaciones IPv4/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IPv6 es la única manera de garantizar el crecimiento sostenido de Internet en los próximos añ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Hay un gran esfuerzo mundial acerca de IPv6, y ya puede considerarse como un desarrollo estable y maduro, aún cuando continúan los trabajos en muchas área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IPv4 e IPv6 deben coexistir por algún tiemp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La Internet del futuro contará con  una gran utilización de tecnologías inalámbri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El modelo Cliente/Servidor será reemplazado en buena medida por el modelo “Peer to Peer”, aumentando así la comunicación interperso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IPv6 es una realidad y solamente puede acelerarse o retrasarse su adopción, con las consecuencias que ello pueda acarr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Las nuevas generaciones de graduados serán quienes maximicen 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437640" y="316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Cuándo empezar a trabajar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050840" y="1335240"/>
            <a:ext cx="809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ayor cantidad de tiempo para planear una transición grad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ayor tiempo para obtener la necesaria experiencia con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rear un servicio IPv6 inicial es relativamente económ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lgunas redes y empresas se están preocupando por el tem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43000" y="47242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rebuchet MS"/>
              </a:rPr>
              <a:t>CUANTO ANTES SE EMPIECE EL TRABAJO ES MUCHO MEJ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6912000" y="3168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04920" y="998640"/>
            <a:ext cx="883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Unión Internacional de Telecomunicaciones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tu.in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Forum IPv6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pv6forum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LACNIC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lacnic.n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isco Systems (Sitio IPv6)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cisco.com/ipv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ricsson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ericsson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APNIC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apnic.n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nternet2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nternet2.ed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DC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 (http://www.idc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ortal IPv6 Cuba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cu.ipv6tf.or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419240" y="31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Q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724280" y="1066680"/>
            <a:ext cx="4343400" cy="4572000"/>
            <a:chOff x="4724280" y="1066680"/>
            <a:chExt cx="4343400" cy="4572000"/>
          </a:xfrm>
        </p:grpSpPr>
        <p:sp>
          <p:nvSpPr>
            <p:cNvPr id="262" name=""/>
            <p:cNvSpPr/>
            <p:nvPr/>
          </p:nvSpPr>
          <p:spPr>
            <a:xfrm>
              <a:off x="68644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Next Header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660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Hop Limi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97800" y="1066680"/>
              <a:ext cx="2369880" cy="885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Flow Labe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5880" y="1066680"/>
              <a:ext cx="1231920" cy="885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raffic Class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24280" y="4181400"/>
              <a:ext cx="4343400" cy="145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2754360"/>
              <a:ext cx="4343400" cy="142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24280" y="1952640"/>
              <a:ext cx="21402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Payload Length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280" y="1066680"/>
              <a:ext cx="741600" cy="88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24280" y="195264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275436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4280" y="5638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418140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6588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780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660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44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24280" y="1066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242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676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0" y="1676520"/>
            <a:ext cx="4343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0 - uncharacterized traffi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1 - filler traffic such as netnew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2 - unattended data transfer such as e-mai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3 - reserv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4 - attended bulk transfer such as FT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5 - reserv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6 - interactive traffic such as tel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7 - internet control traffic such as SNM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8-15 - para aplicaciones cuyo tráfico sea afectado por las demor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580920" y="1676520"/>
            <a:ext cx="2133720" cy="1523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398280" y="31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Seguridad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09440" y="174312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abeceras de Autenticación </a:t>
            </a:r>
            <a:r>
              <a:rPr b="0" i="1" lang="en-US" sz="2400" spc="-1" strike="noStrike">
                <a:solidFill>
                  <a:srgbClr val="00cccc"/>
                </a:solidFill>
                <a:latin typeface="Trebuchet MS"/>
              </a:rPr>
              <a:t>(RFC 24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22003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osibilita autenticación y confiabilidad del origen de los da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incluye integridad de los datos pues el datagrama IPv6 no es encripta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MD5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es el algoritmo propuesto para estas fun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odo esto ayudará a eliminar algunos ataques comunes como 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IP Spoofing y Host Masquer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Not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Es importante evaluar las restricciones de exportaciones de tecnolo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7680" y="72540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La implementación de la seguridad a nivel de red protege los niveles superiores y es transparente a las aplic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98280" y="31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Seguridad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50840" y="6094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abeceras de Encriptación </a:t>
            </a:r>
            <a:r>
              <a:rPr b="0" i="1" lang="en-US" sz="2400" spc="-1" strike="noStrike">
                <a:solidFill>
                  <a:srgbClr val="00cccc"/>
                </a:solidFill>
                <a:latin typeface="Trebuchet MS"/>
              </a:rPr>
              <a:t>(RFC 240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066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Brinda integridad y confidencialidad a los datagramas IPv6. Utiliza el algoritmo 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 el encabezado de nivel de transporte y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uede encriptarse el datagrama IPv6 completo de ser necesa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701880"/>
            <a:ext cx="1447560" cy="642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3701880"/>
            <a:ext cx="152424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3701880"/>
            <a:ext cx="15238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E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3701880"/>
            <a:ext cx="2971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de transporte y los da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5254560"/>
            <a:ext cx="1447920" cy="5806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5254560"/>
            <a:ext cx="152424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5254560"/>
            <a:ext cx="2209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transporte y los dat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5254560"/>
            <a:ext cx="1295280" cy="5806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5254560"/>
            <a:ext cx="144792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5254560"/>
            <a:ext cx="137160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ES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1904400" y="4495680"/>
            <a:ext cx="457200" cy="3352680"/>
          </a:xfrm>
          <a:custGeom>
            <a:avLst/>
            <a:gdLst>
              <a:gd name="textAreaLeft" fmla="*/ 0 w 457200"/>
              <a:gd name="textAreaRight" fmla="*/ 16488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6324120" y="4572000"/>
            <a:ext cx="457200" cy="3352680"/>
          </a:xfrm>
          <a:custGeom>
            <a:avLst/>
            <a:gdLst>
              <a:gd name="textAreaLeft" fmla="*/ 0 w 457200"/>
              <a:gd name="textAreaRight" fmla="*/ 16488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138960" y="628812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abezados de encapsul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9400" y="6400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Paquet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5029200"/>
            <a:ext cx="152424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467480" y="5029200"/>
            <a:ext cx="152424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4400" y="47642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3600" y="4800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5029200"/>
            <a:ext cx="7617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8240" y="50292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16000" y="3092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02560" y="31291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339732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447920" y="3397320"/>
            <a:ext cx="7617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1880" y="32418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714640" y="32418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96920" y="281952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Modo Transpor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52720" y="44197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Modo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2438280"/>
            <a:ext cx="3657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2438280"/>
            <a:ext cx="914400" cy="30492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438280"/>
            <a:ext cx="7315200" cy="3049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76920" y="24382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990360" y="2743200"/>
            <a:ext cx="152280" cy="30492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2743200"/>
            <a:ext cx="0" cy="38088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2438280"/>
            <a:ext cx="228600" cy="304920"/>
          </a:xfrm>
          <a:prstGeom prst="rect">
            <a:avLst/>
          </a:prstGeom>
          <a:solidFill>
            <a:srgbClr val="cc99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2438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cc"/>
                </a:solidFill>
                <a:latin typeface="Arial"/>
              </a:rPr>
              <a:t>Global Routing Prefi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L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3048120"/>
            <a:ext cx="533520" cy="307080"/>
          </a:xfrm>
          <a:prstGeom prst="rect">
            <a:avLst/>
          </a:prstGeom>
          <a:solidFill>
            <a:srgbClr val="cc99ff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cc"/>
                </a:solidFill>
                <a:latin typeface="Arial"/>
              </a:rPr>
              <a:t>00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1981080"/>
            <a:ext cx="30492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1981080"/>
            <a:ext cx="3657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64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981080"/>
            <a:ext cx="2514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45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198108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6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1447920"/>
            <a:ext cx="27432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9160" y="1143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88080" y="11430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7080" y="114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44792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1447920"/>
            <a:ext cx="3657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327672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74400" y="308772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dica que es una dirección unic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3505320"/>
            <a:ext cx="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274320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4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2094840" y="293364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04760" y="46483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opología Públ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6514560" y="293364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61200" y="46483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Interfaz Loc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86040" y="459108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opolo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e sit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4228920" y="399996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50360" y="34686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74400" y="346860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N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6840" y="5289480"/>
            <a:ext cx="43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T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Top level Ag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N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Next Level Ag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S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Site Level Agr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2232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3996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112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68760" y="1943280"/>
            <a:ext cx="914400" cy="4824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9920" y="1943280"/>
            <a:ext cx="3649680" cy="48240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77760" y="1994040"/>
            <a:ext cx="7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92160" y="2006640"/>
            <a:ext cx="7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04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21040" y="1778040"/>
            <a:ext cx="0" cy="140976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70200" y="1752480"/>
            <a:ext cx="12960" cy="172728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91080" y="1752480"/>
            <a:ext cx="0" cy="210816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25480" y="289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ISP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5480" y="32637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ite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5480" y="36320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LAN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31840" y="3467160"/>
            <a:ext cx="16002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20760" y="3809880"/>
            <a:ext cx="243864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41680" y="14605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3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14479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4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17840" y="14479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6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94040" y="3086280"/>
            <a:ext cx="90144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2880" y="2529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RI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22640" y="1778040"/>
            <a:ext cx="0" cy="110484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1460520"/>
            <a:ext cx="5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2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38680" y="2057400"/>
            <a:ext cx="1390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3280" y="838080"/>
            <a:ext cx="77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Proceso de localización de direcciones por la IA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2743200"/>
            <a:ext cx="9018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384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Trebuchet MS"/>
              </a:rPr>
              <a:t>Referencias adicionales </a:t>
            </a: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http://www.iana.org/ipaddress/ip-addresses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6362280" y="125712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89680" y="2971800"/>
            <a:ext cx="40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nstruidas según EUI-6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xpandida de la dirección MAC </a:t>
            </a:r>
            <a:r>
              <a:rPr b="0" i="1" lang="es-ES" sz="2400" spc="-1" strike="noStrike">
                <a:solidFill>
                  <a:srgbClr val="ffffcc"/>
                </a:solidFill>
                <a:latin typeface="Trebuchet MS"/>
              </a:rPr>
              <a:t>(48 bit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Valor seudo-aleatorio (autogenerado) </a:t>
            </a:r>
            <a:r>
              <a:rPr b="0" i="1" lang="es-ES" sz="2400" spc="-1" strike="noStrike">
                <a:solidFill>
                  <a:srgbClr val="33cccc"/>
                </a:solidFill>
                <a:latin typeface="Trebuchet MS"/>
              </a:rPr>
              <a:t>(RFC 304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signado por DHC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nfiguración man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5500800"/>
            <a:ext cx="502920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001:0000:130F:0000:0000:09C0:876A:130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44560" y="57769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presentación Hexadeci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666880" y="5866920"/>
            <a:ext cx="1905120" cy="265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7:10:38Z</dcterms:created>
  <dc:creator>1234</dc:creator>
  <dc:description/>
  <dc:language>en-US</dc:language>
  <cp:lastModifiedBy>1234</cp:lastModifiedBy>
  <dcterms:modified xsi:type="dcterms:W3CDTF">2004-11-11T05:11:01Z</dcterms:modified>
  <cp:revision>192</cp:revision>
  <dc:subject/>
  <dc:title>Presentación de PowerPoint</dc:title>
</cp:coreProperties>
</file>