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jpeg" ContentType="image/jpeg"/>
  <Override PartName="/ppt/media/image42.png" ContentType="image/png"/>
  <Override PartName="/ppt/media/image23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24.png" ContentType="image/png"/>
  <Override PartName="/ppt/media/image44.png" ContentType="image/png"/>
  <Override PartName="/ppt/media/image35.png" ContentType="image/png"/>
  <Override PartName="/ppt/media/image5.png" ContentType="image/png"/>
  <Override PartName="/ppt/media/image39.jpeg" ContentType="image/jpeg"/>
  <Override PartName="/ppt/media/image8.jpeg" ContentType="image/jpeg"/>
  <Override PartName="/ppt/media/image34.png" ContentType="image/png"/>
  <Override PartName="/ppt/media/image41.png" ContentType="image/png"/>
  <Override PartName="/ppt/media/image11.png" ContentType="image/png"/>
  <Override PartName="/ppt/media/image9.jpeg" ContentType="image/jpeg"/>
  <Override PartName="/ppt/media/image43.png" ContentType="image/png"/>
  <Override PartName="/ppt/media/image32.png" ContentType="image/png"/>
  <Override PartName="/ppt/media/image22.jpeg" ContentType="image/jpeg"/>
  <Override PartName="/ppt/media/image33.png" ContentType="image/png"/>
  <Override PartName="/ppt/media/image45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38.wmf" ContentType="image/x-wmf"/>
  <Override PartName="/ppt/media/image4.jpeg" ContentType="image/jpeg"/>
  <Override PartName="/ppt/media/image25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2" marL="1119960" indent="-22392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3" marL="1568160" indent="-223920">
              <a:spcBef>
                <a:spcPts val="799"/>
              </a:spcBef>
              <a:buClr>
                <a:srgbClr val="ffffcc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4" marL="2016000" indent="-223920">
              <a:spcBef>
                <a:spcPts val="799"/>
              </a:spcBef>
              <a:buClr>
                <a:srgbClr val="ffffcc"/>
              </a:buClr>
              <a:buFont typeface="Trebuchet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5" marL="2016000" indent="-223920">
              <a:spcBef>
                <a:spcPts val="799"/>
              </a:spcBef>
              <a:buClr>
                <a:srgbClr val="ffffc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  <a:p>
            <a:pPr lvl="6" marL="2016000" indent="-223920">
              <a:spcBef>
                <a:spcPts val="799"/>
              </a:spcBef>
              <a:buClr>
                <a:srgbClr val="ffffc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image" Target="../media/image19.wmf"/><Relationship Id="rId5" Type="http://schemas.openxmlformats.org/officeDocument/2006/relationships/image" Target="../media/image16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image" Target="../media/image16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image" Target="../media/image16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9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9.wmf"/><Relationship Id="rId7" Type="http://schemas.openxmlformats.org/officeDocument/2006/relationships/image" Target="../media/image16.wmf"/><Relationship Id="rId8" Type="http://schemas.openxmlformats.org/officeDocument/2006/relationships/image" Target="../media/image19.wmf"/><Relationship Id="rId9" Type="http://schemas.openxmlformats.org/officeDocument/2006/relationships/image" Target="../media/image16.wmf"/><Relationship Id="rId10" Type="http://schemas.openxmlformats.org/officeDocument/2006/relationships/image" Target="../media/image19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hyperlink" Target="http://www.skype.com/home.html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www.6winit.org/" TargetMode="External"/><Relationship Id="rId3" Type="http://schemas.openxmlformats.org/officeDocument/2006/relationships/image" Target="../media/image38.wmf"/><Relationship Id="rId4" Type="http://schemas.openxmlformats.org/officeDocument/2006/relationships/hyperlink" Target="http://www.ap.ipv6tf.org/member/china.html" TargetMode="External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33520"/>
            <a:ext cx="914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Verdana"/>
              </a:rPr>
              <a:t>El protocolo IP versión 6.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Una aproximación técnica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al despliegue e implementa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30960" y="480060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MSC. Jorge Daniel Villa Herná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Ministerio de Educación Sup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Grupo de Trabajo IPv6 Cu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villa@reduniv.edu.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838080"/>
            <a:ext cx="89154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IPv6 (Internet Protocol version 6)</a:t>
            </a: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 es el mas reciente desarrollo del protocolo 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Sus especificaciones han sido diseñadas por la Fuerza de Tareas de Ingeniería para Internet (IETF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IPv6 es consecuente con las tecnologías desarrolladas en base al protocolo IPv4, reelaboradas según una nueva filosofí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Verdana"/>
              </a:rPr>
              <a:t>Resuelve eficientemente las limitaciones nativas de IPv4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8680" y="3168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Qué es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15920" y="762120"/>
            <a:ext cx="8433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Definición de los Estándares Fundamentales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1993-200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15920" y="2112840"/>
            <a:ext cx="81280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roductos básicos para redes y Salida de Plataformas al Mercado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0-2003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15920" y="1284120"/>
            <a:ext cx="76708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royectos y Redes Pilotos en Internet, Laboratorios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1996-200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5920" y="2941560"/>
            <a:ext cx="78231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laneación y Elaboración de Propuestas Estratégicas (RFP’s)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3-2007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15920" y="4599000"/>
            <a:ext cx="81280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Comienzo de Infraestructura IPv6 de los ISP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4-2007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15920" y="3770280"/>
            <a:ext cx="80805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Desarrollo de Aplicaciones para plataformas heterogéne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4-2006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5920" y="5951520"/>
            <a:ext cx="81280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Evolución como estándar De Jure y De Facto, Desarrollo de Modelos, Nuevas Opciones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0-????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5920" y="5427720"/>
            <a:ext cx="57722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Sistemas y Redes Completas IPv6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(200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352320" y="-360"/>
            <a:ext cx="5791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Ruta de desarrollo de IPv6</a:t>
            </a:r>
            <a:endParaRPr b="0" lang="en-US" sz="24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838480" y="316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Qué mejora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0360" y="1066680"/>
            <a:ext cx="4329360" cy="3111480"/>
            <a:chOff x="90360" y="1066680"/>
            <a:chExt cx="4329360" cy="3111480"/>
          </a:xfrm>
        </p:grpSpPr>
        <p:sp>
          <p:nvSpPr>
            <p:cNvPr id="211" name=""/>
            <p:cNvSpPr/>
            <p:nvPr/>
          </p:nvSpPr>
          <p:spPr>
            <a:xfrm>
              <a:off x="3119400" y="1712880"/>
              <a:ext cx="13003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ragment Offse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8280" y="1712880"/>
              <a:ext cx="6811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lags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8280" y="1066680"/>
              <a:ext cx="1981440" cy="64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otal Length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84120" y="1066680"/>
              <a:ext cx="1154160" cy="64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ype of Service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0160" y="1066680"/>
              <a:ext cx="45396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IH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21000" y="3811680"/>
              <a:ext cx="109872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Padding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0360" y="3811680"/>
              <a:ext cx="3230640" cy="36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ptions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360" y="3409920"/>
              <a:ext cx="4329360" cy="40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1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360" y="3008160"/>
              <a:ext cx="4329360" cy="40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1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2359080"/>
              <a:ext cx="1981440" cy="649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Header Checksum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84120" y="2359080"/>
              <a:ext cx="1154160" cy="649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Protocol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0360" y="2359080"/>
              <a:ext cx="1193760" cy="649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ime to Live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360" y="1712880"/>
              <a:ext cx="2347920" cy="646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Identification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360" y="1066680"/>
              <a:ext cx="739800" cy="646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0360" y="17128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360" y="23590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360" y="300816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360" y="340992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360" y="3811680"/>
              <a:ext cx="432936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84120" y="2359080"/>
              <a:ext cx="0" cy="6490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0160" y="10666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84120" y="10666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38280" y="1066680"/>
              <a:ext cx="0" cy="19414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19400" y="1712880"/>
              <a:ext cx="0" cy="64620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21000" y="3811680"/>
              <a:ext cx="0" cy="3664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360" y="1066680"/>
              <a:ext cx="43293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360" y="1066680"/>
              <a:ext cx="0" cy="311148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19720" y="1066680"/>
              <a:ext cx="0" cy="311148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0360" y="4178160"/>
              <a:ext cx="43293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24280" y="1066680"/>
            <a:ext cx="4343400" cy="4572000"/>
            <a:chOff x="4724280" y="1066680"/>
            <a:chExt cx="4343400" cy="4572000"/>
          </a:xfrm>
        </p:grpSpPr>
        <p:sp>
          <p:nvSpPr>
            <p:cNvPr id="241" name=""/>
            <p:cNvSpPr/>
            <p:nvPr/>
          </p:nvSpPr>
          <p:spPr>
            <a:xfrm>
              <a:off x="68644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Next Header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660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Hop Limi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97800" y="1066680"/>
              <a:ext cx="2369880" cy="885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Flow Labe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5880" y="1066680"/>
              <a:ext cx="1231920" cy="885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raffic Class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4181400"/>
              <a:ext cx="4343400" cy="145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24280" y="2754360"/>
              <a:ext cx="4343400" cy="142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4280" y="1952640"/>
              <a:ext cx="21402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Payload Length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24280" y="1066680"/>
              <a:ext cx="741600" cy="88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195264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275436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5638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4280" y="418140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6588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9780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660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644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24280" y="1066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42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0676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067040" y="609480"/>
            <a:ext cx="2634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ncabezado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44080" y="609480"/>
            <a:ext cx="2634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ncabezad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57200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502920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541008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867280"/>
            <a:ext cx="32868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80808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506840"/>
            <a:ext cx="34290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anchorCtr="1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mantienen su nombre IPv4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se eliminan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s que cambian de nombre y posición en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ampo nuevo en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1295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143000"/>
            <a:ext cx="3581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90720" y="2590920"/>
            <a:ext cx="739116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2438280"/>
            <a:ext cx="48006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838480" y="316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Qué mejora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131840"/>
            <a:ext cx="82296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spacio de direcciones de 128 bits, lo cual permite direccionar (teóricamente)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2 </a:t>
            </a:r>
            <a:r>
              <a:rPr b="0" lang="es-ES_tradnl" sz="2400" spc="-1" strike="noStrike" baseline="30000">
                <a:solidFill>
                  <a:srgbClr val="ff9900"/>
                </a:solidFill>
                <a:latin typeface="Verdana"/>
              </a:rPr>
              <a:t>128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 dispositivos (</a:t>
            </a:r>
            <a:r>
              <a:rPr b="0" lang="es-ES_tradnl" sz="2400" spc="-1" strike="noStrike">
                <a:solidFill>
                  <a:srgbClr val="00cccc"/>
                </a:solidFill>
                <a:latin typeface="Verdana"/>
              </a:rPr>
              <a:t>340,282,366,920,938,463,463,374,607,431,768,211,456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La manera en que se construye espacio de direcciones IPv6 permite lograr una mas fácil autoconfigu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Menos esfuerzo de administración en configuración de usuarios corporativ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Facilidades para el correcto desempeño de IP Móv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Facilita la construcción de redes domésti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838480" y="316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Qué mejora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1069920"/>
            <a:ext cx="822960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apacidad para permitir Autenticación y Privacida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Incluye </a:t>
            </a:r>
            <a:r>
              <a:rPr b="0" lang="es-ES_tradnl" sz="2000" spc="-1" strike="noStrike">
                <a:solidFill>
                  <a:srgbClr val="ff9900"/>
                </a:solidFill>
                <a:latin typeface="Verdana"/>
              </a:rPr>
              <a:t>Ipsec</a:t>
            </a: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 de manera obligatoria, lo cual permite garantizar Seguridad de Extremo a Extre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structura mas flexible de los paquetes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Más extensi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Más rápido de proces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osibilidades nativas para garantizar Calidad de Servic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Mejor administración de direcciones, lo cual implica mayores facilidades de enrut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603040" y="316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Para quién es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1131840"/>
            <a:ext cx="8229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omunicaciones Inalámbric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Redes Domést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ndustria de Juegos, equipos de consumo y PCs domést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roveedores de Servicio (IS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nstituciones Gubernamentales y Milita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mpresa y Sector Produc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Desarrolladores de Soft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Sector Académico y Centros de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2438280"/>
            <a:ext cx="36576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2438280"/>
            <a:ext cx="914400" cy="30492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7315200" cy="3049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24382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90360" y="2743200"/>
            <a:ext cx="152280" cy="30492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2743200"/>
            <a:ext cx="0" cy="38088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2438280"/>
            <a:ext cx="228600" cy="304920"/>
          </a:xfrm>
          <a:prstGeom prst="rect">
            <a:avLst/>
          </a:prstGeom>
          <a:solidFill>
            <a:srgbClr val="cc99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438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cc"/>
                </a:solidFill>
                <a:latin typeface="Arial"/>
              </a:rPr>
              <a:t>Global Routing Prefi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L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048120"/>
            <a:ext cx="533520" cy="307080"/>
          </a:xfrm>
          <a:prstGeom prst="rect">
            <a:avLst/>
          </a:prstGeom>
          <a:solidFill>
            <a:srgbClr val="cc99ff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cc"/>
                </a:solidFill>
                <a:latin typeface="Arial"/>
              </a:rPr>
              <a:t>00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1981080"/>
            <a:ext cx="30492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1981080"/>
            <a:ext cx="3657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64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981080"/>
            <a:ext cx="2514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45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198108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6 b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1447920"/>
            <a:ext cx="27432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9160" y="1143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88080" y="11430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77080" y="114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44792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1447920"/>
            <a:ext cx="36576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327672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74400" y="308772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dica que es una dirección unic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505320"/>
            <a:ext cx="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274320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4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2094840" y="293364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04760" y="46483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opología Públ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6514560" y="293364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61200" y="46483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Interfaz Loc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86040" y="459108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opolo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e sit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228920" y="399996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50360" y="34686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T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74400" y="346860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N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6840" y="5289480"/>
            <a:ext cx="43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T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Top level Ag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N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Next Level Ag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SL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Site Level Agrgre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2232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3996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51120" y="1943280"/>
            <a:ext cx="914400" cy="4824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68760" y="1943280"/>
            <a:ext cx="914400" cy="4824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9920" y="1943280"/>
            <a:ext cx="3649680" cy="48240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77760" y="1994040"/>
            <a:ext cx="7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92160" y="2006640"/>
            <a:ext cx="7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04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21040" y="1778040"/>
            <a:ext cx="0" cy="140976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70200" y="1752480"/>
            <a:ext cx="12960" cy="172728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91080" y="1752480"/>
            <a:ext cx="0" cy="210816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5480" y="289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ISP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5480" y="32637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Site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5480" y="36320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LAN pref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31840" y="3467160"/>
            <a:ext cx="16002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20760" y="3809880"/>
            <a:ext cx="243864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41680" y="14605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3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14479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4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17840" y="14479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6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94040" y="3086280"/>
            <a:ext cx="90144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880" y="2529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RI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22640" y="1778040"/>
            <a:ext cx="0" cy="1104840"/>
          </a:xfrm>
          <a:prstGeom prst="line">
            <a:avLst/>
          </a:prstGeom>
          <a:ln w="255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43280" y="1460520"/>
            <a:ext cx="5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/2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2057400"/>
            <a:ext cx="1390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63280" y="838080"/>
            <a:ext cx="77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Proceso de localización de direcciones por la IA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95280" y="2743200"/>
            <a:ext cx="9018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384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Trebuchet MS"/>
              </a:rPr>
              <a:t>Referencias adicionales </a:t>
            </a: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http://www.iana.org/ipaddress/ip-addresses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6362280" y="125712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89680" y="2971800"/>
            <a:ext cx="40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nstruidas según EUI-6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xpandida de la dirección MAC </a:t>
            </a:r>
            <a:r>
              <a:rPr b="0" i="1" lang="es-ES" sz="2400" spc="-1" strike="noStrike">
                <a:solidFill>
                  <a:srgbClr val="ffffcc"/>
                </a:solidFill>
                <a:latin typeface="Trebuchet MS"/>
              </a:rPr>
              <a:t>(48 bit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Valor seudo-aleatorio (autogenerado) </a:t>
            </a:r>
            <a:r>
              <a:rPr b="0" i="1" lang="es-ES" sz="2400" spc="-1" strike="noStrike">
                <a:solidFill>
                  <a:srgbClr val="33cccc"/>
                </a:solidFill>
                <a:latin typeface="Trebuchet MS"/>
              </a:rPr>
              <a:t>(RFC 304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signado por DHC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nfiguración man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5486400"/>
            <a:ext cx="502920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031:0000:130F:0000:0000:09C0:876A:130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44560" y="57769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presentación Hexadeci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2666880" y="5866920"/>
            <a:ext cx="1905120" cy="265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609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RFC3513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:Internet Protocol Version 6 (IPv6) Addressing Archite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39840" y="1295280"/>
            <a:ext cx="2875320" cy="39888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Direccionamiento 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7160" y="2013120"/>
            <a:ext cx="1269000" cy="3988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00640" y="2013120"/>
            <a:ext cx="1108800" cy="398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Anyca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57120" y="2013120"/>
            <a:ext cx="1067760" cy="39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920" y="3003480"/>
            <a:ext cx="1267200" cy="3988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Assign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81760" y="3003480"/>
            <a:ext cx="1915200" cy="3988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Solicited-No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89840" y="3343320"/>
            <a:ext cx="137412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-Loc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34240" y="3301920"/>
            <a:ext cx="1752480" cy="100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Aggregatabl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Glob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68520" y="3343320"/>
            <a:ext cx="1195560" cy="3988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Site-Lin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840" y="5289480"/>
            <a:ext cx="173052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especifi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opbac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99440" y="5289480"/>
            <a:ext cx="1557000" cy="703800"/>
          </a:xfrm>
          <a:prstGeom prst="rect">
            <a:avLst/>
          </a:prstGeom>
          <a:solidFill>
            <a:srgbClr val="33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IPv4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Compati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37240" y="5289480"/>
            <a:ext cx="137412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-Loc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60560" y="5289480"/>
            <a:ext cx="1872360" cy="703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Aggregatabl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Glob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1480" y="5289480"/>
            <a:ext cx="1195560" cy="3988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Site-Lin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490212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7712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45820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490212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2692440"/>
            <a:ext cx="2057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69244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14600" y="269244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292104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610480" y="292104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1680" y="292104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2921040"/>
            <a:ext cx="3809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463840"/>
            <a:ext cx="0" cy="2438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246384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20120" y="246384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170172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1473120"/>
            <a:ext cx="1752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473120"/>
            <a:ext cx="1752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147312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0120" y="147312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7640" y="34164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00::/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8280" y="346860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02::1:FF00:0000/10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65080" y="37735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80::/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55920" y="37591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C0::/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72920" y="4002120"/>
            <a:ext cx="117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001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002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3FFE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04280" y="575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80::/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0400" y="57405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FC0::/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12480" y="5983200"/>
            <a:ext cx="117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001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002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3FFE::/1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92960" y="60451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:0:0:0:0:0::/9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9560" y="60451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::/12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::1/12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5800" y="685800"/>
            <a:ext cx="7162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0:0:0:0:0:0:192.168.30.1 = ::192.168.30.1 = ::C0A8:1E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17400" y="1266840"/>
            <a:ext cx="70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presentación de direcciones compatibles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819520" y="1038240"/>
            <a:ext cx="1828800" cy="264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rcRect l="8758" t="11334" r="8758" b="34001"/>
          <a:stretch/>
        </p:blipFill>
        <p:spPr>
          <a:xfrm>
            <a:off x="380880" y="2271600"/>
            <a:ext cx="8305920" cy="4129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30001" t="26000" r="20001" b="28671"/>
          <a:stretch/>
        </p:blipFill>
        <p:spPr>
          <a:xfrm>
            <a:off x="2133720" y="1752480"/>
            <a:ext cx="6476760" cy="4405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93560" y="3168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Crecimiento de 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88880" y="608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EUI-6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53840" y="836640"/>
            <a:ext cx="751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Dirección MAC: 00:08:02:A2:BC:B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Paso 1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Insertar FFFE al centro de la dirección M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           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00:08:02: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FF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: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FE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:A2:BC:B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Paso 2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Hacer Bit 7 = 1 (Dirección Agregable Glob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                       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Bit 7 = 0 (Dirección Loc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02:08:02: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FF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: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FE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:A2:BC:BF = 208:02FF:FEA2:BCB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6520" y="316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ireccionamiento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800" y="32749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URLs con direccione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50840" y="37339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http:[2001:410:0:1:250:fcee:e450:33ab]:8443/abc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0080" y="4265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División en Subre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70120" y="487512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2001:410:0::/48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(red con 2</a:t>
            </a:r>
            <a:r>
              <a:rPr b="0" lang="es-ES" sz="2400" spc="-1" strike="noStrike" baseline="30000">
                <a:solidFill>
                  <a:srgbClr val="ffffcc"/>
                </a:solidFill>
                <a:latin typeface="Trebuchet MS"/>
              </a:rPr>
              <a:t>16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subred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2001:410:0:1::/64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(red con 2</a:t>
            </a:r>
            <a:r>
              <a:rPr b="0" lang="es-ES" sz="2400" spc="-1" strike="noStrike" baseline="30000">
                <a:solidFill>
                  <a:srgbClr val="ffffcc"/>
                </a:solidFill>
                <a:latin typeface="Trebuchet MS"/>
              </a:rPr>
              <a:t>64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host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2001:410:0:1:0:0:0:45FF/128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(dirección de un hos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360" y="632304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hay direcciones reservadas para red y broadc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21964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0976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01080" y="1295280"/>
            <a:ext cx="0" cy="6858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686480" y="1143000"/>
            <a:ext cx="906120" cy="5335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819840" y="11430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1028880" y="914400"/>
            <a:ext cx="909360" cy="822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181160" y="1981080"/>
            <a:ext cx="6553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05808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0928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.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92436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7556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.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943280" y="1828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44720" y="15238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. 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12720" y="31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utoconfiguración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2286000"/>
            <a:ext cx="5105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1 - ICMP Type = 133 (R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Src = :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Dst =</a:t>
            </a: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All-Routers multicast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query= please send 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33840" y="2290680"/>
            <a:ext cx="4915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2 - ICMP Type = 134 (R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cccc"/>
                </a:solidFill>
                <a:latin typeface="Arial"/>
              </a:rPr>
              <a:t>Src = Router Link-local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00"/>
                </a:solidFill>
                <a:latin typeface="Arial"/>
              </a:rPr>
              <a:t>Dst = All-nodes multicast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cc"/>
                </a:solidFill>
                <a:latin typeface="Arial"/>
              </a:rPr>
              <a:t>Data= options, prefix, lifetime, autoconfig fla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70280" y="457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Stateless </a:t>
            </a:r>
            <a:r>
              <a:rPr b="1" i="1" lang="es-ES" sz="2400" spc="-1" strike="noStrike">
                <a:solidFill>
                  <a:srgbClr val="33cccc"/>
                </a:solidFill>
                <a:latin typeface="Trebuchet MS"/>
              </a:rPr>
              <a:t>(RFC 246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44000" y="6400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Stateful DHCPv6 </a:t>
            </a:r>
            <a:r>
              <a:rPr b="1" i="1" lang="es-ES" sz="2400" spc="-1" strike="noStrike">
                <a:solidFill>
                  <a:srgbClr val="33cccc"/>
                </a:solidFill>
                <a:latin typeface="Trebuchet MS"/>
              </a:rPr>
              <a:t>(RFC 331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10360" y="5045040"/>
            <a:ext cx="1604880" cy="1023840"/>
          </a:xfrm>
          <a:prstGeom prst="rightArrow">
            <a:avLst>
              <a:gd name="adj1" fmla="val 50000"/>
              <a:gd name="adj2" fmla="val 39188"/>
            </a:avLst>
          </a:prstGeom>
          <a:gradFill rotWithShape="0">
            <a:gsLst>
              <a:gs pos="0">
                <a:srgbClr val="745b15"/>
              </a:gs>
              <a:gs pos="50000">
                <a:srgbClr val="fdc72f"/>
              </a:gs>
              <a:gs pos="100000">
                <a:srgbClr val="745b15"/>
              </a:gs>
            </a:gsLst>
            <a:lin ang="13500000"/>
          </a:gradFill>
          <a:ln w="9360">
            <a:solidFill>
              <a:srgbClr val="fed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72200" y="4368960"/>
            <a:ext cx="15238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040" rIns="131040" tIns="65520" bIns="65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RA indica 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65720" y="4844880"/>
            <a:ext cx="530280" cy="1800"/>
          </a:xfrm>
          <a:prstGeom prst="line">
            <a:avLst/>
          </a:prstGeom>
          <a:ln w="57240">
            <a:solidFill>
              <a:srgbClr val="3ce2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4560" bIns="-345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10360" y="5557680"/>
            <a:ext cx="34398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10360" y="4886280"/>
            <a:ext cx="0" cy="13701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8200" y="5557680"/>
            <a:ext cx="0" cy="698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05800" y="4886280"/>
            <a:ext cx="0" cy="671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6715080" y="5872320"/>
            <a:ext cx="660600" cy="5968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7375680" y="4756320"/>
            <a:ext cx="660240" cy="5968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6"/>
          <a:stretch/>
        </p:blipFill>
        <p:spPr>
          <a:xfrm>
            <a:off x="5421240" y="5313240"/>
            <a:ext cx="835200" cy="489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139160" y="4191120"/>
            <a:ext cx="2004840" cy="49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 + MAC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39160" y="5867280"/>
            <a:ext cx="2004840" cy="49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SUBNET PREFIX + MAC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401160" y="316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abecer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495680" y="4610160"/>
            <a:ext cx="1904400" cy="1028160"/>
            <a:chOff x="4495680" y="4610160"/>
            <a:chExt cx="1904400" cy="1028160"/>
          </a:xfrm>
        </p:grpSpPr>
        <p:grpSp>
          <p:nvGrpSpPr>
            <p:cNvPr id="443" name=""/>
            <p:cNvGrpSpPr/>
            <p:nvPr/>
          </p:nvGrpSpPr>
          <p:grpSpPr>
            <a:xfrm>
              <a:off x="4495680" y="4610160"/>
              <a:ext cx="1904400" cy="1028160"/>
              <a:chOff x="4495680" y="4610160"/>
              <a:chExt cx="1904400" cy="1028160"/>
            </a:xfrm>
          </p:grpSpPr>
          <p:sp>
            <p:nvSpPr>
              <p:cNvPr id="444" name=""/>
              <p:cNvSpPr/>
              <p:nvPr/>
            </p:nvSpPr>
            <p:spPr>
              <a:xfrm>
                <a:off x="4505760" y="478836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95680" y="461016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60320" y="461016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722840" y="4991040"/>
              <a:ext cx="1193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04920" y="4610160"/>
            <a:ext cx="1906200" cy="1029960"/>
            <a:chOff x="304920" y="4610160"/>
            <a:chExt cx="1906200" cy="1029960"/>
          </a:xfrm>
        </p:grpSpPr>
        <p:grpSp>
          <p:nvGrpSpPr>
            <p:cNvPr id="449" name=""/>
            <p:cNvGrpSpPr/>
            <p:nvPr/>
          </p:nvGrpSpPr>
          <p:grpSpPr>
            <a:xfrm>
              <a:off x="304920" y="4610160"/>
              <a:ext cx="1906200" cy="1029960"/>
              <a:chOff x="304920" y="4610160"/>
              <a:chExt cx="1906200" cy="1029960"/>
            </a:xfrm>
          </p:grpSpPr>
          <p:sp>
            <p:nvSpPr>
              <p:cNvPr id="450" name=""/>
              <p:cNvSpPr/>
              <p:nvPr/>
            </p:nvSpPr>
            <p:spPr>
              <a:xfrm>
                <a:off x="314280" y="4788720"/>
                <a:ext cx="1645920" cy="84276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4920" y="461016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970640" y="4610160"/>
                <a:ext cx="24048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30640" y="483876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Routing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358720" y="4610160"/>
            <a:ext cx="1984320" cy="1029960"/>
            <a:chOff x="2358720" y="4610160"/>
            <a:chExt cx="1984320" cy="1029960"/>
          </a:xfrm>
        </p:grpSpPr>
        <p:grpSp>
          <p:nvGrpSpPr>
            <p:cNvPr id="455" name=""/>
            <p:cNvGrpSpPr/>
            <p:nvPr/>
          </p:nvGrpSpPr>
          <p:grpSpPr>
            <a:xfrm>
              <a:off x="2362320" y="4610160"/>
              <a:ext cx="1980720" cy="1029960"/>
              <a:chOff x="2362320" y="4610160"/>
              <a:chExt cx="1980720" cy="1029960"/>
            </a:xfrm>
          </p:grpSpPr>
          <p:sp>
            <p:nvSpPr>
              <p:cNvPr id="456" name=""/>
              <p:cNvSpPr/>
              <p:nvPr/>
            </p:nvSpPr>
            <p:spPr>
              <a:xfrm>
                <a:off x="2372040" y="47883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62320" y="4610160"/>
                <a:ext cx="198072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092840" y="46101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58720" y="4991400"/>
              <a:ext cx="1783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Routing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362320" y="3314880"/>
            <a:ext cx="1904400" cy="1028160"/>
            <a:chOff x="2362320" y="3314880"/>
            <a:chExt cx="1904400" cy="1028160"/>
          </a:xfrm>
        </p:grpSpPr>
        <p:grpSp>
          <p:nvGrpSpPr>
            <p:cNvPr id="461" name=""/>
            <p:cNvGrpSpPr/>
            <p:nvPr/>
          </p:nvGrpSpPr>
          <p:grpSpPr>
            <a:xfrm>
              <a:off x="2362320" y="3314880"/>
              <a:ext cx="1904400" cy="1028160"/>
              <a:chOff x="2362320" y="3314880"/>
              <a:chExt cx="1904400" cy="1028160"/>
            </a:xfrm>
          </p:grpSpPr>
          <p:sp>
            <p:nvSpPr>
              <p:cNvPr id="462" name=""/>
              <p:cNvSpPr/>
              <p:nvPr/>
            </p:nvSpPr>
            <p:spPr>
              <a:xfrm>
                <a:off x="2372400" y="349308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62320" y="331488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026960" y="331488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2589480" y="3695760"/>
              <a:ext cx="1193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04920" y="3314880"/>
            <a:ext cx="1906200" cy="1029600"/>
            <a:chOff x="304920" y="3314880"/>
            <a:chExt cx="1906200" cy="1029600"/>
          </a:xfrm>
        </p:grpSpPr>
        <p:grpSp>
          <p:nvGrpSpPr>
            <p:cNvPr id="467" name=""/>
            <p:cNvGrpSpPr/>
            <p:nvPr/>
          </p:nvGrpSpPr>
          <p:grpSpPr>
            <a:xfrm>
              <a:off x="304920" y="3314880"/>
              <a:ext cx="1906200" cy="1029600"/>
              <a:chOff x="304920" y="3314880"/>
              <a:chExt cx="1906200" cy="1029600"/>
            </a:xfrm>
          </p:grpSpPr>
          <p:sp>
            <p:nvSpPr>
              <p:cNvPr id="468" name=""/>
              <p:cNvSpPr/>
              <p:nvPr/>
            </p:nvSpPr>
            <p:spPr>
              <a:xfrm>
                <a:off x="314280" y="3493080"/>
                <a:ext cx="1645920" cy="84240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4920" y="331488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70640" y="3314880"/>
                <a:ext cx="240480" cy="102960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530640" y="354312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04920" y="5751360"/>
            <a:ext cx="1906200" cy="1029960"/>
            <a:chOff x="304920" y="5751360"/>
            <a:chExt cx="1906200" cy="1029960"/>
          </a:xfrm>
        </p:grpSpPr>
        <p:grpSp>
          <p:nvGrpSpPr>
            <p:cNvPr id="473" name=""/>
            <p:cNvGrpSpPr/>
            <p:nvPr/>
          </p:nvGrpSpPr>
          <p:grpSpPr>
            <a:xfrm>
              <a:off x="304920" y="5751360"/>
              <a:ext cx="1906200" cy="1029960"/>
              <a:chOff x="304920" y="5751360"/>
              <a:chExt cx="1906200" cy="1029960"/>
            </a:xfrm>
          </p:grpSpPr>
          <p:sp>
            <p:nvSpPr>
              <p:cNvPr id="474" name=""/>
              <p:cNvSpPr/>
              <p:nvPr/>
            </p:nvSpPr>
            <p:spPr>
              <a:xfrm>
                <a:off x="314280" y="5929920"/>
                <a:ext cx="1645920" cy="842760"/>
              </a:xfrm>
              <a:prstGeom prst="rect">
                <a:avLst/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4920" y="5751360"/>
                <a:ext cx="19062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091b7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970640" y="5751360"/>
                <a:ext cx="24048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3f50"/>
              </a:solidFill>
              <a:ln cap="rnd" w="12600">
                <a:solidFill>
                  <a:srgbClr val="03c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530640" y="5979960"/>
              <a:ext cx="127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= Routing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362320" y="5751360"/>
            <a:ext cx="1980720" cy="1029960"/>
            <a:chOff x="2362320" y="5751360"/>
            <a:chExt cx="1980720" cy="1029960"/>
          </a:xfrm>
        </p:grpSpPr>
        <p:grpSp>
          <p:nvGrpSpPr>
            <p:cNvPr id="479" name=""/>
            <p:cNvGrpSpPr/>
            <p:nvPr/>
          </p:nvGrpSpPr>
          <p:grpSpPr>
            <a:xfrm>
              <a:off x="2362320" y="5751360"/>
              <a:ext cx="1980720" cy="1029960"/>
              <a:chOff x="2362320" y="5751360"/>
              <a:chExt cx="1980720" cy="1029960"/>
            </a:xfrm>
          </p:grpSpPr>
          <p:sp>
            <p:nvSpPr>
              <p:cNvPr id="480" name=""/>
              <p:cNvSpPr/>
              <p:nvPr/>
            </p:nvSpPr>
            <p:spPr>
              <a:xfrm>
                <a:off x="2372040" y="59295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62320" y="5751360"/>
                <a:ext cx="198072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92840" y="57513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2511720" y="5979960"/>
              <a:ext cx="1509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Routing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492080" y="5751360"/>
            <a:ext cx="1984680" cy="1029960"/>
            <a:chOff x="4492080" y="5751360"/>
            <a:chExt cx="1984680" cy="1029960"/>
          </a:xfrm>
        </p:grpSpPr>
        <p:grpSp>
          <p:nvGrpSpPr>
            <p:cNvPr id="485" name=""/>
            <p:cNvGrpSpPr/>
            <p:nvPr/>
          </p:nvGrpSpPr>
          <p:grpSpPr>
            <a:xfrm>
              <a:off x="4495680" y="5751360"/>
              <a:ext cx="1981080" cy="1029960"/>
              <a:chOff x="4495680" y="5751360"/>
              <a:chExt cx="1981080" cy="1029960"/>
            </a:xfrm>
          </p:grpSpPr>
          <p:sp>
            <p:nvSpPr>
              <p:cNvPr id="486" name=""/>
              <p:cNvSpPr/>
              <p:nvPr/>
            </p:nvSpPr>
            <p:spPr>
              <a:xfrm>
                <a:off x="4505400" y="5929560"/>
                <a:ext cx="1710360" cy="842760"/>
              </a:xfrm>
              <a:prstGeom prst="rect">
                <a:avLst/>
              </a:prstGeom>
              <a:gradFill rotWithShape="0">
                <a:gsLst>
                  <a:gs pos="0">
                    <a:srgbClr val="3d040e"/>
                  </a:gs>
                  <a:gs pos="50000">
                    <a:srgbClr val="cf0e30"/>
                  </a:gs>
                  <a:gs pos="100000">
                    <a:srgbClr val="3d040e"/>
                  </a:gs>
                </a:gsLst>
                <a:lin ang="13500000"/>
              </a:gradFill>
              <a:ln w="12600">
                <a:solidFill>
                  <a:srgbClr val="f68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495680" y="5751360"/>
                <a:ext cx="1981080" cy="17316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5405d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26560" y="5751360"/>
                <a:ext cx="249840" cy="10299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f6829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4492080" y="6132600"/>
              <a:ext cx="1783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Next Header = TCP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705720" y="5753160"/>
            <a:ext cx="1904400" cy="1028160"/>
            <a:chOff x="6705720" y="5753160"/>
            <a:chExt cx="1904400" cy="1028160"/>
          </a:xfrm>
        </p:grpSpPr>
        <p:grpSp>
          <p:nvGrpSpPr>
            <p:cNvPr id="491" name=""/>
            <p:cNvGrpSpPr/>
            <p:nvPr/>
          </p:nvGrpSpPr>
          <p:grpSpPr>
            <a:xfrm>
              <a:off x="6705720" y="5753160"/>
              <a:ext cx="1904400" cy="1028160"/>
              <a:chOff x="6705720" y="5753160"/>
              <a:chExt cx="1904400" cy="1028160"/>
            </a:xfrm>
          </p:grpSpPr>
          <p:sp>
            <p:nvSpPr>
              <p:cNvPr id="492" name=""/>
              <p:cNvSpPr/>
              <p:nvPr/>
            </p:nvSpPr>
            <p:spPr>
              <a:xfrm>
                <a:off x="6715800" y="5931360"/>
                <a:ext cx="1644480" cy="840960"/>
              </a:xfrm>
              <a:prstGeom prst="rect">
                <a:avLst/>
              </a:prstGeom>
              <a:gradFill rotWithShape="0">
                <a:gsLst>
                  <a:gs pos="0">
                    <a:srgbClr val="402900"/>
                  </a:gs>
                  <a:gs pos="50000">
                    <a:srgbClr val="c27c00"/>
                  </a:gs>
                  <a:gs pos="100000">
                    <a:srgbClr val="402900"/>
                  </a:gs>
                </a:gsLst>
                <a:lin ang="13500000"/>
              </a:gradFill>
              <a:ln w="12600">
                <a:solidFill>
                  <a:srgbClr val="ffb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05720" y="5753160"/>
                <a:ext cx="1904400" cy="172800"/>
              </a:xfrm>
              <a:custGeom>
                <a:avLst/>
                <a:gdLst/>
                <a:ahLst/>
                <a:rect l="l" t="t" r="r" b="b"/>
                <a:pathLst>
                  <a:path w="769" h="97">
                    <a:moveTo>
                      <a:pt x="0" y="96"/>
                    </a:moveTo>
                    <a:lnTo>
                      <a:pt x="96" y="0"/>
                    </a:lnTo>
                    <a:lnTo>
                      <a:pt x="768" y="0"/>
                    </a:lnTo>
                    <a:lnTo>
                      <a:pt x="672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090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370360" y="5753160"/>
                <a:ext cx="239760" cy="10281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576"/>
                    </a:moveTo>
                    <a:lnTo>
                      <a:pt x="96" y="48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724900"/>
              </a:solidFill>
              <a:ln w="12600">
                <a:solidFill>
                  <a:srgbClr val="ffb7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6931800" y="5981760"/>
              <a:ext cx="1244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Fragment of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TCP Head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cc"/>
                  </a:solidFill>
                  <a:latin typeface="arial"/>
                </a:rPr>
                <a:t>+ 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98320" y="45720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Definición de cabeceras IPv6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i="1" lang="es-ES" sz="2400" spc="-1" strike="noStrike">
                <a:solidFill>
                  <a:srgbClr val="33cccc"/>
                </a:solidFill>
                <a:latin typeface="Trebuchet MS"/>
              </a:rPr>
              <a:t>(RFC 246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67080" y="990720"/>
            <a:ext cx="4876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Hop-by-Hop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Destination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Routing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Fragment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Authentication header </a:t>
            </a:r>
            <a:r>
              <a:rPr b="0" i="1" lang="es-ES" sz="2000" spc="-1" strike="noStrike">
                <a:solidFill>
                  <a:srgbClr val="33cccc"/>
                </a:solidFill>
                <a:latin typeface="Trebuchet MS"/>
              </a:rPr>
              <a:t>(RFC 1826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Encapsulating Security Payload header </a:t>
            </a:r>
            <a:r>
              <a:rPr b="0" i="1" lang="es-ES" sz="2000" spc="-1" strike="noStrike">
                <a:solidFill>
                  <a:srgbClr val="33cccc"/>
                </a:solidFill>
                <a:latin typeface="Trebuchet MS"/>
              </a:rPr>
              <a:t>(RFC 1827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Destination Options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upper-layer hea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398280" y="31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Seguridad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09440" y="87804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abeceras de Autenticación </a:t>
            </a:r>
            <a:r>
              <a:rPr b="0" i="1" lang="en-US" sz="2400" spc="-1" strike="noStrike">
                <a:solidFill>
                  <a:srgbClr val="00cccc"/>
                </a:solidFill>
                <a:latin typeface="Trebuchet MS"/>
              </a:rPr>
              <a:t>(RFC 24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133524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osibilita autenticación y confiabilidad del origen de los da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incluye integridad de los datos pues el datagrama IPv6 no es encripta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MD5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es el algoritmo propuesto para estas fun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odo esto ayudará a eliminar algunos ataques comunes como </a:t>
            </a: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IP Spoofing y Host Masquer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Nota: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Es importante evaluar las restricciones de exportaciones de tecnolo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398280" y="31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Seguridad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50840" y="6094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abeceras de Encriptación </a:t>
            </a:r>
            <a:r>
              <a:rPr b="0" i="1" lang="en-US" sz="2400" spc="-1" strike="noStrike">
                <a:solidFill>
                  <a:srgbClr val="00cccc"/>
                </a:solidFill>
                <a:latin typeface="Trebuchet MS"/>
              </a:rPr>
              <a:t>(RFC 240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1066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Brinda integridad y confidencialidad a los datagramas IPv6. Utiliza el algoritmo </a:t>
            </a:r>
            <a:r>
              <a:rPr b="1" lang="es-ES" sz="2400" spc="-1" strike="noStrike">
                <a:solidFill>
                  <a:srgbClr val="ffffcc"/>
                </a:solidFill>
                <a:latin typeface="Trebuchet MS"/>
              </a:rPr>
              <a:t>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 el encabezado de nivel de transporte y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uede encriptarse el datagrama IPv6 completo de ser necesa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3701880"/>
            <a:ext cx="1447560" cy="642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880" y="3701880"/>
            <a:ext cx="152424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3701880"/>
            <a:ext cx="15238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E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3701880"/>
            <a:ext cx="2971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cabezado de transporte y los da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38480" y="5254560"/>
            <a:ext cx="1447920" cy="5806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10080" y="5254560"/>
            <a:ext cx="152424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5254560"/>
            <a:ext cx="2209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transporte y los dat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320" y="5254560"/>
            <a:ext cx="1295280" cy="5806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Encabezado IPv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5254560"/>
            <a:ext cx="144792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de extens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5254560"/>
            <a:ext cx="137160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ncabezado ES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5400000">
            <a:off x="1904400" y="4495680"/>
            <a:ext cx="457200" cy="3352680"/>
          </a:xfrm>
          <a:custGeom>
            <a:avLst/>
            <a:gdLst>
              <a:gd name="textAreaLeft" fmla="*/ 0 w 457200"/>
              <a:gd name="textAreaRight" fmla="*/ 16488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6324120" y="4572000"/>
            <a:ext cx="457200" cy="3352680"/>
          </a:xfrm>
          <a:custGeom>
            <a:avLst/>
            <a:gdLst>
              <a:gd name="textAreaLeft" fmla="*/ 0 w 457200"/>
              <a:gd name="textAreaRight" fmla="*/ 16488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7"/>
                </a:lnTo>
                <a:cubicBezTo>
                  <a:pt x="10800" y="9787"/>
                  <a:pt x="16200" y="10687"/>
                  <a:pt x="21600" y="10687"/>
                </a:cubicBezTo>
                <a:cubicBezTo>
                  <a:pt x="16200" y="10687"/>
                  <a:pt x="10800" y="11587"/>
                  <a:pt x="10800" y="124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-138960" y="628812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abezados de encapsul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69400" y="6400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Paquet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67080" y="5029200"/>
            <a:ext cx="152424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467480" y="5029200"/>
            <a:ext cx="152424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74400" y="47642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83600" y="4800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5029200"/>
            <a:ext cx="7617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28240" y="50292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16000" y="3092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02560" y="31291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Encri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95680" y="339732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447920" y="3397320"/>
            <a:ext cx="7617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1880" y="32418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714640" y="3241800"/>
            <a:ext cx="762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96920" y="281952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Modo Transpor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52720" y="44197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rebuchet MS"/>
              </a:rPr>
              <a:t>Modo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7419240" y="31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Q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724280" y="1066680"/>
            <a:ext cx="4343400" cy="4572000"/>
            <a:chOff x="4724280" y="1066680"/>
            <a:chExt cx="4343400" cy="4572000"/>
          </a:xfrm>
        </p:grpSpPr>
        <p:sp>
          <p:nvSpPr>
            <p:cNvPr id="534" name=""/>
            <p:cNvSpPr/>
            <p:nvPr/>
          </p:nvSpPr>
          <p:spPr>
            <a:xfrm>
              <a:off x="68644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Next Header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966080" y="1952640"/>
              <a:ext cx="11016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Hop Limit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97800" y="1066680"/>
              <a:ext cx="2369880" cy="885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Flow Label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65880" y="1066680"/>
              <a:ext cx="1231920" cy="885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rebuchet MS"/>
                </a:rPr>
                <a:t>Traffic Class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24280" y="4181400"/>
              <a:ext cx="4343400" cy="145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Destination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24280" y="2754360"/>
              <a:ext cx="4343400" cy="142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rebuchet MS"/>
                </a:rPr>
                <a:t>Source Addres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24280" y="1952640"/>
              <a:ext cx="2140200" cy="801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</a:rPr>
                <a:t>Payload Length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24280" y="1066680"/>
              <a:ext cx="741600" cy="885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Ver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24280" y="195264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24280" y="275436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24280" y="5638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4280" y="4181400"/>
              <a:ext cx="4343400" cy="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6588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97800" y="1066680"/>
              <a:ext cx="0" cy="8859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660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64480" y="1952640"/>
              <a:ext cx="0" cy="8017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24280" y="1066680"/>
              <a:ext cx="43434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242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067680" y="1066680"/>
              <a:ext cx="0" cy="457200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0" y="1676520"/>
            <a:ext cx="4343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0 - uncharacterized traffi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1 - filler traffic such as netnew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2 - unattended data transfer such as e-mai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3 - reserv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4 - attended bulk transfer such as FT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5 - reserv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6 - interactive traffic such as tel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7 - internet control traffic such as SNM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8-15 - para aplicaciones de usuar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580920" y="1676520"/>
            <a:ext cx="2133720" cy="1523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145200" y="3168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dopción de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835200"/>
            <a:ext cx="89154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Todos los principales vendedores de Sistemas Operativos soportan IPv6 en sus nueva versiones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58880" indent="-301680">
              <a:lnSpc>
                <a:spcPct val="100000"/>
              </a:lnSpc>
              <a:spcBef>
                <a:spcPts val="1125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cc"/>
                </a:solidFill>
                <a:latin typeface="Verdana"/>
              </a:rPr>
              <a:t>Apple MAC OS X, HP (HP-UX, True 64, OpenVMS), IBM (zSeries, AIX), Microsoft (Windows XP (service pack 1/Advanced Networking Pack para XP), .NET, CE, 2000 (SP1 y componentes adicionales), 2003 Server), Sun Solaris, BSD, Linu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Los principales proveedores de infraestructura están listos para 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58880" indent="-301680">
              <a:lnSpc>
                <a:spcPct val="100000"/>
              </a:lnSpc>
              <a:spcBef>
                <a:spcPts val="1125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cc"/>
                </a:solidFill>
                <a:latin typeface="Verdana"/>
              </a:rPr>
              <a:t>3Com, Nortel, Cisco Systems (IOS 12.2 T o superior), Juniper, Digital, Hitachi (Gibagit Router GR-2000), Ltd. Merit, Nokia, Telebit AS, Fujistsu, NE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Existen muchas aplicaciones IPv6 disponibles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(www.hs247.co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Xbox y Playstation2 soportan IPv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d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Nokia, Ericsson, Siemens desarrollan bancos de pruebas para IPv6 Móvil y preparan redes de 3ra Gene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291720" y="316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El camino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947880"/>
            <a:ext cx="1500480" cy="449568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rebuchet MS"/>
              </a:rPr>
              <a:t>2007</a:t>
            </a:r>
            <a:r>
              <a:rPr b="1" lang="en-GB" sz="1400" spc="-1" strike="noStrike">
                <a:solidFill>
                  <a:srgbClr val="ffffcc"/>
                </a:solidFill>
                <a:latin typeface="Trebuchet MS"/>
              </a:rPr>
              <a:t>-201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192640" y="947880"/>
            <a:ext cx="919080" cy="4495680"/>
            <a:chOff x="5192640" y="947880"/>
            <a:chExt cx="919080" cy="4495680"/>
          </a:xfrm>
        </p:grpSpPr>
        <p:sp>
          <p:nvSpPr>
            <p:cNvPr id="560" name=""/>
            <p:cNvSpPr/>
            <p:nvPr/>
          </p:nvSpPr>
          <p:spPr>
            <a:xfrm>
              <a:off x="5192640" y="1228680"/>
              <a:ext cx="22968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22320" y="1228680"/>
              <a:ext cx="22968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52360" y="1228680"/>
              <a:ext cx="2293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81680" y="1228680"/>
              <a:ext cx="22968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92640" y="947880"/>
              <a:ext cx="91908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5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267080" y="947880"/>
            <a:ext cx="909720" cy="4495680"/>
            <a:chOff x="4267080" y="947880"/>
            <a:chExt cx="909720" cy="4495680"/>
          </a:xfrm>
        </p:grpSpPr>
        <p:sp>
          <p:nvSpPr>
            <p:cNvPr id="566" name=""/>
            <p:cNvSpPr/>
            <p:nvPr/>
          </p:nvSpPr>
          <p:spPr>
            <a:xfrm>
              <a:off x="426708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9460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22120" y="1228680"/>
              <a:ext cx="22680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4928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67080" y="947880"/>
              <a:ext cx="90972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4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838080" y="947880"/>
            <a:ext cx="1598760" cy="449568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Trebuchet MS"/>
              </a:rPr>
              <a:t>1996-</a:t>
            </a:r>
            <a:r>
              <a:rPr b="1" lang="en-US" sz="1400" spc="-1" strike="noStrike">
                <a:solidFill>
                  <a:srgbClr val="ffffcc"/>
                </a:solidFill>
                <a:latin typeface="Trebuchet MS"/>
              </a:rPr>
              <a:t>200</a:t>
            </a:r>
            <a:r>
              <a:rPr b="1" lang="en-GB" sz="1400" spc="-1" strike="noStrike">
                <a:solidFill>
                  <a:srgbClr val="ffffcc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436840" y="947880"/>
            <a:ext cx="909720" cy="4495680"/>
            <a:chOff x="2436840" y="947880"/>
            <a:chExt cx="909720" cy="4495680"/>
          </a:xfrm>
        </p:grpSpPr>
        <p:sp>
          <p:nvSpPr>
            <p:cNvPr id="573" name=""/>
            <p:cNvSpPr/>
            <p:nvPr/>
          </p:nvSpPr>
          <p:spPr>
            <a:xfrm>
              <a:off x="243684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6436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91880" y="1228680"/>
              <a:ext cx="22680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1904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36840" y="947880"/>
              <a:ext cx="90972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2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355920" y="947880"/>
            <a:ext cx="909720" cy="4495680"/>
            <a:chOff x="3355920" y="947880"/>
            <a:chExt cx="909720" cy="4495680"/>
          </a:xfrm>
        </p:grpSpPr>
        <p:sp>
          <p:nvSpPr>
            <p:cNvPr id="579" name=""/>
            <p:cNvSpPr/>
            <p:nvPr/>
          </p:nvSpPr>
          <p:spPr>
            <a:xfrm>
              <a:off x="335592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8344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10960" y="1228680"/>
              <a:ext cx="22680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3812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55920" y="947880"/>
              <a:ext cx="90972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3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11720" y="947880"/>
            <a:ext cx="909720" cy="4495680"/>
            <a:chOff x="6111720" y="947880"/>
            <a:chExt cx="909720" cy="4495680"/>
          </a:xfrm>
        </p:grpSpPr>
        <p:sp>
          <p:nvSpPr>
            <p:cNvPr id="585" name=""/>
            <p:cNvSpPr/>
            <p:nvPr/>
          </p:nvSpPr>
          <p:spPr>
            <a:xfrm>
              <a:off x="611172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1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3924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2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66760" y="1228680"/>
              <a:ext cx="22680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3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93920" y="1228680"/>
              <a:ext cx="227520" cy="4214520"/>
            </a:xfrm>
            <a:prstGeom prst="rect">
              <a:avLst/>
            </a:prstGeom>
            <a:noFill/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rebuchet MS"/>
                </a:rPr>
                <a:t>Q4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11720" y="947880"/>
              <a:ext cx="909720" cy="4495680"/>
            </a:xfrm>
            <a:prstGeom prst="rect">
              <a:avLst/>
            </a:prstGeom>
            <a:noFill/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rebuchet MS"/>
                </a:rPr>
                <a:t>200</a:t>
              </a:r>
              <a:r>
                <a:rPr b="1" lang="en-GB" sz="1400" spc="-1" strike="noStrike">
                  <a:solidFill>
                    <a:srgbClr val="ffffcc"/>
                  </a:solidFill>
                  <a:latin typeface="Trebuchet MS"/>
                </a:rPr>
                <a:t>6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838080" y="1295280"/>
            <a:ext cx="4419720" cy="419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1560" y="54864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cc"/>
                </a:solidFill>
                <a:latin typeface="Trebuchet MS"/>
              </a:rPr>
              <a:t>Asia (Japón y Kore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1295280"/>
            <a:ext cx="5105520" cy="4114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28840" y="548640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cc"/>
                </a:solidFill>
                <a:latin typeface="Trebuchet MS"/>
              </a:rPr>
              <a:t>Chi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295280"/>
            <a:ext cx="5029200" cy="4496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04240" y="579132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cc"/>
                </a:solidFill>
                <a:latin typeface="Trebuchet MS"/>
              </a:rPr>
              <a:t>Europ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295280"/>
            <a:ext cx="7086600" cy="419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65360" y="54864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cc"/>
                </a:solidFill>
                <a:latin typeface="Trebuchet MS"/>
              </a:rPr>
              <a:t>Norteaméric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4343400"/>
            <a:ext cx="3733920" cy="55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Adopción Empresarial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(Duración 3+ años</a:t>
            </a: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38080" y="1938240"/>
            <a:ext cx="251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dopción Inic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2471760"/>
            <a:ext cx="4002120" cy="3373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5"/>
                </a:solidFill>
                <a:latin typeface="Trebuchet MS"/>
              </a:rPr>
              <a:t>Portar Aplicacíones</a:t>
            </a:r>
            <a:r>
              <a:rPr b="1" lang="en-GB" sz="1600" spc="-1" strike="noStrike">
                <a:solidFill>
                  <a:srgbClr val="ffffd5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ffffd5"/>
                </a:solidFill>
                <a:latin typeface="Trebuchet MS"/>
              </a:rPr>
              <a:t>(Duración 3+ años</a:t>
            </a:r>
            <a:r>
              <a:rPr b="1" lang="en-GB" sz="1400" spc="-1" strike="noStrike">
                <a:solidFill>
                  <a:srgbClr val="ffffd5"/>
                </a:solidFill>
                <a:latin typeface="Trebuchet MS"/>
              </a:rPr>
              <a:t>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33720" y="3005280"/>
            <a:ext cx="3962160" cy="5504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rebuchet MS"/>
              </a:rPr>
              <a:t>Adopción por los  ISP</a:t>
            </a:r>
            <a:r>
              <a:rPr b="1" lang="en-GB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(Duración 3+ años</a:t>
            </a:r>
            <a:r>
              <a:rPr b="1" lang="en-GB" sz="1400" spc="-1" strike="noStrike">
                <a:solidFill>
                  <a:srgbClr val="ffffff"/>
                </a:solidFill>
                <a:latin typeface="Trebuchet MS"/>
              </a:rPr>
              <a:t>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3691080"/>
            <a:ext cx="4849920" cy="550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dopción por parte de los consumidores</a:t>
            </a:r>
            <a:r>
              <a:rPr b="1" lang="en-US" sz="1600" spc="-1" strike="noStrike">
                <a:solidFill>
                  <a:srgbClr val="3333ff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(Duración 5+ años</a:t>
            </a:r>
            <a:r>
              <a:rPr b="1" lang="en-GB" sz="1400" spc="-1" strike="noStrike">
                <a:solidFill>
                  <a:srgbClr val="ff0000"/>
                </a:solidFill>
                <a:latin typeface="Trebuchet MS"/>
              </a:rPr>
              <a:t>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291720" y="316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El camino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04920" y="728640"/>
            <a:ext cx="8839080" cy="55198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06668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cc"/>
                </a:solidFill>
                <a:latin typeface="Trebuchet MS"/>
              </a:rPr>
              <a:t>Presentado por  Prof Xing Li , Cernet,   al Forum IPv6 (Feb 2003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70496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redes IPv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enlaces dedic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sobre backbones MP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IPV6 usando backbones de doble pila (dual-stack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Traslación de Protocol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52280" y="8287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Estrateg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6249_08_2002_Kisch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5553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6249_08_2002_Kisch"/>
          <p:cNvPicPr/>
          <p:nvPr/>
        </p:nvPicPr>
        <p:blipFill>
          <a:blip r:embed="rId2"/>
          <a:stretch/>
        </p:blipFill>
        <p:spPr>
          <a:xfrm>
            <a:off x="0" y="1305000"/>
            <a:ext cx="9144000" cy="555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1000" y="76320"/>
            <a:ext cx="7623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Osaka"/>
              </a:rPr>
              <a:t>Extendiendo la Zona de Productividad (Visión de Cisco Syste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240" y="394812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3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1240" y="312408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5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240" y="469584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5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1240" y="536724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7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1240" y="2471760"/>
            <a:ext cx="602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7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1600" y="1785960"/>
            <a:ext cx="72900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1600" y="6067440"/>
            <a:ext cx="72900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Osaka"/>
              </a:rPr>
              <a:t>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50840" y="1574640"/>
            <a:ext cx="786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Manu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Pv6 over IPv4 Generic Routing Encapsulation (G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unnel Brok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automáticos 6to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SAT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es 6over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DS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ere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Túnel BG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74240" y="82872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Técnicas de Túne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295280" y="1066680"/>
            <a:ext cx="5715000" cy="685800"/>
          </a:xfrm>
          <a:prstGeom prst="rect">
            <a:avLst/>
          </a:prstGeom>
          <a:solidFill>
            <a:srgbClr val="ffe1c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plic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95280" y="4114800"/>
            <a:ext cx="5715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ivel de Acceso a la r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2031840"/>
            <a:ext cx="2046240" cy="71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CP4/UDP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95280" y="3073320"/>
            <a:ext cx="2046240" cy="7113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64040" y="2031840"/>
            <a:ext cx="2046240" cy="7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CP6/UDP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64040" y="3073320"/>
            <a:ext cx="2046240" cy="711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36120" y="316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ual Stack Host/Rou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660600" cy="5968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8077320" y="2514600"/>
            <a:ext cx="660240" cy="5968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143000" y="274320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772400" y="2819520"/>
            <a:ext cx="380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2362320" y="36576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1523880" y="2349360"/>
            <a:ext cx="1523880" cy="774360"/>
            <a:chOff x="1523880" y="2349360"/>
            <a:chExt cx="1523880" cy="774360"/>
          </a:xfrm>
        </p:grpSpPr>
        <p:pic>
          <p:nvPicPr>
            <p:cNvPr id="625" name="" descr=""/>
            <p:cNvPicPr/>
            <p:nvPr/>
          </p:nvPicPr>
          <p:blipFill>
            <a:blip r:embed="rId4"/>
            <a:stretch/>
          </p:blipFill>
          <p:spPr>
            <a:xfrm>
              <a:off x="1523880" y="234936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26" name=""/>
            <p:cNvSpPr/>
            <p:nvPr/>
          </p:nvSpPr>
          <p:spPr>
            <a:xfrm>
              <a:off x="1816200" y="251460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3819600" y="3513240"/>
            <a:ext cx="1961640" cy="899640"/>
            <a:chOff x="3819600" y="3513240"/>
            <a:chExt cx="1961640" cy="899640"/>
          </a:xfrm>
        </p:grpSpPr>
        <p:grpSp>
          <p:nvGrpSpPr>
            <p:cNvPr id="628" name=""/>
            <p:cNvGrpSpPr/>
            <p:nvPr/>
          </p:nvGrpSpPr>
          <p:grpSpPr>
            <a:xfrm>
              <a:off x="3819600" y="3516480"/>
              <a:ext cx="1957320" cy="892080"/>
              <a:chOff x="3819600" y="3516480"/>
              <a:chExt cx="1957320" cy="892080"/>
            </a:xfrm>
          </p:grpSpPr>
          <p:sp>
            <p:nvSpPr>
              <p:cNvPr id="629" name=""/>
              <p:cNvSpPr/>
              <p:nvPr/>
            </p:nvSpPr>
            <p:spPr>
              <a:xfrm>
                <a:off x="4487760" y="3516480"/>
                <a:ext cx="85248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17960" y="3613320"/>
                <a:ext cx="65412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819600" y="3835440"/>
                <a:ext cx="441360" cy="3016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52800" y="3967200"/>
                <a:ext cx="663480" cy="32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21160" y="4021200"/>
                <a:ext cx="990720" cy="3873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051520" y="3624120"/>
                <a:ext cx="63504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46560" y="3809880"/>
                <a:ext cx="63036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89680" y="3870360"/>
                <a:ext cx="625320" cy="4777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75280" y="3727440"/>
                <a:ext cx="1269720" cy="476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819600" y="3513240"/>
              <a:ext cx="1961640" cy="899640"/>
              <a:chOff x="3819600" y="3513240"/>
              <a:chExt cx="1961640" cy="899640"/>
            </a:xfrm>
          </p:grpSpPr>
          <p:sp>
            <p:nvSpPr>
              <p:cNvPr id="639" name=""/>
              <p:cNvSpPr/>
              <p:nvPr/>
            </p:nvSpPr>
            <p:spPr>
              <a:xfrm>
                <a:off x="4488840" y="3513240"/>
                <a:ext cx="861120" cy="3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3520" y="3517920"/>
                <a:ext cx="8521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17960" y="3610080"/>
                <a:ext cx="658440" cy="3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22640" y="3614760"/>
                <a:ext cx="648360" cy="36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948120" y="3961440"/>
                <a:ext cx="68148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52800" y="3966120"/>
                <a:ext cx="67320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056920" y="3619440"/>
                <a:ext cx="633960" cy="2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060520" y="3624120"/>
                <a:ext cx="62568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051880" y="3799080"/>
                <a:ext cx="729360" cy="31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56200" y="3804120"/>
                <a:ext cx="72036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081040" y="3875400"/>
                <a:ext cx="642960" cy="47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85000" y="3881160"/>
                <a:ext cx="6343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9600" y="3832200"/>
                <a:ext cx="46620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4280" y="3836880"/>
                <a:ext cx="4568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426200" y="4054680"/>
                <a:ext cx="970920" cy="35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30520" y="4059360"/>
                <a:ext cx="961560" cy="34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"/>
          <p:cNvSpPr/>
          <p:nvPr/>
        </p:nvSpPr>
        <p:spPr>
          <a:xfrm>
            <a:off x="4191120" y="374796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6256440" y="365760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3276720" y="38098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76720" y="40384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324480" y="2438280"/>
            <a:ext cx="1523880" cy="774360"/>
            <a:chOff x="6324480" y="2438280"/>
            <a:chExt cx="1523880" cy="774360"/>
          </a:xfrm>
        </p:grpSpPr>
        <p:pic>
          <p:nvPicPr>
            <p:cNvPr id="661" name="" descr=""/>
            <p:cNvPicPr/>
            <p:nvPr/>
          </p:nvPicPr>
          <p:blipFill>
            <a:blip r:embed="rId6"/>
            <a:stretch/>
          </p:blipFill>
          <p:spPr>
            <a:xfrm>
              <a:off x="6324480" y="243828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62" name=""/>
            <p:cNvSpPr/>
            <p:nvPr/>
          </p:nvSpPr>
          <p:spPr>
            <a:xfrm>
              <a:off x="6616800" y="260352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705720" y="30481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90920" y="30481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" y="12952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57400" y="12952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91320" y="12952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2920" y="12952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49528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62720" y="4952880"/>
            <a:ext cx="1371600" cy="33732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4952880"/>
            <a:ext cx="1371600" cy="580680"/>
          </a:xfrm>
          <a:prstGeom prst="rect">
            <a:avLst/>
          </a:prstGeom>
          <a:noFill/>
          <a:ln w="9360">
            <a:solidFill>
              <a:srgbClr val="fff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4 Hea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518148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1600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38880" y="1600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88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o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543800" y="320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IPv6 Ho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43000" y="3505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10280" y="3505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11480" y="316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úneles 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5360" y="5754600"/>
            <a:ext cx="89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FC 2893, Transition Mechanisms for IPv6 Hosts and Route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3819600" y="3513240"/>
            <a:ext cx="1961640" cy="899640"/>
            <a:chOff x="3819600" y="3513240"/>
            <a:chExt cx="1961640" cy="899640"/>
          </a:xfrm>
        </p:grpSpPr>
        <p:grpSp>
          <p:nvGrpSpPr>
            <p:cNvPr id="682" name=""/>
            <p:cNvGrpSpPr/>
            <p:nvPr/>
          </p:nvGrpSpPr>
          <p:grpSpPr>
            <a:xfrm>
              <a:off x="3819600" y="3516480"/>
              <a:ext cx="1957320" cy="892080"/>
              <a:chOff x="3819600" y="3516480"/>
              <a:chExt cx="1957320" cy="892080"/>
            </a:xfrm>
          </p:grpSpPr>
          <p:sp>
            <p:nvSpPr>
              <p:cNvPr id="683" name=""/>
              <p:cNvSpPr/>
              <p:nvPr/>
            </p:nvSpPr>
            <p:spPr>
              <a:xfrm>
                <a:off x="4487760" y="3516480"/>
                <a:ext cx="85248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017960" y="3613320"/>
                <a:ext cx="65412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19600" y="3835440"/>
                <a:ext cx="441360" cy="3016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952800" y="3967200"/>
                <a:ext cx="663480" cy="32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21160" y="4021200"/>
                <a:ext cx="990720" cy="3873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051520" y="3624120"/>
                <a:ext cx="63504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146560" y="3809880"/>
                <a:ext cx="63036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089680" y="3870360"/>
                <a:ext cx="625320" cy="4777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175280" y="3727440"/>
                <a:ext cx="1269720" cy="476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3819600" y="3513240"/>
              <a:ext cx="1961640" cy="899640"/>
              <a:chOff x="3819600" y="3513240"/>
              <a:chExt cx="1961640" cy="899640"/>
            </a:xfrm>
          </p:grpSpPr>
          <p:sp>
            <p:nvSpPr>
              <p:cNvPr id="693" name=""/>
              <p:cNvSpPr/>
              <p:nvPr/>
            </p:nvSpPr>
            <p:spPr>
              <a:xfrm>
                <a:off x="4488840" y="3513240"/>
                <a:ext cx="861120" cy="3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493520" y="3517920"/>
                <a:ext cx="8521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017960" y="3610080"/>
                <a:ext cx="658440" cy="3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022640" y="3614760"/>
                <a:ext cx="648360" cy="36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948120" y="3961440"/>
                <a:ext cx="68148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952800" y="3966120"/>
                <a:ext cx="67320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056920" y="3619440"/>
                <a:ext cx="633960" cy="2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060520" y="3624120"/>
                <a:ext cx="62568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51880" y="3799080"/>
                <a:ext cx="729360" cy="31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56200" y="3804120"/>
                <a:ext cx="72036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081040" y="3875400"/>
                <a:ext cx="642960" cy="47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085000" y="3881160"/>
                <a:ext cx="6343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819600" y="3832200"/>
                <a:ext cx="46620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24280" y="3836880"/>
                <a:ext cx="4568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426200" y="4054680"/>
                <a:ext cx="970920" cy="35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30520" y="4059360"/>
                <a:ext cx="961560" cy="34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9" name=""/>
          <p:cNvSpPr/>
          <p:nvPr/>
        </p:nvSpPr>
        <p:spPr>
          <a:xfrm>
            <a:off x="4191120" y="374796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256440" y="365760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3276720" y="38098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40384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1041120" cy="825480"/>
          </a:xfrm>
          <a:prstGeom prst="rect">
            <a:avLst/>
          </a:prstGeom>
          <a:ln w="0">
            <a:noFill/>
          </a:ln>
        </p:spPr>
      </p:pic>
      <p:grpSp>
        <p:nvGrpSpPr>
          <p:cNvPr id="714" name=""/>
          <p:cNvGrpSpPr/>
          <p:nvPr/>
        </p:nvGrpSpPr>
        <p:grpSpPr>
          <a:xfrm>
            <a:off x="6324480" y="1905120"/>
            <a:ext cx="1143000" cy="825480"/>
            <a:chOff x="6324480" y="1905120"/>
            <a:chExt cx="1143000" cy="825480"/>
          </a:xfrm>
        </p:grpSpPr>
        <p:pic>
          <p:nvPicPr>
            <p:cNvPr id="715" name="" descr=""/>
            <p:cNvPicPr/>
            <p:nvPr/>
          </p:nvPicPr>
          <p:blipFill>
            <a:blip r:embed="rId3"/>
            <a:stretch/>
          </p:blipFill>
          <p:spPr>
            <a:xfrm>
              <a:off x="6324480" y="1905120"/>
              <a:ext cx="1143000" cy="8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6" name=""/>
            <p:cNvGrpSpPr/>
            <p:nvPr/>
          </p:nvGrpSpPr>
          <p:grpSpPr>
            <a:xfrm>
              <a:off x="6629400" y="2057400"/>
              <a:ext cx="379440" cy="301680"/>
              <a:chOff x="6629400" y="2057400"/>
              <a:chExt cx="379440" cy="301680"/>
            </a:xfrm>
          </p:grpSpPr>
          <p:sp>
            <p:nvSpPr>
              <p:cNvPr id="717" name=""/>
              <p:cNvSpPr/>
              <p:nvPr/>
            </p:nvSpPr>
            <p:spPr>
              <a:xfrm>
                <a:off x="6758640" y="2057400"/>
                <a:ext cx="165600" cy="1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67560" y="2089440"/>
                <a:ext cx="126720" cy="125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29400" y="2165040"/>
                <a:ext cx="85320" cy="101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54960" y="2210040"/>
                <a:ext cx="128160" cy="110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45680" y="2228400"/>
                <a:ext cx="191880" cy="130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868440" y="2093400"/>
                <a:ext cx="122760" cy="98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86800" y="2156760"/>
                <a:ext cx="122040" cy="98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75640" y="2176920"/>
                <a:ext cx="12132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98160" y="2128680"/>
                <a:ext cx="246240" cy="160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 flipV="1">
            <a:off x="2819520" y="2286000"/>
            <a:ext cx="3504960" cy="99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971800" y="2514600"/>
            <a:ext cx="3352680" cy="9907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81680" y="274320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858000" y="4724280"/>
            <a:ext cx="1523520" cy="774360"/>
            <a:chOff x="6858000" y="4724280"/>
            <a:chExt cx="1523520" cy="774360"/>
          </a:xfrm>
        </p:grpSpPr>
        <p:pic>
          <p:nvPicPr>
            <p:cNvPr id="730" name="" descr=""/>
            <p:cNvPicPr/>
            <p:nvPr/>
          </p:nvPicPr>
          <p:blipFill>
            <a:blip r:embed="rId4"/>
            <a:stretch/>
          </p:blipFill>
          <p:spPr>
            <a:xfrm>
              <a:off x="6858000" y="4724280"/>
              <a:ext cx="152352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731" name=""/>
            <p:cNvSpPr/>
            <p:nvPr/>
          </p:nvSpPr>
          <p:spPr>
            <a:xfrm>
              <a:off x="7150320" y="4889520"/>
              <a:ext cx="108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781680" y="4114800"/>
            <a:ext cx="60984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467480" y="1981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Tunnel Brok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057400" y="2286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1. Solicitud de acceso a ww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152388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2. Respuesta de información de túnel IPv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162920" y="28195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3. Configuración del servidor de túnel o 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1800" y="464832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4. El cliente establece el tunel con el servidor de túnel o 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8120" y="2819520"/>
            <a:ext cx="152280" cy="228600"/>
          </a:xfrm>
          <a:prstGeom prst="line">
            <a:avLst/>
          </a:prstGeom>
          <a:ln w="93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2286000"/>
            <a:ext cx="381240" cy="380880"/>
          </a:xfrm>
          <a:prstGeom prst="line">
            <a:avLst/>
          </a:prstGeom>
          <a:ln w="93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858000" y="3200400"/>
            <a:ext cx="533520" cy="0"/>
          </a:xfrm>
          <a:prstGeom prst="line">
            <a:avLst/>
          </a:prstGeom>
          <a:ln w="93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3429000" y="4114800"/>
            <a:ext cx="0" cy="457200"/>
          </a:xfrm>
          <a:prstGeom prst="line">
            <a:avLst/>
          </a:prstGeom>
          <a:ln w="93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62520" y="316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unnel Brok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2362320" y="219240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745" name=""/>
          <p:cNvGrpSpPr/>
          <p:nvPr/>
        </p:nvGrpSpPr>
        <p:grpSpPr>
          <a:xfrm>
            <a:off x="1523880" y="884160"/>
            <a:ext cx="1523880" cy="774360"/>
            <a:chOff x="1523880" y="884160"/>
            <a:chExt cx="1523880" cy="774360"/>
          </a:xfrm>
        </p:grpSpPr>
        <p:pic>
          <p:nvPicPr>
            <p:cNvPr id="746" name="" descr=""/>
            <p:cNvPicPr/>
            <p:nvPr/>
          </p:nvPicPr>
          <p:blipFill>
            <a:blip r:embed="rId2"/>
            <a:stretch/>
          </p:blipFill>
          <p:spPr>
            <a:xfrm>
              <a:off x="1523880" y="88416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747" name=""/>
            <p:cNvSpPr/>
            <p:nvPr/>
          </p:nvSpPr>
          <p:spPr>
            <a:xfrm>
              <a:off x="1816200" y="104940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819600" y="2048040"/>
            <a:ext cx="1961640" cy="899640"/>
            <a:chOff x="3819600" y="2048040"/>
            <a:chExt cx="1961640" cy="899640"/>
          </a:xfrm>
        </p:grpSpPr>
        <p:grpSp>
          <p:nvGrpSpPr>
            <p:cNvPr id="749" name=""/>
            <p:cNvGrpSpPr/>
            <p:nvPr/>
          </p:nvGrpSpPr>
          <p:grpSpPr>
            <a:xfrm>
              <a:off x="3819600" y="2051280"/>
              <a:ext cx="1957320" cy="892080"/>
              <a:chOff x="3819600" y="2051280"/>
              <a:chExt cx="1957320" cy="892080"/>
            </a:xfrm>
          </p:grpSpPr>
          <p:sp>
            <p:nvSpPr>
              <p:cNvPr id="750" name=""/>
              <p:cNvSpPr/>
              <p:nvPr/>
            </p:nvSpPr>
            <p:spPr>
              <a:xfrm>
                <a:off x="4487760" y="2051280"/>
                <a:ext cx="85248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017960" y="2148120"/>
                <a:ext cx="65412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819600" y="2370240"/>
                <a:ext cx="441360" cy="3016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952800" y="2502000"/>
                <a:ext cx="663480" cy="32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421160" y="2556000"/>
                <a:ext cx="990720" cy="3873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051520" y="2158920"/>
                <a:ext cx="63504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46560" y="2344680"/>
                <a:ext cx="63036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089680" y="2405160"/>
                <a:ext cx="625320" cy="4777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75280" y="2262240"/>
                <a:ext cx="1269720" cy="476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819600" y="2048040"/>
              <a:ext cx="1961640" cy="899640"/>
              <a:chOff x="3819600" y="2048040"/>
              <a:chExt cx="1961640" cy="899640"/>
            </a:xfrm>
          </p:grpSpPr>
          <p:sp>
            <p:nvSpPr>
              <p:cNvPr id="760" name=""/>
              <p:cNvSpPr/>
              <p:nvPr/>
            </p:nvSpPr>
            <p:spPr>
              <a:xfrm>
                <a:off x="4488840" y="2048040"/>
                <a:ext cx="861120" cy="3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493520" y="2052720"/>
                <a:ext cx="8521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017960" y="2144880"/>
                <a:ext cx="658440" cy="3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22640" y="2149560"/>
                <a:ext cx="648360" cy="36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48120" y="2496240"/>
                <a:ext cx="68148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952800" y="2500920"/>
                <a:ext cx="67320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056920" y="2154240"/>
                <a:ext cx="633960" cy="2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60520" y="2158920"/>
                <a:ext cx="62568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51880" y="2333880"/>
                <a:ext cx="729360" cy="31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56200" y="2338920"/>
                <a:ext cx="72036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81040" y="2410200"/>
                <a:ext cx="642960" cy="47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85000" y="2415960"/>
                <a:ext cx="6343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819600" y="2367000"/>
                <a:ext cx="46620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824280" y="2371680"/>
                <a:ext cx="4568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426200" y="2589480"/>
                <a:ext cx="970920" cy="35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30520" y="2594160"/>
                <a:ext cx="961560" cy="34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6" name=""/>
          <p:cNvSpPr/>
          <p:nvPr/>
        </p:nvSpPr>
        <p:spPr>
          <a:xfrm>
            <a:off x="4191120" y="228276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6256440" y="219240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3276720" y="23446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76720" y="25732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52680" y="249696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6324480" y="973080"/>
            <a:ext cx="1523880" cy="774360"/>
            <a:chOff x="6324480" y="973080"/>
            <a:chExt cx="1523880" cy="774360"/>
          </a:xfrm>
        </p:grpSpPr>
        <p:pic>
          <p:nvPicPr>
            <p:cNvPr id="782" name="" descr=""/>
            <p:cNvPicPr/>
            <p:nvPr/>
          </p:nvPicPr>
          <p:blipFill>
            <a:blip r:embed="rId4"/>
            <a:stretch/>
          </p:blipFill>
          <p:spPr>
            <a:xfrm>
              <a:off x="6324480" y="97308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783" name=""/>
            <p:cNvSpPr/>
            <p:nvPr/>
          </p:nvSpPr>
          <p:spPr>
            <a:xfrm>
              <a:off x="6616800" y="113832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6705720" y="1582560"/>
            <a:ext cx="0" cy="6098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90920" y="1582560"/>
            <a:ext cx="0" cy="6098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66680" y="2236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6to4 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162920" y="2192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6to4 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14600" y="3259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rebuchet MS"/>
              </a:rPr>
              <a:t>192.168.99.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105520" y="3259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rebuchet MS"/>
              </a:rPr>
              <a:t>192.168.30.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2120" y="3716280"/>
            <a:ext cx="2361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Network Prefix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2002:c0a8:6301::/4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248520" y="3716280"/>
            <a:ext cx="2361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Network Prefix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2002:c0a8:1e01::/4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86720" y="1201320"/>
            <a:ext cx="10656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prstDash val="dash"/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867280" y="1201320"/>
            <a:ext cx="10663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prstDash val="dash"/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66880" y="36399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rebuchet MS"/>
              </a:rPr>
              <a:t>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81480" y="36399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rebuchet MS"/>
              </a:rPr>
              <a:t>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167240" y="316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únel 6to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066680" y="49528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terconecta de manera automática, sitios IPv6 sobre una infraestructura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Definidos en la RFC 305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1523880" y="2349360"/>
            <a:ext cx="1523880" cy="774360"/>
            <a:chOff x="1523880" y="2349360"/>
            <a:chExt cx="1523880" cy="774360"/>
          </a:xfrm>
        </p:grpSpPr>
        <p:pic>
          <p:nvPicPr>
            <p:cNvPr id="800" name="" descr=""/>
            <p:cNvPicPr/>
            <p:nvPr/>
          </p:nvPicPr>
          <p:blipFill>
            <a:blip r:embed="rId2"/>
            <a:stretch/>
          </p:blipFill>
          <p:spPr>
            <a:xfrm>
              <a:off x="1523880" y="234936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1" name=""/>
            <p:cNvSpPr/>
            <p:nvPr/>
          </p:nvSpPr>
          <p:spPr>
            <a:xfrm>
              <a:off x="1816200" y="251460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819600" y="3513240"/>
            <a:ext cx="1961640" cy="899640"/>
            <a:chOff x="3819600" y="3513240"/>
            <a:chExt cx="1961640" cy="899640"/>
          </a:xfrm>
        </p:grpSpPr>
        <p:grpSp>
          <p:nvGrpSpPr>
            <p:cNvPr id="803" name=""/>
            <p:cNvGrpSpPr/>
            <p:nvPr/>
          </p:nvGrpSpPr>
          <p:grpSpPr>
            <a:xfrm>
              <a:off x="3819600" y="3516480"/>
              <a:ext cx="1957320" cy="892080"/>
              <a:chOff x="3819600" y="3516480"/>
              <a:chExt cx="1957320" cy="892080"/>
            </a:xfrm>
          </p:grpSpPr>
          <p:sp>
            <p:nvSpPr>
              <p:cNvPr id="804" name=""/>
              <p:cNvSpPr/>
              <p:nvPr/>
            </p:nvSpPr>
            <p:spPr>
              <a:xfrm>
                <a:off x="4487760" y="3516480"/>
                <a:ext cx="85248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017960" y="3613320"/>
                <a:ext cx="654120" cy="368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819600" y="3835440"/>
                <a:ext cx="441360" cy="3016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952800" y="3967200"/>
                <a:ext cx="663480" cy="32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21160" y="4021200"/>
                <a:ext cx="990720" cy="3873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51520" y="3624120"/>
                <a:ext cx="63504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146560" y="3809880"/>
                <a:ext cx="630360" cy="290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89680" y="3870360"/>
                <a:ext cx="625320" cy="4777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175280" y="3727440"/>
                <a:ext cx="1269720" cy="4762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3819600" y="3513240"/>
              <a:ext cx="1961640" cy="899640"/>
              <a:chOff x="3819600" y="3513240"/>
              <a:chExt cx="1961640" cy="899640"/>
            </a:xfrm>
          </p:grpSpPr>
          <p:sp>
            <p:nvSpPr>
              <p:cNvPr id="814" name=""/>
              <p:cNvSpPr/>
              <p:nvPr/>
            </p:nvSpPr>
            <p:spPr>
              <a:xfrm>
                <a:off x="4488840" y="3513240"/>
                <a:ext cx="861120" cy="3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493520" y="3517920"/>
                <a:ext cx="8521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17960" y="3610080"/>
                <a:ext cx="658440" cy="3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022640" y="3614760"/>
                <a:ext cx="648360" cy="36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948120" y="3961440"/>
                <a:ext cx="68148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952800" y="3966120"/>
                <a:ext cx="67320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056920" y="3619440"/>
                <a:ext cx="633960" cy="2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060520" y="3624120"/>
                <a:ext cx="62568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051880" y="3799080"/>
                <a:ext cx="729360" cy="31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56200" y="3804120"/>
                <a:ext cx="72036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081040" y="3875400"/>
                <a:ext cx="642960" cy="47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085000" y="3881160"/>
                <a:ext cx="6343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819600" y="3832200"/>
                <a:ext cx="46620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824280" y="3836880"/>
                <a:ext cx="4568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26200" y="4054680"/>
                <a:ext cx="970920" cy="35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30520" y="4059360"/>
                <a:ext cx="961560" cy="34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>
            <a:off x="4191120" y="374796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6256440" y="365760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276720" y="38098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76720" y="4038480"/>
            <a:ext cx="3047760" cy="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324480" y="2438280"/>
            <a:ext cx="1523880" cy="774360"/>
            <a:chOff x="6324480" y="2438280"/>
            <a:chExt cx="1523880" cy="774360"/>
          </a:xfrm>
        </p:grpSpPr>
        <p:pic>
          <p:nvPicPr>
            <p:cNvPr id="836" name="" descr=""/>
            <p:cNvPicPr/>
            <p:nvPr/>
          </p:nvPicPr>
          <p:blipFill>
            <a:blip r:embed="rId4"/>
            <a:stretch/>
          </p:blipFill>
          <p:spPr>
            <a:xfrm>
              <a:off x="6324480" y="2438280"/>
              <a:ext cx="1523880" cy="77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37" name=""/>
            <p:cNvSpPr/>
            <p:nvPr/>
          </p:nvSpPr>
          <p:spPr>
            <a:xfrm>
              <a:off x="6616800" y="2603520"/>
              <a:ext cx="10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6705720" y="30481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90920" y="304812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66680" y="3701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6to4 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10280" y="4006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6to4 Rela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1460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rebuchet MS"/>
              </a:rPr>
              <a:t>192.168.99.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10552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rebuchet MS"/>
              </a:rPr>
              <a:t>192.168.30.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2120" y="5181480"/>
            <a:ext cx="2361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Network Prefix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2002:c0a8:6301::/4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48520" y="5181480"/>
            <a:ext cx="2361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Network Prefix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2002:c0a8:1e01::/4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2286720" y="2666160"/>
            <a:ext cx="10656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prstDash val="dash"/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5867280" y="2666160"/>
            <a:ext cx="10663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cc"/>
            </a:solidFill>
            <a:prstDash val="dash"/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666880" y="5105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rebuchet MS"/>
              </a:rPr>
              <a:t>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81480" y="5105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rebuchet MS"/>
              </a:rPr>
              <a:t>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858000" y="1295280"/>
            <a:ext cx="1961640" cy="899640"/>
            <a:chOff x="6858000" y="1295280"/>
            <a:chExt cx="1961640" cy="899640"/>
          </a:xfrm>
        </p:grpSpPr>
        <p:grpSp>
          <p:nvGrpSpPr>
            <p:cNvPr id="851" name=""/>
            <p:cNvGrpSpPr/>
            <p:nvPr/>
          </p:nvGrpSpPr>
          <p:grpSpPr>
            <a:xfrm>
              <a:off x="6858000" y="1298520"/>
              <a:ext cx="1957320" cy="892080"/>
              <a:chOff x="6858000" y="1298520"/>
              <a:chExt cx="1957320" cy="892080"/>
            </a:xfrm>
          </p:grpSpPr>
          <p:sp>
            <p:nvSpPr>
              <p:cNvPr id="852" name=""/>
              <p:cNvSpPr/>
              <p:nvPr/>
            </p:nvSpPr>
            <p:spPr>
              <a:xfrm>
                <a:off x="7526160" y="1298520"/>
                <a:ext cx="852480" cy="3682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56360" y="1395360"/>
                <a:ext cx="654120" cy="3682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858000" y="1617480"/>
                <a:ext cx="441360" cy="301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991200" y="1749240"/>
                <a:ext cx="663480" cy="326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59560" y="1803240"/>
                <a:ext cx="990720" cy="38736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089920" y="1406160"/>
                <a:ext cx="635040" cy="290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184960" y="1591920"/>
                <a:ext cx="630360" cy="290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128080" y="1652400"/>
                <a:ext cx="625320" cy="4777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213680" y="1509480"/>
                <a:ext cx="1269720" cy="4762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6858000" y="1295280"/>
              <a:ext cx="1961640" cy="899640"/>
              <a:chOff x="6858000" y="1295280"/>
              <a:chExt cx="1961640" cy="899640"/>
            </a:xfrm>
          </p:grpSpPr>
          <p:sp>
            <p:nvSpPr>
              <p:cNvPr id="862" name=""/>
              <p:cNvSpPr/>
              <p:nvPr/>
            </p:nvSpPr>
            <p:spPr>
              <a:xfrm>
                <a:off x="7527240" y="1295280"/>
                <a:ext cx="861120" cy="3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531920" y="1299960"/>
                <a:ext cx="8521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56360" y="1392120"/>
                <a:ext cx="658440" cy="3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61040" y="1396800"/>
                <a:ext cx="648360" cy="36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986520" y="1743480"/>
                <a:ext cx="68148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991200" y="1748160"/>
                <a:ext cx="67320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095320" y="1401480"/>
                <a:ext cx="633960" cy="2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098920" y="1406160"/>
                <a:ext cx="62568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090280" y="1581120"/>
                <a:ext cx="729360" cy="31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094600" y="1586160"/>
                <a:ext cx="72036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119440" y="1657440"/>
                <a:ext cx="642960" cy="47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123400" y="1663200"/>
                <a:ext cx="6343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58000" y="1614240"/>
                <a:ext cx="46620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862680" y="1618920"/>
                <a:ext cx="4568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464600" y="1836720"/>
                <a:ext cx="970920" cy="35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468920" y="1841400"/>
                <a:ext cx="961560" cy="34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8" name=""/>
          <p:cNvSpPr/>
          <p:nvPr/>
        </p:nvSpPr>
        <p:spPr>
          <a:xfrm>
            <a:off x="7202520" y="1415880"/>
            <a:ext cx="14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6672960" y="462240"/>
            <a:ext cx="1632600" cy="349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88" y="520"/>
                </a:moveTo>
                <a:arcTo wR="10800" hR="10800" stAng="-6471561" swAng="6471561"/>
                <a:lnTo>
                  <a:pt x="10800" y="10800"/>
                </a:lnTo>
                <a:close/>
              </a:path>
              <a:path fill="none" w="21600" h="21600">
                <a:moveTo>
                  <a:pt x="7488" y="520"/>
                </a:moveTo>
                <a:arcTo wR="10800" hR="10800" stAng="-6471561" swAng="6471561"/>
              </a:path>
            </a:pathLst>
          </a:custGeom>
          <a:noFill/>
          <a:ln w="9360">
            <a:solidFill>
              <a:srgbClr val="ffffcc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17360" y="316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únel 6to4 con R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2895480" y="2070000"/>
            <a:ext cx="1041480" cy="825480"/>
          </a:xfrm>
          <a:prstGeom prst="rect">
            <a:avLst/>
          </a:prstGeom>
          <a:ln w="0">
            <a:noFill/>
          </a:ln>
        </p:spPr>
      </p:pic>
      <p:grpSp>
        <p:nvGrpSpPr>
          <p:cNvPr id="882" name=""/>
          <p:cNvGrpSpPr/>
          <p:nvPr/>
        </p:nvGrpSpPr>
        <p:grpSpPr>
          <a:xfrm>
            <a:off x="609480" y="3213000"/>
            <a:ext cx="3352320" cy="1599480"/>
            <a:chOff x="609480" y="3213000"/>
            <a:chExt cx="3352320" cy="1599480"/>
          </a:xfrm>
        </p:grpSpPr>
        <p:pic>
          <p:nvPicPr>
            <p:cNvPr id="883" name="" descr=""/>
            <p:cNvPicPr/>
            <p:nvPr/>
          </p:nvPicPr>
          <p:blipFill>
            <a:blip r:embed="rId2"/>
            <a:stretch/>
          </p:blipFill>
          <p:spPr>
            <a:xfrm>
              <a:off x="609480" y="3213000"/>
              <a:ext cx="3352320" cy="1599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84" name=""/>
            <p:cNvSpPr/>
            <p:nvPr/>
          </p:nvSpPr>
          <p:spPr>
            <a:xfrm>
              <a:off x="1253160" y="3554640"/>
              <a:ext cx="23835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4 Multica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885" name="" descr=""/>
          <p:cNvPicPr/>
          <p:nvPr/>
        </p:nvPicPr>
        <p:blipFill>
          <a:blip r:embed="rId3"/>
          <a:stretch/>
        </p:blipFill>
        <p:spPr>
          <a:xfrm>
            <a:off x="152280" y="4889520"/>
            <a:ext cx="1041480" cy="82548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4"/>
          <a:stretch/>
        </p:blipFill>
        <p:spPr>
          <a:xfrm>
            <a:off x="3048120" y="4965840"/>
            <a:ext cx="1041120" cy="825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 flipV="1">
            <a:off x="914400" y="2908080"/>
            <a:ext cx="2133720" cy="1981080"/>
          </a:xfrm>
          <a:prstGeom prst="line">
            <a:avLst/>
          </a:prstGeom>
          <a:ln w="9360">
            <a:solidFill>
              <a:srgbClr val="ff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 flipV="1">
            <a:off x="3124080" y="2908080"/>
            <a:ext cx="457200" cy="2057400"/>
          </a:xfrm>
          <a:prstGeom prst="line">
            <a:avLst/>
          </a:prstGeom>
          <a:ln w="9360">
            <a:solidFill>
              <a:srgbClr val="ff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5120" y="316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únel 6over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95400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terconecta hosts IPv6 sobre una red IPv4 multic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Usa direcciones IPv4 compatibles a IPv6 (ej: </a:t>
            </a:r>
            <a:r>
              <a:rPr b="1" lang="en-US" sz="1600" spc="-1" strike="noStrike">
                <a:solidFill>
                  <a:srgbClr val="00cccc"/>
                </a:solidFill>
                <a:latin typeface="arial"/>
              </a:rPr>
              <a:t>0:0:0:0:0:0:192.168.30.1 = ::192.168.30.1 = ::C0A8:1E01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o resuelve el problema de conexión a una red global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609480" y="3213000"/>
            <a:ext cx="3352320" cy="1599480"/>
            <a:chOff x="609480" y="3213000"/>
            <a:chExt cx="3352320" cy="1599480"/>
          </a:xfrm>
        </p:grpSpPr>
        <p:pic>
          <p:nvPicPr>
            <p:cNvPr id="892" name="" descr=""/>
            <p:cNvPicPr/>
            <p:nvPr/>
          </p:nvPicPr>
          <p:blipFill>
            <a:blip r:embed="rId1"/>
            <a:stretch/>
          </p:blipFill>
          <p:spPr>
            <a:xfrm>
              <a:off x="609480" y="3213000"/>
              <a:ext cx="3352320" cy="1599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93" name=""/>
            <p:cNvSpPr/>
            <p:nvPr/>
          </p:nvSpPr>
          <p:spPr>
            <a:xfrm>
              <a:off x="1253160" y="3554640"/>
              <a:ext cx="238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152280" y="4889520"/>
            <a:ext cx="1041480" cy="82548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3"/>
          <a:stretch/>
        </p:blipFill>
        <p:spPr>
          <a:xfrm>
            <a:off x="3048120" y="4965840"/>
            <a:ext cx="1041120" cy="82548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 flipV="1">
            <a:off x="914400" y="3962520"/>
            <a:ext cx="2819520" cy="914400"/>
          </a:xfrm>
          <a:prstGeom prst="line">
            <a:avLst/>
          </a:prstGeom>
          <a:ln w="9360">
            <a:solidFill>
              <a:srgbClr val="ff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581280" y="3809520"/>
            <a:ext cx="152640" cy="1155960"/>
          </a:xfrm>
          <a:prstGeom prst="line">
            <a:avLst/>
          </a:prstGeom>
          <a:ln w="9360">
            <a:solidFill>
              <a:srgbClr val="ff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24440" y="3168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únel ISAT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609480"/>
            <a:ext cx="9144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terconecta hosts IPv6 dentro de una organización, sobre una red IPv4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Usa direcciones IPv4 reales o fictici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uede usar direcciones con prefijo de enlace local, con prefijo de sitio o con prefijo de enlace glob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j: </a:t>
            </a:r>
            <a:r>
              <a:rPr b="0" lang="en-US" sz="2000" spc="-1" strike="noStrike">
                <a:solidFill>
                  <a:srgbClr val="00cccc"/>
                </a:solidFill>
                <a:latin typeface="arial"/>
              </a:rPr>
              <a:t>FE80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:5EFE</a:t>
            </a:r>
            <a:r>
              <a:rPr b="0" lang="en-US" sz="2000" spc="-1" strike="noStrike">
                <a:solidFill>
                  <a:srgbClr val="00cccc"/>
                </a:solidFill>
                <a:latin typeface="arial"/>
              </a:rPr>
              <a:t>:131.107.129.8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cc"/>
                </a:solidFill>
                <a:latin typeface="arial"/>
              </a:rPr>
              <a:t>3FFE:1A05:510:1111: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0:5EFE</a:t>
            </a:r>
            <a:r>
              <a:rPr b="0" lang="en-US" sz="2000" spc="-1" strike="noStrike">
                <a:solidFill>
                  <a:srgbClr val="00cccc"/>
                </a:solidFill>
                <a:latin typeface="arial"/>
              </a:rPr>
              <a:t>:131.107.129.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8720" y="613584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SATAP: Intra-Site Automatic Tunnel Addressing Protoc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4"/>
          <a:stretch/>
        </p:blipFill>
        <p:spPr>
          <a:xfrm>
            <a:off x="3581280" y="36576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902" name=""/>
          <p:cNvGrpSpPr/>
          <p:nvPr/>
        </p:nvGrpSpPr>
        <p:grpSpPr>
          <a:xfrm>
            <a:off x="6553080" y="2971800"/>
            <a:ext cx="2182680" cy="1117080"/>
            <a:chOff x="6553080" y="2971800"/>
            <a:chExt cx="2182680" cy="1117080"/>
          </a:xfrm>
        </p:grpSpPr>
        <p:grpSp>
          <p:nvGrpSpPr>
            <p:cNvPr id="903" name=""/>
            <p:cNvGrpSpPr/>
            <p:nvPr/>
          </p:nvGrpSpPr>
          <p:grpSpPr>
            <a:xfrm>
              <a:off x="6553080" y="2971800"/>
              <a:ext cx="2182680" cy="1117080"/>
              <a:chOff x="6553080" y="2971800"/>
              <a:chExt cx="2182680" cy="1117080"/>
            </a:xfrm>
          </p:grpSpPr>
          <p:sp>
            <p:nvSpPr>
              <p:cNvPr id="904" name=""/>
              <p:cNvSpPr/>
              <p:nvPr/>
            </p:nvSpPr>
            <p:spPr>
              <a:xfrm>
                <a:off x="7297560" y="2971800"/>
                <a:ext cx="952560" cy="461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775200" y="3093840"/>
                <a:ext cx="728640" cy="461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553080" y="3371760"/>
                <a:ext cx="490320" cy="375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700680" y="3536640"/>
                <a:ext cx="739800" cy="407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224480" y="3605040"/>
                <a:ext cx="1104840" cy="483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926120" y="3106440"/>
                <a:ext cx="70956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032680" y="3339720"/>
                <a:ext cx="70308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968960" y="3416040"/>
                <a:ext cx="69876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948360" y="3236760"/>
                <a:ext cx="141768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6967440" y="3203640"/>
              <a:ext cx="156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6 o IPv4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 flipV="1">
            <a:off x="4495680" y="3580920"/>
            <a:ext cx="20574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766320" y="42274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ISATAP Rout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838080" y="4191120"/>
            <a:ext cx="24379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67040" y="4191120"/>
            <a:ext cx="24379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87040" y="579132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rebuchet MS"/>
              </a:rPr>
              <a:t>Windows 2003 Serv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-56160" y="5791320"/>
            <a:ext cx="19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rebuchet MS"/>
              </a:rPr>
              <a:t>Windows 2003 Serv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"/>
          <p:cNvGrpSpPr/>
          <p:nvPr/>
        </p:nvGrpSpPr>
        <p:grpSpPr>
          <a:xfrm>
            <a:off x="533520" y="3429000"/>
            <a:ext cx="3275640" cy="1345320"/>
            <a:chOff x="533520" y="3429000"/>
            <a:chExt cx="3275640" cy="1345320"/>
          </a:xfrm>
        </p:grpSpPr>
        <p:grpSp>
          <p:nvGrpSpPr>
            <p:cNvPr id="921" name=""/>
            <p:cNvGrpSpPr/>
            <p:nvPr/>
          </p:nvGrpSpPr>
          <p:grpSpPr>
            <a:xfrm>
              <a:off x="533520" y="3429000"/>
              <a:ext cx="3275640" cy="1345320"/>
              <a:chOff x="533520" y="3429000"/>
              <a:chExt cx="3275640" cy="1345320"/>
            </a:xfrm>
          </p:grpSpPr>
          <p:sp>
            <p:nvSpPr>
              <p:cNvPr id="922" name=""/>
              <p:cNvSpPr/>
              <p:nvPr/>
            </p:nvSpPr>
            <p:spPr>
              <a:xfrm>
                <a:off x="1650600" y="3429000"/>
                <a:ext cx="1429560" cy="5562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66880" y="3576240"/>
                <a:ext cx="1093320" cy="555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33520" y="3910680"/>
                <a:ext cx="735840" cy="452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54920" y="4109040"/>
                <a:ext cx="1110240" cy="4906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41160" y="4191480"/>
                <a:ext cx="1658160" cy="582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594160" y="3591360"/>
                <a:ext cx="1064880" cy="4374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754000" y="3872160"/>
                <a:ext cx="1055160" cy="4374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58240" y="3963960"/>
                <a:ext cx="1048680" cy="7182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126440" y="3748320"/>
                <a:ext cx="2127600" cy="7182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1155240" y="3708000"/>
              <a:ext cx="23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6981840" y="3168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únel DS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791320" y="2743200"/>
            <a:ext cx="3351960" cy="1599480"/>
            <a:chOff x="5791320" y="2743200"/>
            <a:chExt cx="3351960" cy="1599480"/>
          </a:xfrm>
        </p:grpSpPr>
        <p:pic>
          <p:nvPicPr>
            <p:cNvPr id="934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3351960" cy="1599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935" name=""/>
            <p:cNvSpPr/>
            <p:nvPr/>
          </p:nvSpPr>
          <p:spPr>
            <a:xfrm>
              <a:off x="6434640" y="3084840"/>
              <a:ext cx="23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4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152280" y="4889520"/>
            <a:ext cx="1041480" cy="82548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3"/>
          <a:stretch/>
        </p:blipFill>
        <p:spPr>
          <a:xfrm>
            <a:off x="3048120" y="4965840"/>
            <a:ext cx="1041120" cy="82548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 flipV="1">
            <a:off x="914400" y="3962520"/>
            <a:ext cx="2819520" cy="914400"/>
          </a:xfrm>
          <a:prstGeom prst="line">
            <a:avLst/>
          </a:prstGeom>
          <a:ln w="9360">
            <a:solidFill>
              <a:srgbClr val="ff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609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terconecta hosts IPv4 sobre una red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signación temporal de direcciones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Utiliza direcciones IPv4 mapeadas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j: </a:t>
            </a:r>
            <a:r>
              <a:rPr b="0" lang="en-US" sz="2000" spc="-1" strike="noStrike">
                <a:solidFill>
                  <a:srgbClr val="00cccc"/>
                </a:solidFill>
                <a:latin typeface="arial"/>
              </a:rPr>
              <a:t>::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FFF</a:t>
            </a:r>
            <a:r>
              <a:rPr b="0" lang="en-US" sz="2000" spc="-1" strike="noStrike">
                <a:solidFill>
                  <a:srgbClr val="00cccc"/>
                </a:solidFill>
                <a:latin typeface="arial"/>
              </a:rPr>
              <a:t>:138.145.25.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4"/>
          <a:stretch/>
        </p:blipFill>
        <p:spPr>
          <a:xfrm>
            <a:off x="3581280" y="365760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 flipV="1">
            <a:off x="4495680" y="3580920"/>
            <a:ext cx="20574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753720" y="42274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rebuchet MS"/>
              </a:rPr>
              <a:t>DSTM Rout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90240" y="579132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rebuchet MS"/>
              </a:rPr>
              <a:t>Host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-29160" y="579132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rebuchet MS"/>
              </a:rPr>
              <a:t>Host IPv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5"/>
          <a:stretch/>
        </p:blipFill>
        <p:spPr>
          <a:xfrm>
            <a:off x="2514600" y="2209680"/>
            <a:ext cx="1041480" cy="82548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2556720" y="303516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rebuchet MS"/>
              </a:rPr>
              <a:t>Host 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3123720" y="4648320"/>
            <a:ext cx="30492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2209320" y="2895480"/>
            <a:ext cx="30492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836040" y="3168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únel Tere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33352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867280" y="2819520"/>
            <a:ext cx="3276000" cy="1345320"/>
            <a:chOff x="5867280" y="2819520"/>
            <a:chExt cx="3276000" cy="1345320"/>
          </a:xfrm>
        </p:grpSpPr>
        <p:grpSp>
          <p:nvGrpSpPr>
            <p:cNvPr id="952" name=""/>
            <p:cNvGrpSpPr/>
            <p:nvPr/>
          </p:nvGrpSpPr>
          <p:grpSpPr>
            <a:xfrm>
              <a:off x="5867280" y="2819520"/>
              <a:ext cx="3276000" cy="1345320"/>
              <a:chOff x="5867280" y="2819520"/>
              <a:chExt cx="3276000" cy="1345320"/>
            </a:xfrm>
          </p:grpSpPr>
          <p:sp>
            <p:nvSpPr>
              <p:cNvPr id="953" name=""/>
              <p:cNvSpPr/>
              <p:nvPr/>
            </p:nvSpPr>
            <p:spPr>
              <a:xfrm>
                <a:off x="6984720" y="2819520"/>
                <a:ext cx="1429560" cy="5562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200640" y="2966760"/>
                <a:ext cx="1093680" cy="555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67280" y="3301200"/>
                <a:ext cx="735840" cy="452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088680" y="3499560"/>
                <a:ext cx="1110240" cy="4906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874920" y="3582000"/>
                <a:ext cx="1658160" cy="582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927920" y="2981880"/>
                <a:ext cx="1064880" cy="4374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088120" y="3262680"/>
                <a:ext cx="1055160" cy="4374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992360" y="3354480"/>
                <a:ext cx="1048680" cy="7182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60560" y="3138840"/>
                <a:ext cx="2127600" cy="7182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6489000" y="3098520"/>
              <a:ext cx="235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6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2666880" y="5791320"/>
            <a:ext cx="1041480" cy="82548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041120" cy="825480"/>
          </a:xfrm>
          <a:prstGeom prst="rect">
            <a:avLst/>
          </a:prstGeom>
          <a:ln w="0">
            <a:noFill/>
          </a:ln>
        </p:spPr>
      </p:pic>
      <p:grpSp>
        <p:nvGrpSpPr>
          <p:cNvPr id="965" name=""/>
          <p:cNvGrpSpPr/>
          <p:nvPr/>
        </p:nvGrpSpPr>
        <p:grpSpPr>
          <a:xfrm>
            <a:off x="0" y="3276720"/>
            <a:ext cx="3351960" cy="1599480"/>
            <a:chOff x="0" y="3276720"/>
            <a:chExt cx="3351960" cy="1599480"/>
          </a:xfrm>
        </p:grpSpPr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3351960" cy="1599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967" name=""/>
            <p:cNvSpPr/>
            <p:nvPr/>
          </p:nvSpPr>
          <p:spPr>
            <a:xfrm>
              <a:off x="643320" y="3618360"/>
              <a:ext cx="23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4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990720" y="2590920"/>
            <a:ext cx="8380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N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4952880"/>
            <a:ext cx="8380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N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219320" y="2209680"/>
            <a:ext cx="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447920" y="32004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2362320" y="472392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2743200" y="556236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10160" y="114300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Cliente Teredo (host IPv4/IPv6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75960" y="601992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Cliente Tered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(host IPv4/IPv6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>
            <a:off x="8102520" y="1600200"/>
            <a:ext cx="1041480" cy="82548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8009640" y="240660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Host IPv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7848360" y="2209680"/>
            <a:ext cx="228600" cy="6098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572000" y="1981080"/>
            <a:ext cx="847440" cy="752400"/>
            <a:chOff x="4572000" y="1981080"/>
            <a:chExt cx="847440" cy="752400"/>
          </a:xfrm>
        </p:grpSpPr>
        <p:sp>
          <p:nvSpPr>
            <p:cNvPr id="980" name=""/>
            <p:cNvSpPr/>
            <p:nvPr/>
          </p:nvSpPr>
          <p:spPr>
            <a:xfrm>
              <a:off x="4572000" y="2036520"/>
              <a:ext cx="746640" cy="69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74520" y="2037960"/>
              <a:ext cx="740880" cy="693720"/>
            </a:xfrm>
            <a:prstGeom prst="rect">
              <a:avLst/>
            </a:prstGeom>
            <a:solidFill>
              <a:srgbClr val="ffff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72000" y="1981080"/>
              <a:ext cx="847440" cy="55440"/>
            </a:xfrm>
            <a:custGeom>
              <a:avLst/>
              <a:gdLst/>
              <a:ahLst/>
              <a:rect l="l" t="t" r="r" b="b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72000" y="1981080"/>
              <a:ext cx="847440" cy="55440"/>
            </a:xfrm>
            <a:custGeom>
              <a:avLst/>
              <a:gdLst/>
              <a:ahLst/>
              <a:rect l="l" t="t" r="r" b="b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20960" y="2079360"/>
              <a:ext cx="336600" cy="88920"/>
            </a:xfrm>
            <a:prstGeom prst="rect">
              <a:avLst/>
            </a:prstGeom>
            <a:solidFill>
              <a:srgbClr val="ffff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64160" y="2123640"/>
              <a:ext cx="23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18640" y="1981080"/>
              <a:ext cx="100440" cy="752400"/>
            </a:xfrm>
            <a:custGeom>
              <a:avLst/>
              <a:gdLst/>
              <a:ahLst/>
              <a:rect l="l" t="t" r="r" b="b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18640" y="1981080"/>
              <a:ext cx="100440" cy="752400"/>
            </a:xfrm>
            <a:custGeom>
              <a:avLst/>
              <a:gdLst/>
              <a:ahLst/>
              <a:rect l="l" t="t" r="r" b="b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80280" y="2687400"/>
              <a:ext cx="73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580280" y="2315880"/>
              <a:ext cx="73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572000" y="2682720"/>
              <a:ext cx="746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72000" y="2311200"/>
              <a:ext cx="746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17720" y="2077920"/>
              <a:ext cx="331200" cy="85680"/>
            </a:xfrm>
            <a:custGeom>
              <a:avLst/>
              <a:gdLst/>
              <a:ahLst/>
              <a:rect l="l" t="t" r="r" b="b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48320" y="3733920"/>
            <a:ext cx="847080" cy="752400"/>
            <a:chOff x="4648320" y="3733920"/>
            <a:chExt cx="847080" cy="752400"/>
          </a:xfrm>
        </p:grpSpPr>
        <p:sp>
          <p:nvSpPr>
            <p:cNvPr id="994" name=""/>
            <p:cNvSpPr/>
            <p:nvPr/>
          </p:nvSpPr>
          <p:spPr>
            <a:xfrm>
              <a:off x="4648320" y="3789360"/>
              <a:ext cx="746280" cy="696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50840" y="3790800"/>
              <a:ext cx="740520" cy="693720"/>
            </a:xfrm>
            <a:prstGeom prst="rect">
              <a:avLst/>
            </a:prstGeom>
            <a:solidFill>
              <a:srgbClr val="99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648320" y="3733920"/>
              <a:ext cx="847080" cy="55440"/>
            </a:xfrm>
            <a:custGeom>
              <a:avLst/>
              <a:gdLst/>
              <a:ahLst/>
              <a:rect l="l" t="t" r="r" b="b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3733920"/>
              <a:ext cx="847080" cy="55440"/>
            </a:xfrm>
            <a:custGeom>
              <a:avLst/>
              <a:gdLst/>
              <a:ahLst/>
              <a:rect l="l" t="t" r="r" b="b"/>
              <a:pathLst>
                <a:path w="294" h="35">
                  <a:moveTo>
                    <a:pt x="0" y="35"/>
                  </a:moveTo>
                  <a:lnTo>
                    <a:pt x="35" y="0"/>
                  </a:lnTo>
                  <a:lnTo>
                    <a:pt x="294" y="0"/>
                  </a:lnTo>
                  <a:lnTo>
                    <a:pt x="25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97280" y="3832200"/>
              <a:ext cx="336600" cy="88920"/>
            </a:xfrm>
            <a:prstGeom prst="rect">
              <a:avLst/>
            </a:prstGeom>
            <a:solidFill>
              <a:srgbClr val="99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740480" y="3876480"/>
              <a:ext cx="23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94600" y="3733920"/>
              <a:ext cx="100440" cy="752400"/>
            </a:xfrm>
            <a:custGeom>
              <a:avLst/>
              <a:gdLst/>
              <a:ahLst/>
              <a:rect l="l" t="t" r="r" b="b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94600" y="3733920"/>
              <a:ext cx="100440" cy="752400"/>
            </a:xfrm>
            <a:custGeom>
              <a:avLst/>
              <a:gdLst/>
              <a:ahLst/>
              <a:rect l="l" t="t" r="r" b="b"/>
              <a:pathLst>
                <a:path w="35" h="474">
                  <a:moveTo>
                    <a:pt x="0" y="474"/>
                  </a:moveTo>
                  <a:lnTo>
                    <a:pt x="35" y="438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6600" y="4440240"/>
              <a:ext cx="73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656600" y="4068720"/>
              <a:ext cx="73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48320" y="4435560"/>
              <a:ext cx="746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648320" y="4064040"/>
              <a:ext cx="746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694040" y="3830760"/>
              <a:ext cx="331200" cy="85680"/>
            </a:xfrm>
            <a:custGeom>
              <a:avLst/>
              <a:gdLst/>
              <a:ahLst/>
              <a:rect l="l" t="t" r="r" b="b"/>
              <a:pathLst>
                <a:path w="115" h="54">
                  <a:moveTo>
                    <a:pt x="0" y="54"/>
                  </a:moveTo>
                  <a:lnTo>
                    <a:pt x="0" y="0"/>
                  </a:lnTo>
                  <a:lnTo>
                    <a:pt x="115" y="0"/>
                  </a:lnTo>
                </a:path>
              </a:pathLst>
            </a:custGeom>
            <a:solidFill>
              <a:srgbClr val="99cc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2710800" y="228600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Servidor Tered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22640" y="33526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eredo Rela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819520" y="2514600"/>
            <a:ext cx="1752480" cy="9907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10080" y="2286000"/>
            <a:ext cx="190512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76720" y="403848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486400" y="4038480"/>
            <a:ext cx="1600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733920" y="44956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Encapsula IPv6 en paquetes UDP de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Usado en ambientes con NAT simple o múlti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Usa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3FFE:831F::/32 como prefijo (no estandar por IA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6400800" y="1676520"/>
            <a:ext cx="380880" cy="8380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005080" y="11826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Pv6 o IPv6 sobre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-7306200" y="-3659400"/>
            <a:ext cx="17345520" cy="10188720"/>
            <a:chOff x="-7306200" y="-3659400"/>
            <a:chExt cx="17345520" cy="10188720"/>
          </a:xfrm>
        </p:grpSpPr>
        <p:sp>
          <p:nvSpPr>
            <p:cNvPr id="153" name=""/>
            <p:cNvSpPr/>
            <p:nvPr/>
          </p:nvSpPr>
          <p:spPr>
            <a:xfrm>
              <a:off x="1201680" y="1503360"/>
              <a:ext cx="7589880" cy="4211640"/>
            </a:xfrm>
            <a:prstGeom prst="rect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59595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75120" y="5908680"/>
              <a:ext cx="75106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1996    1997    1998    1999    2000    2001    2002    2003    2004    200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040" y="1544760"/>
              <a:ext cx="78408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8800" y="971640"/>
              <a:ext cx="1062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Millon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64960" y="1500120"/>
              <a:ext cx="763452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1960" y="2154240"/>
              <a:ext cx="76024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6760" y="2763720"/>
              <a:ext cx="76276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95200" y="3373560"/>
              <a:ext cx="759924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3360" y="3925800"/>
              <a:ext cx="75610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33360" y="4535640"/>
              <a:ext cx="75610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3360" y="5130720"/>
              <a:ext cx="756108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-7306200" y="-2113920"/>
              <a:ext cx="17345520" cy="76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07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071382"/>
                </a:path>
              </a:pathLst>
            </a:custGeom>
            <a:noFill/>
            <a:ln w="7632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1305400">
              <a:off x="-6788520" y="-3012480"/>
              <a:ext cx="15479280" cy="831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606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60639"/>
                </a:path>
              </a:pathLst>
            </a:custGeom>
            <a:noFill/>
            <a:ln w="7632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174680" y="1447560"/>
              <a:ext cx="7664400" cy="4284360"/>
              <a:chOff x="1174680" y="1447560"/>
              <a:chExt cx="7664400" cy="428436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1174680" y="5708160"/>
                <a:ext cx="7664400" cy="1800"/>
              </a:xfrm>
              <a:prstGeom prst="line">
                <a:avLst/>
              </a:prstGeom>
              <a:ln w="57240">
                <a:solidFill>
                  <a:srgbClr val="969696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4560" bIns="-345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182240" y="1447560"/>
                <a:ext cx="9360" cy="4284360"/>
              </a:xfrm>
              <a:prstGeom prst="line">
                <a:avLst/>
              </a:prstGeom>
              <a:ln w="57240">
                <a:solidFill>
                  <a:srgbClr val="969696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546200" y="1727280"/>
              <a:ext cx="6102360" cy="621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 Narrow"/>
                </a:rPr>
                <a:t>Se prevé que habrá  mayor cantidad de dispositivos inalámbricos que PCs conectados a Internet al terminar el 200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62200" y="3181320"/>
              <a:ext cx="2104920" cy="1238400"/>
            </a:xfrm>
            <a:prstGeom prst="wedgeRectCallout">
              <a:avLst>
                <a:gd name="adj1" fmla="val 17268"/>
                <a:gd name="adj2" fmla="val 50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royección de Suscriptores de Servicios Telefonía Celula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71" name="Cell%20Phone3" descr=""/>
            <p:cNvPicPr/>
            <p:nvPr/>
          </p:nvPicPr>
          <p:blipFill>
            <a:blip r:embed="rId1"/>
            <a:srcRect l="10280" t="12850" r="0" b="10746"/>
            <a:stretch/>
          </p:blipFill>
          <p:spPr>
            <a:xfrm>
              <a:off x="2376360" y="3641760"/>
              <a:ext cx="96516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Handheld" descr=""/>
            <p:cNvPicPr/>
            <p:nvPr/>
          </p:nvPicPr>
          <p:blipFill>
            <a:blip r:embed="rId2"/>
            <a:srcRect l="15494" t="12011" r="21308" b="26991"/>
            <a:stretch/>
          </p:blipFill>
          <p:spPr>
            <a:xfrm>
              <a:off x="1346040" y="4387680"/>
              <a:ext cx="91116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038720" y="3276720"/>
              <a:ext cx="1752840" cy="990360"/>
            </a:xfrm>
            <a:prstGeom prst="wedgeRectCallout">
              <a:avLst>
                <a:gd name="adj1" fmla="val -60324"/>
                <a:gd name="adj2" fmla="val 65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royección de PCs conectadas a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1360" y="4863960"/>
              <a:ext cx="3511440" cy="8960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 Narrow"/>
                </a:rPr>
                <a:t>Habrá  mas de 1 billion de teléfonos móviles para el 2005, 60% de ellos con conexión a Interne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75" name="Mobile" descr=""/>
            <p:cNvPicPr/>
            <p:nvPr/>
          </p:nvPicPr>
          <p:blipFill>
            <a:blip r:embed="rId3"/>
            <a:srcRect l="29173" t="25354" r="27087" b="24646"/>
            <a:stretch/>
          </p:blipFill>
          <p:spPr>
            <a:xfrm>
              <a:off x="7810200" y="981000"/>
              <a:ext cx="990720" cy="11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32480" y="6273720"/>
              <a:ext cx="3252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cc"/>
                  </a:solidFill>
                  <a:latin typeface="arial"/>
                </a:rPr>
                <a:t>Source:  Information Society Technologi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788640" y="3168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endencias en Servicios Móvi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233120" y="316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únel BG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57200" y="2971800"/>
            <a:ext cx="2133360" cy="1269360"/>
            <a:chOff x="457200" y="2971800"/>
            <a:chExt cx="2133360" cy="1269360"/>
          </a:xfrm>
        </p:grpSpPr>
        <p:grpSp>
          <p:nvGrpSpPr>
            <p:cNvPr id="1018" name=""/>
            <p:cNvGrpSpPr/>
            <p:nvPr/>
          </p:nvGrpSpPr>
          <p:grpSpPr>
            <a:xfrm>
              <a:off x="457200" y="2971800"/>
              <a:ext cx="2133360" cy="1269360"/>
              <a:chOff x="457200" y="2971800"/>
              <a:chExt cx="2133360" cy="1269360"/>
            </a:xfrm>
          </p:grpSpPr>
          <p:sp>
            <p:nvSpPr>
              <p:cNvPr id="1019" name=""/>
              <p:cNvSpPr/>
              <p:nvPr/>
            </p:nvSpPr>
            <p:spPr>
              <a:xfrm>
                <a:off x="1184760" y="2971800"/>
                <a:ext cx="930960" cy="524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74280" y="3110760"/>
                <a:ext cx="712080" cy="524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7200" y="3426480"/>
                <a:ext cx="479160" cy="4269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1200" y="3613680"/>
                <a:ext cx="722880" cy="4629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113480" y="3691440"/>
                <a:ext cx="1080000" cy="5497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99280" y="3124800"/>
                <a:ext cx="693360" cy="4129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03320" y="3389760"/>
                <a:ext cx="687240" cy="4129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841040" y="3476520"/>
                <a:ext cx="682920" cy="677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43480" y="3273120"/>
                <a:ext cx="1385640" cy="677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862200" y="3234960"/>
              <a:ext cx="153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2743200" y="2819520"/>
            <a:ext cx="3351960" cy="1599480"/>
            <a:chOff x="2743200" y="2819520"/>
            <a:chExt cx="3351960" cy="1599480"/>
          </a:xfrm>
        </p:grpSpPr>
        <p:pic>
          <p:nvPicPr>
            <p:cNvPr id="1030" name="" descr=""/>
            <p:cNvPicPr/>
            <p:nvPr/>
          </p:nvPicPr>
          <p:blipFill>
            <a:blip r:embed="rId1"/>
            <a:stretch/>
          </p:blipFill>
          <p:spPr>
            <a:xfrm>
              <a:off x="2743200" y="2819520"/>
              <a:ext cx="3351960" cy="1599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031" name=""/>
            <p:cNvSpPr/>
            <p:nvPr/>
          </p:nvSpPr>
          <p:spPr>
            <a:xfrm>
              <a:off x="3386520" y="3161160"/>
              <a:ext cx="23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4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0800" y="2971800"/>
            <a:ext cx="2133360" cy="1269360"/>
            <a:chOff x="6400800" y="2971800"/>
            <a:chExt cx="2133360" cy="1269360"/>
          </a:xfrm>
        </p:grpSpPr>
        <p:grpSp>
          <p:nvGrpSpPr>
            <p:cNvPr id="1033" name=""/>
            <p:cNvGrpSpPr/>
            <p:nvPr/>
          </p:nvGrpSpPr>
          <p:grpSpPr>
            <a:xfrm>
              <a:off x="6400800" y="2971800"/>
              <a:ext cx="2133360" cy="1269360"/>
              <a:chOff x="6400800" y="2971800"/>
              <a:chExt cx="2133360" cy="1269360"/>
            </a:xfrm>
          </p:grpSpPr>
          <p:sp>
            <p:nvSpPr>
              <p:cNvPr id="1034" name=""/>
              <p:cNvSpPr/>
              <p:nvPr/>
            </p:nvSpPr>
            <p:spPr>
              <a:xfrm>
                <a:off x="7128360" y="2971800"/>
                <a:ext cx="930960" cy="524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617880" y="3110760"/>
                <a:ext cx="712080" cy="524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400800" y="3426480"/>
                <a:ext cx="479160" cy="4269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44800" y="3613680"/>
                <a:ext cx="722880" cy="4629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057080" y="3691440"/>
                <a:ext cx="1080000" cy="5497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742880" y="3124800"/>
                <a:ext cx="693360" cy="4129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846920" y="3389760"/>
                <a:ext cx="687240" cy="4129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784640" y="3476520"/>
                <a:ext cx="682920" cy="677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787080" y="3273120"/>
                <a:ext cx="1385640" cy="677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6805800" y="3234960"/>
              <a:ext cx="153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44" name="" descr=""/>
          <p:cNvPicPr/>
          <p:nvPr/>
        </p:nvPicPr>
        <p:blipFill>
          <a:blip r:embed="rId2"/>
          <a:stretch/>
        </p:blipFill>
        <p:spPr>
          <a:xfrm>
            <a:off x="3581280" y="36576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3"/>
          <a:stretch/>
        </p:blipFill>
        <p:spPr>
          <a:xfrm>
            <a:off x="4952880" y="37339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4"/>
          <a:stretch/>
        </p:blipFill>
        <p:spPr>
          <a:xfrm>
            <a:off x="3962520" y="26668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3200400" y="35812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41972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480060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4114800" y="31240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571464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6"/>
          <a:stretch/>
        </p:blipFill>
        <p:spPr>
          <a:xfrm>
            <a:off x="7238880" y="38098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/>
          <p:cNvPicPr/>
          <p:nvPr/>
        </p:nvPicPr>
        <p:blipFill>
          <a:blip r:embed="rId7"/>
          <a:stretch/>
        </p:blipFill>
        <p:spPr>
          <a:xfrm>
            <a:off x="914400" y="358128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 flipV="1">
            <a:off x="838080" y="3962160"/>
            <a:ext cx="45720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 flipV="1">
            <a:off x="7696080" y="4191120"/>
            <a:ext cx="45720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8"/>
          <a:stretch/>
        </p:blipFill>
        <p:spPr>
          <a:xfrm>
            <a:off x="7620120" y="4572000"/>
            <a:ext cx="1041120" cy="82548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9"/>
          <a:stretch/>
        </p:blipFill>
        <p:spPr>
          <a:xfrm>
            <a:off x="380880" y="4572000"/>
            <a:ext cx="1041480" cy="82548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17524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6552720" y="3505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562720" y="2514600"/>
            <a:ext cx="13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outer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025000" y="4114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outer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541920" y="3473280"/>
            <a:ext cx="25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rebuchet MS"/>
              </a:rPr>
              <a:t>2001:0503:2001:0708::/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0" y="4495680"/>
            <a:ext cx="838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rebuchet MS"/>
              </a:rPr>
              <a:t>BGP4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858000" y="4800600"/>
            <a:ext cx="838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0" y="5181480"/>
            <a:ext cx="8380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086600" y="1828800"/>
            <a:ext cx="838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rebuchet MS"/>
              </a:rPr>
              <a:t>BGP4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086600" y="2133720"/>
            <a:ext cx="838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086600" y="2514600"/>
            <a:ext cx="838080" cy="368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057400" y="1170720"/>
            <a:ext cx="4114440" cy="39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78" y="265"/>
                </a:moveTo>
                <a:arcTo wR="10800" hR="10800" stAng="-4636728" swAng="4636728"/>
                <a:lnTo>
                  <a:pt x="10800" y="10800"/>
                </a:lnTo>
                <a:close/>
              </a:path>
              <a:path fill="none" w="21600" h="21600">
                <a:moveTo>
                  <a:pt x="13178" y="265"/>
                </a:moveTo>
                <a:arcTo wR="10800" hR="10800" stAng="-4636728" swAng="4636728"/>
              </a:path>
            </a:pathLst>
          </a:cu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743200" y="1219320"/>
            <a:ext cx="36568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989880" y="1335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BGP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71600" y="5673600"/>
            <a:ext cx="281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Destin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91120" y="56736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29200" y="567360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ext H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371600" y="6130800"/>
            <a:ext cx="2819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rebuchet MS"/>
              </a:rPr>
              <a:t>2001:0503:2001:0708::/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191120" y="6130800"/>
            <a:ext cx="83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nt 1/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029200" y="6130800"/>
            <a:ext cx="1676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cc"/>
                </a:solidFill>
                <a:latin typeface="Trebuchet MS"/>
              </a:rPr>
              <a:t>12.128.76.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908680" y="40384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cc"/>
                </a:solidFill>
                <a:latin typeface="Trebuchet MS"/>
              </a:rPr>
              <a:t>12.128.76.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1371240" y="3886200"/>
            <a:ext cx="1219320" cy="1752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895480" y="3962520"/>
            <a:ext cx="3810240" cy="1676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10"/>
          <a:stretch/>
        </p:blipFill>
        <p:spPr>
          <a:xfrm>
            <a:off x="2362320" y="3429000"/>
            <a:ext cx="906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914400" y="5486400"/>
            <a:ext cx="2209320" cy="1142640"/>
            <a:chOff x="914400" y="5486400"/>
            <a:chExt cx="2209320" cy="1142640"/>
          </a:xfrm>
        </p:grpSpPr>
        <p:pic>
          <p:nvPicPr>
            <p:cNvPr id="1084" name="" descr=""/>
            <p:cNvPicPr/>
            <p:nvPr/>
          </p:nvPicPr>
          <p:blipFill>
            <a:blip r:embed="rId1"/>
            <a:stretch/>
          </p:blipFill>
          <p:spPr>
            <a:xfrm>
              <a:off x="914400" y="548640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085" name=""/>
            <p:cNvSpPr/>
            <p:nvPr/>
          </p:nvSpPr>
          <p:spPr>
            <a:xfrm>
              <a:off x="1338480" y="573048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048120" y="2971800"/>
            <a:ext cx="3503880" cy="2436120"/>
            <a:chOff x="3048120" y="2971800"/>
            <a:chExt cx="3503880" cy="2436120"/>
          </a:xfrm>
        </p:grpSpPr>
        <p:grpSp>
          <p:nvGrpSpPr>
            <p:cNvPr id="1087" name=""/>
            <p:cNvGrpSpPr/>
            <p:nvPr/>
          </p:nvGrpSpPr>
          <p:grpSpPr>
            <a:xfrm>
              <a:off x="3048120" y="2980440"/>
              <a:ext cx="3495600" cy="2414880"/>
              <a:chOff x="3048120" y="2980440"/>
              <a:chExt cx="3495600" cy="2414880"/>
            </a:xfrm>
          </p:grpSpPr>
          <p:sp>
            <p:nvSpPr>
              <p:cNvPr id="1088" name=""/>
              <p:cNvSpPr/>
              <p:nvPr/>
            </p:nvSpPr>
            <p:spPr>
              <a:xfrm>
                <a:off x="4241160" y="298044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402360" y="324252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48120" y="384372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85720" y="420048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122360" y="4346640"/>
                <a:ext cx="176904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48080" y="327168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418000" y="377460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316120" y="393840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683160" y="355140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3048120" y="2971800"/>
              <a:ext cx="3503880" cy="2436120"/>
              <a:chOff x="3048120" y="2971800"/>
              <a:chExt cx="3503880" cy="2436120"/>
            </a:xfrm>
          </p:grpSpPr>
          <p:sp>
            <p:nvSpPr>
              <p:cNvPr id="1098" name=""/>
              <p:cNvSpPr/>
              <p:nvPr/>
            </p:nvSpPr>
            <p:spPr>
              <a:xfrm>
                <a:off x="4243320" y="2971800"/>
                <a:ext cx="153792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251600" y="298440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402360" y="3233880"/>
                <a:ext cx="117612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410640" y="324648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277440" y="418536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285720" y="419760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57800" y="325908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64280" y="327168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48440" y="374508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57440" y="3759120"/>
                <a:ext cx="128592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01000" y="395208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07840" y="396792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048120" y="383472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056400" y="384732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131360" y="443772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9280" y="4450320"/>
                <a:ext cx="171720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4" name=""/>
          <p:cNvSpPr/>
          <p:nvPr/>
        </p:nvSpPr>
        <p:spPr>
          <a:xfrm>
            <a:off x="4495680" y="4006800"/>
            <a:ext cx="14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/>
          <p:cNvPicPr/>
          <p:nvPr/>
        </p:nvPicPr>
        <p:blipFill>
          <a:blip r:embed="rId3"/>
          <a:stretch/>
        </p:blipFill>
        <p:spPr>
          <a:xfrm>
            <a:off x="3124080" y="31240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4"/>
          <a:stretch/>
        </p:blipFill>
        <p:spPr>
          <a:xfrm>
            <a:off x="5181480" y="30481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5"/>
          <a:stretch/>
        </p:blipFill>
        <p:spPr>
          <a:xfrm>
            <a:off x="2057400" y="518148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19" name=""/>
          <p:cNvGrpSpPr/>
          <p:nvPr/>
        </p:nvGrpSpPr>
        <p:grpSpPr>
          <a:xfrm>
            <a:off x="533520" y="3505320"/>
            <a:ext cx="2209320" cy="1142640"/>
            <a:chOff x="533520" y="3505320"/>
            <a:chExt cx="2209320" cy="1142640"/>
          </a:xfrm>
        </p:grpSpPr>
        <p:pic>
          <p:nvPicPr>
            <p:cNvPr id="1120" name="" descr=""/>
            <p:cNvPicPr/>
            <p:nvPr/>
          </p:nvPicPr>
          <p:blipFill>
            <a:blip r:embed="rId6"/>
            <a:stretch/>
          </p:blipFill>
          <p:spPr>
            <a:xfrm>
              <a:off x="533520" y="35053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121" name=""/>
            <p:cNvSpPr/>
            <p:nvPr/>
          </p:nvSpPr>
          <p:spPr>
            <a:xfrm>
              <a:off x="957600" y="37494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B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122" name="" descr=""/>
          <p:cNvPicPr/>
          <p:nvPr/>
        </p:nvPicPr>
        <p:blipFill>
          <a:blip r:embed="rId7"/>
          <a:stretch/>
        </p:blipFill>
        <p:spPr>
          <a:xfrm>
            <a:off x="1676520" y="32004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23" name=""/>
          <p:cNvGrpSpPr/>
          <p:nvPr/>
        </p:nvGrpSpPr>
        <p:grpSpPr>
          <a:xfrm>
            <a:off x="6400800" y="5334120"/>
            <a:ext cx="2209320" cy="1142640"/>
            <a:chOff x="6400800" y="5334120"/>
            <a:chExt cx="2209320" cy="1142640"/>
          </a:xfrm>
        </p:grpSpPr>
        <p:pic>
          <p:nvPicPr>
            <p:cNvPr id="1124" name="" descr=""/>
            <p:cNvPicPr/>
            <p:nvPr/>
          </p:nvPicPr>
          <p:blipFill>
            <a:blip r:embed="rId8"/>
            <a:stretch/>
          </p:blipFill>
          <p:spPr>
            <a:xfrm>
              <a:off x="64008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125" name=""/>
            <p:cNvSpPr/>
            <p:nvPr/>
          </p:nvSpPr>
          <p:spPr>
            <a:xfrm>
              <a:off x="68248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C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126" name="" descr=""/>
          <p:cNvPicPr/>
          <p:nvPr/>
        </p:nvPicPr>
        <p:blipFill>
          <a:blip r:embed="rId9"/>
          <a:stretch/>
        </p:blipFill>
        <p:spPr>
          <a:xfrm>
            <a:off x="6553080" y="51055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127" name=""/>
          <p:cNvGrpSpPr/>
          <p:nvPr/>
        </p:nvGrpSpPr>
        <p:grpSpPr>
          <a:xfrm>
            <a:off x="6705720" y="3505320"/>
            <a:ext cx="2209320" cy="1142640"/>
            <a:chOff x="6705720" y="3505320"/>
            <a:chExt cx="2209320" cy="1142640"/>
          </a:xfrm>
        </p:grpSpPr>
        <p:pic>
          <p:nvPicPr>
            <p:cNvPr id="1128" name="" descr=""/>
            <p:cNvPicPr/>
            <p:nvPr/>
          </p:nvPicPr>
          <p:blipFill>
            <a:blip r:embed="rId10"/>
            <a:stretch/>
          </p:blipFill>
          <p:spPr>
            <a:xfrm>
              <a:off x="6705720" y="35053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129" name=""/>
            <p:cNvSpPr/>
            <p:nvPr/>
          </p:nvSpPr>
          <p:spPr>
            <a:xfrm>
              <a:off x="7129800" y="37494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 (cliente D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130" name="" descr=""/>
          <p:cNvPicPr/>
          <p:nvPr/>
        </p:nvPicPr>
        <p:blipFill>
          <a:blip r:embed="rId11"/>
          <a:stretch/>
        </p:blipFill>
        <p:spPr>
          <a:xfrm>
            <a:off x="6858000" y="3276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131" name=""/>
          <p:cNvGrpSpPr/>
          <p:nvPr/>
        </p:nvGrpSpPr>
        <p:grpSpPr>
          <a:xfrm>
            <a:off x="6488280" y="1380960"/>
            <a:ext cx="2188800" cy="1123920"/>
            <a:chOff x="6488280" y="1380960"/>
            <a:chExt cx="2188800" cy="1123920"/>
          </a:xfrm>
        </p:grpSpPr>
        <p:grpSp>
          <p:nvGrpSpPr>
            <p:cNvPr id="1132" name=""/>
            <p:cNvGrpSpPr/>
            <p:nvPr/>
          </p:nvGrpSpPr>
          <p:grpSpPr>
            <a:xfrm>
              <a:off x="6488280" y="1384200"/>
              <a:ext cx="2182680" cy="1117800"/>
              <a:chOff x="6488280" y="1384200"/>
              <a:chExt cx="2182680" cy="1117800"/>
            </a:xfrm>
          </p:grpSpPr>
          <p:sp>
            <p:nvSpPr>
              <p:cNvPr id="1133" name=""/>
              <p:cNvSpPr/>
              <p:nvPr/>
            </p:nvSpPr>
            <p:spPr>
              <a:xfrm>
                <a:off x="7232760" y="1384200"/>
                <a:ext cx="952560" cy="462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710400" y="1506600"/>
                <a:ext cx="72864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488280" y="1784520"/>
                <a:ext cx="490320" cy="3762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35880" y="1949400"/>
                <a:ext cx="739800" cy="407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59680" y="2017800"/>
                <a:ext cx="1104840" cy="4842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61320" y="1519200"/>
                <a:ext cx="709560" cy="3636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67880" y="1752480"/>
                <a:ext cx="703080" cy="36360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4160" y="1828800"/>
                <a:ext cx="698760" cy="59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883560" y="1649520"/>
                <a:ext cx="1417680" cy="596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6488280" y="1380960"/>
              <a:ext cx="2188800" cy="1123920"/>
              <a:chOff x="6488280" y="1380960"/>
              <a:chExt cx="2188800" cy="1123920"/>
            </a:xfrm>
          </p:grpSpPr>
          <p:sp>
            <p:nvSpPr>
              <p:cNvPr id="1143" name=""/>
              <p:cNvSpPr/>
              <p:nvPr/>
            </p:nvSpPr>
            <p:spPr>
              <a:xfrm>
                <a:off x="7233480" y="1380960"/>
                <a:ext cx="961200" cy="46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237800" y="1386000"/>
                <a:ext cx="952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710400" y="1501920"/>
                <a:ext cx="732960" cy="46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715080" y="1506600"/>
                <a:ext cx="723960" cy="4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631200" y="1941840"/>
                <a:ext cx="760680" cy="42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635880" y="1947600"/>
                <a:ext cx="749880" cy="41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866360" y="1514520"/>
                <a:ext cx="709200" cy="36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873560" y="1519200"/>
                <a:ext cx="696960" cy="35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861680" y="1739520"/>
                <a:ext cx="815400" cy="39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866360" y="1744560"/>
                <a:ext cx="806040" cy="38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893360" y="1834560"/>
                <a:ext cx="718560" cy="59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899480" y="1837440"/>
                <a:ext cx="709200" cy="59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488280" y="1780920"/>
                <a:ext cx="517320" cy="38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492960" y="1785960"/>
                <a:ext cx="5079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164720" y="2057400"/>
                <a:ext cx="1084320" cy="44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171200" y="2062440"/>
                <a:ext cx="10742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>
              <a:off x="6902640" y="161604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160" name="" descr=""/>
          <p:cNvPicPr/>
          <p:nvPr/>
        </p:nvPicPr>
        <p:blipFill>
          <a:blip r:embed="rId12"/>
          <a:stretch/>
        </p:blipFill>
        <p:spPr>
          <a:xfrm>
            <a:off x="6629400" y="11430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61" name=""/>
          <p:cNvGrpSpPr/>
          <p:nvPr/>
        </p:nvGrpSpPr>
        <p:grpSpPr>
          <a:xfrm>
            <a:off x="4797360" y="1295280"/>
            <a:ext cx="1216080" cy="606600"/>
            <a:chOff x="4797360" y="1295280"/>
            <a:chExt cx="1216080" cy="606600"/>
          </a:xfrm>
        </p:grpSpPr>
        <p:sp>
          <p:nvSpPr>
            <p:cNvPr id="1162" name=""/>
            <p:cNvSpPr/>
            <p:nvPr/>
          </p:nvSpPr>
          <p:spPr>
            <a:xfrm>
              <a:off x="5212080" y="129528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920840" y="136152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797360" y="151236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79440" y="160200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171400" y="163908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2360" y="136836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21760" y="149508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586120" y="153648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17320" y="143928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 flipH="1" flipV="1">
            <a:off x="5409720" y="1828440"/>
            <a:ext cx="228600" cy="1219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715000" y="137160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00600" y="1295280"/>
            <a:ext cx="1218960" cy="609120"/>
            <a:chOff x="4800600" y="1295280"/>
            <a:chExt cx="1218960" cy="609120"/>
          </a:xfrm>
        </p:grpSpPr>
        <p:sp>
          <p:nvSpPr>
            <p:cNvPr id="1174" name=""/>
            <p:cNvSpPr/>
            <p:nvPr/>
          </p:nvSpPr>
          <p:spPr>
            <a:xfrm>
              <a:off x="5215680" y="1295280"/>
              <a:ext cx="5349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17840" y="129780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924080" y="136080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926600" y="136332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80160" y="159984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82680" y="160272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568480" y="1367640"/>
              <a:ext cx="394560" cy="19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572440" y="137016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565600" y="1489680"/>
              <a:ext cx="453960" cy="21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68480" y="1492560"/>
              <a:ext cx="448200" cy="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583240" y="1541520"/>
              <a:ext cx="39960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586840" y="1542960"/>
              <a:ext cx="39420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00600" y="1512360"/>
              <a:ext cx="287640" cy="20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03120" y="1514880"/>
              <a:ext cx="282600" cy="2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77520" y="166212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180760" y="166500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 flipH="1" flipV="1">
            <a:off x="5943600" y="3200040"/>
            <a:ext cx="9144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 flipV="1">
            <a:off x="5866920" y="4952520"/>
            <a:ext cx="68580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3"/>
          <a:stretch/>
        </p:blipFill>
        <p:spPr>
          <a:xfrm>
            <a:off x="5418000" y="464832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 flipV="1">
            <a:off x="2819520" y="5105160"/>
            <a:ext cx="6094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3352680"/>
            <a:ext cx="5331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5760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4267080" y="49528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5790960" y="3505320"/>
            <a:ext cx="1522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238880" y="66816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715000" y="25146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666880" y="236232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819520" y="541008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Dual-stac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Trebuchet MS"/>
              </a:rPr>
              <a:t>Rout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2057760" y="1827720"/>
            <a:ext cx="182808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038480" y="3429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5410080" y="1600200"/>
            <a:ext cx="1295640" cy="3047400"/>
            <a:chOff x="5410080" y="1600200"/>
            <a:chExt cx="1295640" cy="3047400"/>
          </a:xfrm>
        </p:grpSpPr>
        <p:sp>
          <p:nvSpPr>
            <p:cNvPr id="1206" name=""/>
            <p:cNvSpPr/>
            <p:nvPr/>
          </p:nvSpPr>
          <p:spPr>
            <a:xfrm flipH="1">
              <a:off x="5410080" y="160020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943600" y="160020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5699160" y="83808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5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46600" y="358128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95280" y="480060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3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32200" y="271152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192.168.1.0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30920" y="3389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60960" y="3595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48120" y="408312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92.168.2.0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657600" y="4495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876920" y="2971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"/>
          <p:cNvGrpSpPr/>
          <p:nvPr/>
        </p:nvGrpSpPr>
        <p:grpSpPr>
          <a:xfrm>
            <a:off x="152280" y="5345280"/>
            <a:ext cx="2209680" cy="1142640"/>
            <a:chOff x="152280" y="5345280"/>
            <a:chExt cx="2209680" cy="1142640"/>
          </a:xfrm>
        </p:grpSpPr>
        <p:pic>
          <p:nvPicPr>
            <p:cNvPr id="1219" name="" descr=""/>
            <p:cNvPicPr/>
            <p:nvPr/>
          </p:nvPicPr>
          <p:blipFill>
            <a:blip r:embed="rId1"/>
            <a:stretch/>
          </p:blipFill>
          <p:spPr>
            <a:xfrm>
              <a:off x="152280" y="5345280"/>
              <a:ext cx="220968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220" name=""/>
            <p:cNvSpPr/>
            <p:nvPr/>
          </p:nvSpPr>
          <p:spPr>
            <a:xfrm>
              <a:off x="576360" y="5589360"/>
              <a:ext cx="157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2209680" y="2830680"/>
            <a:ext cx="3503880" cy="2436120"/>
            <a:chOff x="2209680" y="2830680"/>
            <a:chExt cx="3503880" cy="2436120"/>
          </a:xfrm>
        </p:grpSpPr>
        <p:grpSp>
          <p:nvGrpSpPr>
            <p:cNvPr id="1222" name=""/>
            <p:cNvGrpSpPr/>
            <p:nvPr/>
          </p:nvGrpSpPr>
          <p:grpSpPr>
            <a:xfrm>
              <a:off x="2209680" y="2839320"/>
              <a:ext cx="3495600" cy="2414880"/>
              <a:chOff x="2209680" y="2839320"/>
              <a:chExt cx="3495600" cy="2414880"/>
            </a:xfrm>
          </p:grpSpPr>
          <p:sp>
            <p:nvSpPr>
              <p:cNvPr id="1223" name=""/>
              <p:cNvSpPr/>
              <p:nvPr/>
            </p:nvSpPr>
            <p:spPr>
              <a:xfrm>
                <a:off x="3403080" y="283932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563920" y="310140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209680" y="370260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447280" y="405936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283920" y="420552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410000" y="313056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579560" y="363348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478040" y="379728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844720" y="341028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2209680" y="2830680"/>
              <a:ext cx="3503880" cy="2436120"/>
              <a:chOff x="2209680" y="2830680"/>
              <a:chExt cx="3503880" cy="2436120"/>
            </a:xfrm>
          </p:grpSpPr>
          <p:sp>
            <p:nvSpPr>
              <p:cNvPr id="1233" name=""/>
              <p:cNvSpPr/>
              <p:nvPr/>
            </p:nvSpPr>
            <p:spPr>
              <a:xfrm>
                <a:off x="3405240" y="283068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413520" y="284328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563920" y="309276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572200" y="310536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439000" y="404424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447280" y="405648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419360" y="311796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426200" y="313056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10000" y="360396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418280" y="361800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462920" y="381096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469760" y="382680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09680" y="369360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17960" y="370620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292920" y="429660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300840" y="430920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9" name=""/>
          <p:cNvSpPr/>
          <p:nvPr/>
        </p:nvSpPr>
        <p:spPr>
          <a:xfrm>
            <a:off x="3809880" y="4354560"/>
            <a:ext cx="14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2"/>
          <a:stretch/>
        </p:blipFill>
        <p:spPr>
          <a:xfrm>
            <a:off x="2590920" y="465948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3"/>
          <a:stretch/>
        </p:blipFill>
        <p:spPr>
          <a:xfrm>
            <a:off x="2362320" y="298296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4"/>
          <a:stretch/>
        </p:blipFill>
        <p:spPr>
          <a:xfrm>
            <a:off x="4419720" y="290664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/>
          <p:cNvPicPr/>
          <p:nvPr/>
        </p:nvPicPr>
        <p:blipFill>
          <a:blip r:embed="rId5"/>
          <a:stretch/>
        </p:blipFill>
        <p:spPr>
          <a:xfrm>
            <a:off x="1295280" y="504036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254" name=""/>
          <p:cNvGrpSpPr/>
          <p:nvPr/>
        </p:nvGrpSpPr>
        <p:grpSpPr>
          <a:xfrm>
            <a:off x="5726160" y="1239840"/>
            <a:ext cx="2188800" cy="1123200"/>
            <a:chOff x="5726160" y="1239840"/>
            <a:chExt cx="2188800" cy="1123200"/>
          </a:xfrm>
        </p:grpSpPr>
        <p:grpSp>
          <p:nvGrpSpPr>
            <p:cNvPr id="1255" name=""/>
            <p:cNvGrpSpPr/>
            <p:nvPr/>
          </p:nvGrpSpPr>
          <p:grpSpPr>
            <a:xfrm>
              <a:off x="5726160" y="1242720"/>
              <a:ext cx="2182680" cy="1117080"/>
              <a:chOff x="5726160" y="1242720"/>
              <a:chExt cx="2182680" cy="1117080"/>
            </a:xfrm>
          </p:grpSpPr>
          <p:sp>
            <p:nvSpPr>
              <p:cNvPr id="1256" name=""/>
              <p:cNvSpPr/>
              <p:nvPr/>
            </p:nvSpPr>
            <p:spPr>
              <a:xfrm>
                <a:off x="6470640" y="1242720"/>
                <a:ext cx="95256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948280" y="1364760"/>
                <a:ext cx="728640" cy="461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726160" y="1642680"/>
                <a:ext cx="490320" cy="375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73760" y="1807560"/>
                <a:ext cx="739800" cy="407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397560" y="1875960"/>
                <a:ext cx="1104840" cy="483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099200" y="1377360"/>
                <a:ext cx="70956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205760" y="1610640"/>
                <a:ext cx="70308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142040" y="1686960"/>
                <a:ext cx="69876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21440" y="1507680"/>
                <a:ext cx="141768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5726160" y="1239840"/>
              <a:ext cx="2188800" cy="1123200"/>
              <a:chOff x="5726160" y="1239840"/>
              <a:chExt cx="2188800" cy="1123200"/>
            </a:xfrm>
          </p:grpSpPr>
          <p:sp>
            <p:nvSpPr>
              <p:cNvPr id="1266" name=""/>
              <p:cNvSpPr/>
              <p:nvPr/>
            </p:nvSpPr>
            <p:spPr>
              <a:xfrm>
                <a:off x="6471360" y="123984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475680" y="124452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948280" y="136044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52960" y="136512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69080" y="180072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73760" y="180648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104240" y="137304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111440" y="137772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099560" y="159804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104240" y="160308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31240" y="169344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137360" y="169632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726160" y="163944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30840" y="164448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02600" y="191628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09080" y="192132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82" name=""/>
            <p:cNvSpPr/>
            <p:nvPr/>
          </p:nvSpPr>
          <p:spPr>
            <a:xfrm>
              <a:off x="6140520" y="147456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283" name="" descr=""/>
          <p:cNvPicPr/>
          <p:nvPr/>
        </p:nvPicPr>
        <p:blipFill>
          <a:blip r:embed="rId6"/>
          <a:stretch/>
        </p:blipFill>
        <p:spPr>
          <a:xfrm>
            <a:off x="5867280" y="100188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284" name=""/>
          <p:cNvGrpSpPr/>
          <p:nvPr/>
        </p:nvGrpSpPr>
        <p:grpSpPr>
          <a:xfrm>
            <a:off x="4035600" y="1154160"/>
            <a:ext cx="1215360" cy="605880"/>
            <a:chOff x="4035600" y="1154160"/>
            <a:chExt cx="1215360" cy="605880"/>
          </a:xfrm>
        </p:grpSpPr>
        <p:sp>
          <p:nvSpPr>
            <p:cNvPr id="1285" name=""/>
            <p:cNvSpPr/>
            <p:nvPr/>
          </p:nvSpPr>
          <p:spPr>
            <a:xfrm>
              <a:off x="4449960" y="1154160"/>
              <a:ext cx="53028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59080" y="122040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35600" y="1371240"/>
              <a:ext cx="272880" cy="2037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17680" y="1460520"/>
              <a:ext cx="411840" cy="221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09280" y="1497600"/>
              <a:ext cx="615240" cy="2624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800240" y="1227240"/>
              <a:ext cx="394920" cy="196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859640" y="1353600"/>
              <a:ext cx="391320" cy="196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24000" y="139500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55560" y="1297800"/>
              <a:ext cx="78948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 flipH="1" flipV="1">
            <a:off x="4647960" y="1687680"/>
            <a:ext cx="228600" cy="1218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952880" y="123048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4038480" y="1154160"/>
            <a:ext cx="1218960" cy="609120"/>
            <a:chOff x="4038480" y="1154160"/>
            <a:chExt cx="1218960" cy="609120"/>
          </a:xfrm>
        </p:grpSpPr>
        <p:sp>
          <p:nvSpPr>
            <p:cNvPr id="1297" name=""/>
            <p:cNvSpPr/>
            <p:nvPr/>
          </p:nvSpPr>
          <p:spPr>
            <a:xfrm>
              <a:off x="4453560" y="1154160"/>
              <a:ext cx="5349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455720" y="115668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61960" y="121968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64480" y="122220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18040" y="145836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20560" y="146124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806360" y="1226520"/>
              <a:ext cx="39456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810320" y="122904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03480" y="1348560"/>
              <a:ext cx="45396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06360" y="1351440"/>
              <a:ext cx="44820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21120" y="1400040"/>
              <a:ext cx="399600" cy="32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824720" y="1401840"/>
              <a:ext cx="3942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38480" y="1370880"/>
              <a:ext cx="287640" cy="20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041000" y="1373760"/>
              <a:ext cx="282600" cy="2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15400" y="152100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18640" y="152388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3" name=""/>
          <p:cNvSpPr/>
          <p:nvPr/>
        </p:nvSpPr>
        <p:spPr>
          <a:xfrm flipV="1">
            <a:off x="2057400" y="4964040"/>
            <a:ext cx="6094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895480" y="34401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276720" y="3211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-76320" y="1611360"/>
            <a:ext cx="3733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Pv6 Addr: 2001:yyyy:0100:0301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2.2.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Dest. 192.168.3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295640" y="1686960"/>
            <a:ext cx="1828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76720" y="328788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648320" y="1459080"/>
            <a:ext cx="1294920" cy="3047400"/>
            <a:chOff x="4648320" y="1459080"/>
            <a:chExt cx="1294920" cy="3047400"/>
          </a:xfrm>
        </p:grpSpPr>
        <p:sp>
          <p:nvSpPr>
            <p:cNvPr id="1320" name=""/>
            <p:cNvSpPr/>
            <p:nvPr/>
          </p:nvSpPr>
          <p:spPr>
            <a:xfrm flipH="1">
              <a:off x="4648320" y="1459080"/>
              <a:ext cx="106560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181480" y="145908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3041640" y="333216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2001:yyyy:0300:0201::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Enlace IPv6 Nativ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362320" y="5421240"/>
            <a:ext cx="37335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Pv6 Addr: 2001:yyyy:0100:0301::2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3.1.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Dest. 192.168.2.2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2120" y="363600"/>
            <a:ext cx="6248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5.1./24, Tunnel Dest.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86400" y="3048120"/>
            <a:ext cx="3733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Dest. 192.168.5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228600" y="5334120"/>
            <a:ext cx="2209320" cy="1142640"/>
            <a:chOff x="228600" y="5334120"/>
            <a:chExt cx="2209320" cy="1142640"/>
          </a:xfrm>
        </p:grpSpPr>
        <p:pic>
          <p:nvPicPr>
            <p:cNvPr id="1328" name="" descr=""/>
            <p:cNvPicPr/>
            <p:nvPr/>
          </p:nvPicPr>
          <p:blipFill>
            <a:blip r:embed="rId1"/>
            <a:stretch/>
          </p:blipFill>
          <p:spPr>
            <a:xfrm>
              <a:off x="2286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329" name=""/>
            <p:cNvSpPr/>
            <p:nvPr/>
          </p:nvSpPr>
          <p:spPr>
            <a:xfrm>
              <a:off x="6526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2286000" y="2819520"/>
            <a:ext cx="3503880" cy="2436120"/>
            <a:chOff x="2286000" y="2819520"/>
            <a:chExt cx="3503880" cy="2436120"/>
          </a:xfrm>
        </p:grpSpPr>
        <p:grpSp>
          <p:nvGrpSpPr>
            <p:cNvPr id="1331" name=""/>
            <p:cNvGrpSpPr/>
            <p:nvPr/>
          </p:nvGrpSpPr>
          <p:grpSpPr>
            <a:xfrm>
              <a:off x="2286000" y="2828160"/>
              <a:ext cx="3495600" cy="2414880"/>
              <a:chOff x="2286000" y="2828160"/>
              <a:chExt cx="3495600" cy="2414880"/>
            </a:xfrm>
          </p:grpSpPr>
          <p:sp>
            <p:nvSpPr>
              <p:cNvPr id="1332" name=""/>
              <p:cNvSpPr/>
              <p:nvPr/>
            </p:nvSpPr>
            <p:spPr>
              <a:xfrm>
                <a:off x="3479400" y="282816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40240" y="309024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286000" y="369144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523600" y="404820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360240" y="419436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486320" y="311940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655880" y="362232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554360" y="378612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921040" y="339912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2286000" y="2819520"/>
              <a:ext cx="3503880" cy="2436120"/>
              <a:chOff x="2286000" y="2819520"/>
              <a:chExt cx="3503880" cy="2436120"/>
            </a:xfrm>
          </p:grpSpPr>
          <p:sp>
            <p:nvSpPr>
              <p:cNvPr id="1342" name=""/>
              <p:cNvSpPr/>
              <p:nvPr/>
            </p:nvSpPr>
            <p:spPr>
              <a:xfrm>
                <a:off x="3481560" y="281952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489840" y="283212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640240" y="308160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648520" y="309420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15320" y="403308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23600" y="404532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495680" y="310680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502520" y="311940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486320" y="359280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494600" y="360684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539240" y="379980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546080" y="381564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286000" y="368244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294280" y="369504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369240" y="428544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377160" y="429804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8" name=""/>
          <p:cNvSpPr/>
          <p:nvPr/>
        </p:nvSpPr>
        <p:spPr>
          <a:xfrm>
            <a:off x="3886200" y="4343400"/>
            <a:ext cx="14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361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362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5802480" y="1228680"/>
            <a:ext cx="2188800" cy="1123200"/>
            <a:chOff x="5802480" y="1228680"/>
            <a:chExt cx="2188800" cy="1123200"/>
          </a:xfrm>
        </p:grpSpPr>
        <p:grpSp>
          <p:nvGrpSpPr>
            <p:cNvPr id="1364" name=""/>
            <p:cNvGrpSpPr/>
            <p:nvPr/>
          </p:nvGrpSpPr>
          <p:grpSpPr>
            <a:xfrm>
              <a:off x="5802480" y="1231560"/>
              <a:ext cx="2182680" cy="1117080"/>
              <a:chOff x="5802480" y="1231560"/>
              <a:chExt cx="2182680" cy="1117080"/>
            </a:xfrm>
          </p:grpSpPr>
          <p:sp>
            <p:nvSpPr>
              <p:cNvPr id="1365" name=""/>
              <p:cNvSpPr/>
              <p:nvPr/>
            </p:nvSpPr>
            <p:spPr>
              <a:xfrm>
                <a:off x="6546960" y="1231560"/>
                <a:ext cx="95256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024600" y="1353600"/>
                <a:ext cx="728640" cy="461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802480" y="1631520"/>
                <a:ext cx="490320" cy="375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950080" y="1796400"/>
                <a:ext cx="739800" cy="407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473880" y="1864800"/>
                <a:ext cx="1104840" cy="483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175520" y="1366200"/>
                <a:ext cx="70956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282080" y="1599480"/>
                <a:ext cx="70308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218360" y="1675800"/>
                <a:ext cx="69876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197760" y="1496520"/>
                <a:ext cx="141768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802480" y="1228680"/>
              <a:ext cx="2188800" cy="1123200"/>
              <a:chOff x="5802480" y="1228680"/>
              <a:chExt cx="2188800" cy="1123200"/>
            </a:xfrm>
          </p:grpSpPr>
          <p:sp>
            <p:nvSpPr>
              <p:cNvPr id="1375" name=""/>
              <p:cNvSpPr/>
              <p:nvPr/>
            </p:nvSpPr>
            <p:spPr>
              <a:xfrm>
                <a:off x="6547680" y="122868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552000" y="123336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024600" y="134928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029280" y="135396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45400" y="178956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50080" y="179532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180560" y="136188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187760" y="136656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175880" y="158688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180560" y="159192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207560" y="168228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213680" y="168516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02480" y="162828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07160" y="163332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478920" y="190512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485400" y="191016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91" name=""/>
            <p:cNvSpPr/>
            <p:nvPr/>
          </p:nvSpPr>
          <p:spPr>
            <a:xfrm>
              <a:off x="6216840" y="146340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92" name="" descr=""/>
          <p:cNvPicPr/>
          <p:nvPr/>
        </p:nvPicPr>
        <p:blipFill>
          <a:blip r:embed="rId6"/>
          <a:stretch/>
        </p:blipFill>
        <p:spPr>
          <a:xfrm>
            <a:off x="5943600" y="990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393" name=""/>
          <p:cNvGrpSpPr/>
          <p:nvPr/>
        </p:nvGrpSpPr>
        <p:grpSpPr>
          <a:xfrm>
            <a:off x="4111560" y="1143000"/>
            <a:ext cx="1216080" cy="606600"/>
            <a:chOff x="4111560" y="1143000"/>
            <a:chExt cx="1216080" cy="606600"/>
          </a:xfrm>
        </p:grpSpPr>
        <p:sp>
          <p:nvSpPr>
            <p:cNvPr id="1394" name=""/>
            <p:cNvSpPr/>
            <p:nvPr/>
          </p:nvSpPr>
          <p:spPr>
            <a:xfrm>
              <a:off x="4526280" y="114300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35040" y="120924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111560" y="136008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93640" y="144972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85600" y="148680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876560" y="121608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935960" y="134280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900320" y="138420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31520" y="128700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03" name=""/>
          <p:cNvSpPr/>
          <p:nvPr/>
        </p:nvSpPr>
        <p:spPr>
          <a:xfrm flipH="1" flipV="1">
            <a:off x="4723920" y="1676520"/>
            <a:ext cx="228600" cy="1218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029200" y="12193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4114800" y="1143000"/>
            <a:ext cx="1218960" cy="609120"/>
            <a:chOff x="4114800" y="1143000"/>
            <a:chExt cx="1218960" cy="609120"/>
          </a:xfrm>
        </p:grpSpPr>
        <p:sp>
          <p:nvSpPr>
            <p:cNvPr id="1406" name=""/>
            <p:cNvSpPr/>
            <p:nvPr/>
          </p:nvSpPr>
          <p:spPr>
            <a:xfrm>
              <a:off x="4529880" y="1143000"/>
              <a:ext cx="5349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32040" y="114552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38280" y="120852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40800" y="121104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194360" y="144720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196880" y="145008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882680" y="1215360"/>
              <a:ext cx="39456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886640" y="121788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879800" y="1337400"/>
              <a:ext cx="45396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882680" y="1340280"/>
              <a:ext cx="44820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897440" y="1388880"/>
              <a:ext cx="399600" cy="32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901040" y="1390680"/>
              <a:ext cx="3942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114800" y="1359720"/>
              <a:ext cx="287640" cy="20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117320" y="1362600"/>
              <a:ext cx="282600" cy="2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91720" y="150984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94960" y="151272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 flipV="1">
            <a:off x="2133720" y="4952880"/>
            <a:ext cx="6094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3526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1371960" y="1675800"/>
            <a:ext cx="1828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352680" y="32767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4724280" y="1447920"/>
            <a:ext cx="1295640" cy="3047400"/>
            <a:chOff x="4724280" y="1447920"/>
            <a:chExt cx="1295640" cy="3047400"/>
          </a:xfrm>
        </p:grpSpPr>
        <p:sp>
          <p:nvSpPr>
            <p:cNvPr id="1428" name=""/>
            <p:cNvSpPr/>
            <p:nvPr/>
          </p:nvSpPr>
          <p:spPr>
            <a:xfrm flipH="1">
              <a:off x="4724280" y="144792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257800" y="14479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2438280" y="5410080"/>
            <a:ext cx="3733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IPv6 Addr: 2001:yyyy:0100:0301::2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3.1.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Dest. 192.168.2.2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00160"/>
            <a:ext cx="6248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5.1./24, Tunnel Dest.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410080" y="3733200"/>
            <a:ext cx="3429000" cy="1600200"/>
          </a:xfrm>
          <a:prstGeom prst="wedgeRectCallout">
            <a:avLst>
              <a:gd name="adj1" fmla="val -43800"/>
              <a:gd name="adj2" fmla="val 68152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unicast-rout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fastethernet1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1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300:0201::1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ip cisco enab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-720" y="914400"/>
            <a:ext cx="3429000" cy="1752480"/>
          </a:xfrm>
          <a:prstGeom prst="wedgeRectCallout">
            <a:avLst>
              <a:gd name="adj1" fmla="val -27962"/>
              <a:gd name="adj2" fmla="val 60685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unicast-rout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fastethernet1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1.2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300:0201::2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ip cisco enab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"/>
          <p:cNvGrpSpPr/>
          <p:nvPr/>
        </p:nvGrpSpPr>
        <p:grpSpPr>
          <a:xfrm>
            <a:off x="228600" y="5334120"/>
            <a:ext cx="2209320" cy="1142640"/>
            <a:chOff x="228600" y="5334120"/>
            <a:chExt cx="2209320" cy="1142640"/>
          </a:xfrm>
        </p:grpSpPr>
        <p:pic>
          <p:nvPicPr>
            <p:cNvPr id="1436" name="" descr=""/>
            <p:cNvPicPr/>
            <p:nvPr/>
          </p:nvPicPr>
          <p:blipFill>
            <a:blip r:embed="rId1"/>
            <a:stretch/>
          </p:blipFill>
          <p:spPr>
            <a:xfrm>
              <a:off x="2286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437" name=""/>
            <p:cNvSpPr/>
            <p:nvPr/>
          </p:nvSpPr>
          <p:spPr>
            <a:xfrm>
              <a:off x="6526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2286000" y="2819520"/>
            <a:ext cx="3503880" cy="2436120"/>
            <a:chOff x="2286000" y="2819520"/>
            <a:chExt cx="3503880" cy="2436120"/>
          </a:xfrm>
        </p:grpSpPr>
        <p:grpSp>
          <p:nvGrpSpPr>
            <p:cNvPr id="1439" name=""/>
            <p:cNvGrpSpPr/>
            <p:nvPr/>
          </p:nvGrpSpPr>
          <p:grpSpPr>
            <a:xfrm>
              <a:off x="2286000" y="2828160"/>
              <a:ext cx="3495600" cy="2414880"/>
              <a:chOff x="2286000" y="2828160"/>
              <a:chExt cx="3495600" cy="2414880"/>
            </a:xfrm>
          </p:grpSpPr>
          <p:sp>
            <p:nvSpPr>
              <p:cNvPr id="1440" name=""/>
              <p:cNvSpPr/>
              <p:nvPr/>
            </p:nvSpPr>
            <p:spPr>
              <a:xfrm>
                <a:off x="3479400" y="282816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640240" y="309024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286000" y="369144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523600" y="404820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60240" y="419436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486320" y="311940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655880" y="362232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54360" y="378612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921040" y="339912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2286000" y="2819520"/>
              <a:ext cx="3503880" cy="2436120"/>
              <a:chOff x="2286000" y="2819520"/>
              <a:chExt cx="3503880" cy="2436120"/>
            </a:xfrm>
          </p:grpSpPr>
          <p:sp>
            <p:nvSpPr>
              <p:cNvPr id="1450" name=""/>
              <p:cNvSpPr/>
              <p:nvPr/>
            </p:nvSpPr>
            <p:spPr>
              <a:xfrm>
                <a:off x="3481560" y="281952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489840" y="283212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640240" y="308160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648520" y="309420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15320" y="403308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23600" y="404532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495680" y="310680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502520" y="311940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486320" y="359280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494600" y="360684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539240" y="379980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546080" y="381564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6000" y="368244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94280" y="369504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369240" y="428544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377160" y="429804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6" name=""/>
          <p:cNvSpPr/>
          <p:nvPr/>
        </p:nvSpPr>
        <p:spPr>
          <a:xfrm>
            <a:off x="3886200" y="4343400"/>
            <a:ext cx="14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468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471" name=""/>
          <p:cNvGrpSpPr/>
          <p:nvPr/>
        </p:nvGrpSpPr>
        <p:grpSpPr>
          <a:xfrm>
            <a:off x="5802480" y="1228680"/>
            <a:ext cx="2188800" cy="1123200"/>
            <a:chOff x="5802480" y="1228680"/>
            <a:chExt cx="2188800" cy="1123200"/>
          </a:xfrm>
        </p:grpSpPr>
        <p:grpSp>
          <p:nvGrpSpPr>
            <p:cNvPr id="1472" name=""/>
            <p:cNvGrpSpPr/>
            <p:nvPr/>
          </p:nvGrpSpPr>
          <p:grpSpPr>
            <a:xfrm>
              <a:off x="5802480" y="1231560"/>
              <a:ext cx="2182680" cy="1117080"/>
              <a:chOff x="5802480" y="1231560"/>
              <a:chExt cx="2182680" cy="1117080"/>
            </a:xfrm>
          </p:grpSpPr>
          <p:sp>
            <p:nvSpPr>
              <p:cNvPr id="1473" name=""/>
              <p:cNvSpPr/>
              <p:nvPr/>
            </p:nvSpPr>
            <p:spPr>
              <a:xfrm>
                <a:off x="6546960" y="1231560"/>
                <a:ext cx="95256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024600" y="1353600"/>
                <a:ext cx="728640" cy="461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02480" y="1631520"/>
                <a:ext cx="490320" cy="375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950080" y="1796400"/>
                <a:ext cx="739800" cy="407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473880" y="1864800"/>
                <a:ext cx="1104840" cy="483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75520" y="1366200"/>
                <a:ext cx="70956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282080" y="1599480"/>
                <a:ext cx="70308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218360" y="1675800"/>
                <a:ext cx="69876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197760" y="1496520"/>
                <a:ext cx="141768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5802480" y="1228680"/>
              <a:ext cx="2188800" cy="1123200"/>
              <a:chOff x="5802480" y="1228680"/>
              <a:chExt cx="2188800" cy="1123200"/>
            </a:xfrm>
          </p:grpSpPr>
          <p:sp>
            <p:nvSpPr>
              <p:cNvPr id="1483" name=""/>
              <p:cNvSpPr/>
              <p:nvPr/>
            </p:nvSpPr>
            <p:spPr>
              <a:xfrm>
                <a:off x="6547680" y="122868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552000" y="123336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024600" y="134928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029280" y="135396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945400" y="178956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950080" y="179532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180560" y="136188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187760" y="136656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175880" y="158688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180560" y="159192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207560" y="168228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213680" y="168516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02480" y="162828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07160" y="163332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478920" y="190512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485400" y="191016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99" name=""/>
            <p:cNvSpPr/>
            <p:nvPr/>
          </p:nvSpPr>
          <p:spPr>
            <a:xfrm>
              <a:off x="6216840" y="146340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500" name="" descr=""/>
          <p:cNvPicPr/>
          <p:nvPr/>
        </p:nvPicPr>
        <p:blipFill>
          <a:blip r:embed="rId6"/>
          <a:stretch/>
        </p:blipFill>
        <p:spPr>
          <a:xfrm>
            <a:off x="5943600" y="990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501" name=""/>
          <p:cNvGrpSpPr/>
          <p:nvPr/>
        </p:nvGrpSpPr>
        <p:grpSpPr>
          <a:xfrm>
            <a:off x="4111560" y="1143000"/>
            <a:ext cx="1216080" cy="606600"/>
            <a:chOff x="4111560" y="1143000"/>
            <a:chExt cx="1216080" cy="606600"/>
          </a:xfrm>
        </p:grpSpPr>
        <p:sp>
          <p:nvSpPr>
            <p:cNvPr id="1502" name=""/>
            <p:cNvSpPr/>
            <p:nvPr/>
          </p:nvSpPr>
          <p:spPr>
            <a:xfrm>
              <a:off x="4526280" y="114300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235040" y="120924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111560" y="136008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193640" y="144972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5600" y="148680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876560" y="121608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35960" y="134280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900320" y="138420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1520" y="128700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 flipH="1" flipV="1">
            <a:off x="4723920" y="1676520"/>
            <a:ext cx="228600" cy="1218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029200" y="12193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4114800" y="1143000"/>
            <a:ext cx="1218960" cy="609120"/>
            <a:chOff x="4114800" y="1143000"/>
            <a:chExt cx="1218960" cy="609120"/>
          </a:xfrm>
        </p:grpSpPr>
        <p:sp>
          <p:nvSpPr>
            <p:cNvPr id="1514" name=""/>
            <p:cNvSpPr/>
            <p:nvPr/>
          </p:nvSpPr>
          <p:spPr>
            <a:xfrm>
              <a:off x="4529880" y="1143000"/>
              <a:ext cx="5349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532040" y="114552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238280" y="120852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240800" y="121104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94360" y="144720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96880" y="145008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882680" y="1215360"/>
              <a:ext cx="39456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86640" y="121788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79800" y="1337400"/>
              <a:ext cx="45396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82680" y="1340280"/>
              <a:ext cx="44820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897440" y="1388880"/>
              <a:ext cx="399600" cy="32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901040" y="1390680"/>
              <a:ext cx="3942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114800" y="1359720"/>
              <a:ext cx="287640" cy="20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117320" y="1362600"/>
              <a:ext cx="282600" cy="2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491720" y="150984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94960" y="151272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0" name=""/>
          <p:cNvSpPr/>
          <p:nvPr/>
        </p:nvSpPr>
        <p:spPr>
          <a:xfrm flipV="1">
            <a:off x="2133720" y="4952880"/>
            <a:ext cx="6094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97180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3526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1371960" y="1675800"/>
            <a:ext cx="1828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352680" y="32767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4724280" y="1447920"/>
            <a:ext cx="1295640" cy="3047400"/>
            <a:chOff x="4724280" y="1447920"/>
            <a:chExt cx="1295640" cy="3047400"/>
          </a:xfrm>
        </p:grpSpPr>
        <p:sp>
          <p:nvSpPr>
            <p:cNvPr id="1536" name=""/>
            <p:cNvSpPr/>
            <p:nvPr/>
          </p:nvSpPr>
          <p:spPr>
            <a:xfrm flipH="1">
              <a:off x="4724280" y="144792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57800" y="14479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8" name=""/>
          <p:cNvSpPr/>
          <p:nvPr/>
        </p:nvSpPr>
        <p:spPr>
          <a:xfrm>
            <a:off x="609480" y="200160"/>
            <a:ext cx="6248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5.1./24, Tunnel Dest.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5257800" y="3200400"/>
            <a:ext cx="3886200" cy="3657600"/>
          </a:xfrm>
          <a:prstGeom prst="wedgeRectCallout">
            <a:avLst>
              <a:gd name="adj1" fmla="val -44856"/>
              <a:gd name="adj2" fmla="val 53773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serial 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4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route-cach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300:0202::1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source serial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destination 192.168.5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mode ipv6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2001:yyyy:0300:0201::64/64 fastethernet1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::/0 tunnel 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-720" y="1065960"/>
            <a:ext cx="2438280" cy="3962520"/>
          </a:xfrm>
          <a:prstGeom prst="wedgeRectCallout">
            <a:avLst>
              <a:gd name="adj1" fmla="val -200069"/>
              <a:gd name="adj2" fmla="val 4475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serial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5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route-cach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300:0202::1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source serial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destination 192.168.4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mode ipv6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2001:yyyy:/32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"/>
          <p:cNvGrpSpPr/>
          <p:nvPr/>
        </p:nvGrpSpPr>
        <p:grpSpPr>
          <a:xfrm>
            <a:off x="228600" y="5334120"/>
            <a:ext cx="2209320" cy="1142640"/>
            <a:chOff x="228600" y="5334120"/>
            <a:chExt cx="2209320" cy="1142640"/>
          </a:xfrm>
        </p:grpSpPr>
        <p:pic>
          <p:nvPicPr>
            <p:cNvPr id="1543" name="" descr=""/>
            <p:cNvPicPr/>
            <p:nvPr/>
          </p:nvPicPr>
          <p:blipFill>
            <a:blip r:embed="rId1"/>
            <a:stretch/>
          </p:blipFill>
          <p:spPr>
            <a:xfrm>
              <a:off x="228600" y="533412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544" name=""/>
            <p:cNvSpPr/>
            <p:nvPr/>
          </p:nvSpPr>
          <p:spPr>
            <a:xfrm>
              <a:off x="652680" y="557820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Red IPv4/IPv6 (cliente 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286000" y="2819520"/>
            <a:ext cx="3503880" cy="2436120"/>
            <a:chOff x="2286000" y="2819520"/>
            <a:chExt cx="3503880" cy="2436120"/>
          </a:xfrm>
        </p:grpSpPr>
        <p:grpSp>
          <p:nvGrpSpPr>
            <p:cNvPr id="1546" name=""/>
            <p:cNvGrpSpPr/>
            <p:nvPr/>
          </p:nvGrpSpPr>
          <p:grpSpPr>
            <a:xfrm>
              <a:off x="2286000" y="2828160"/>
              <a:ext cx="3495600" cy="2414880"/>
              <a:chOff x="2286000" y="2828160"/>
              <a:chExt cx="3495600" cy="2414880"/>
            </a:xfrm>
          </p:grpSpPr>
          <p:sp>
            <p:nvSpPr>
              <p:cNvPr id="1547" name=""/>
              <p:cNvSpPr/>
              <p:nvPr/>
            </p:nvSpPr>
            <p:spPr>
              <a:xfrm>
                <a:off x="3479400" y="2828160"/>
                <a:ext cx="152244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640240" y="3090240"/>
                <a:ext cx="1168200" cy="996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86000" y="3691440"/>
                <a:ext cx="788040" cy="8164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523600" y="4048200"/>
                <a:ext cx="1184760" cy="8848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360240" y="4194360"/>
                <a:ext cx="1769400" cy="104868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486320" y="3119400"/>
                <a:ext cx="113400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55880" y="3622320"/>
                <a:ext cx="1125720" cy="7862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554360" y="3786120"/>
                <a:ext cx="1116720" cy="12931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921040" y="3399120"/>
                <a:ext cx="2267640" cy="1289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2286000" y="2819520"/>
              <a:ext cx="3503880" cy="2436120"/>
              <a:chOff x="2286000" y="2819520"/>
              <a:chExt cx="3503880" cy="2436120"/>
            </a:xfrm>
          </p:grpSpPr>
          <p:sp>
            <p:nvSpPr>
              <p:cNvPr id="1557" name=""/>
              <p:cNvSpPr/>
              <p:nvPr/>
            </p:nvSpPr>
            <p:spPr>
              <a:xfrm>
                <a:off x="3481560" y="2819520"/>
                <a:ext cx="1538280" cy="10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0" y="7336"/>
                    </a:moveTo>
                    <a:arcTo wR="10800" hR="10800" stAng="-9677695" swAng="8375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0" y="7336"/>
                    </a:moveTo>
                    <a:arcTo wR="10800" hR="10800" stAng="-9677695" swAng="837541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489840" y="2832120"/>
                <a:ext cx="1522080" cy="9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86" y="7290"/>
                    </a:moveTo>
                    <a:arcTo wR="10800" hR="10800" stAng="-9662082" swAng="8342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86" y="7290"/>
                    </a:moveTo>
                    <a:arcTo wR="10800" hR="10800" stAng="-9662082" swAng="8342145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640240" y="3081600"/>
                <a:ext cx="1176840" cy="100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4"/>
                    </a:moveTo>
                    <a:arcTo wR="10800" hR="10800" stAng="10057514" swAng="8051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4"/>
                    </a:moveTo>
                    <a:arcTo wR="10800" hR="10800" stAng="10057514" swAng="8051019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648520" y="3094200"/>
                <a:ext cx="1157760" cy="9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7" y="13140"/>
                    </a:moveTo>
                    <a:arcTo wR="10800" hR="10800" stAng="10049259" swAng="8041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7" y="13140"/>
                    </a:moveTo>
                    <a:arcTo wR="10800" hR="10800" stAng="10049259" swAng="8041746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515320" y="4033080"/>
                <a:ext cx="1217520" cy="90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2" y="20243"/>
                    </a:moveTo>
                    <a:arcTo wR="10800" hR="10800" stAng="3657825" swAng="730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2" y="20243"/>
                    </a:moveTo>
                    <a:arcTo wR="10800" hR="10800" stAng="3657825" swAng="730694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523600" y="4045320"/>
                <a:ext cx="1202760" cy="88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83" y="20275"/>
                    </a:moveTo>
                    <a:arcTo wR="10800" hR="10800" stAng="3679126" swAng="7288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83" y="20275"/>
                    </a:moveTo>
                    <a:arcTo wR="10800" hR="10800" stAng="3679126" swAng="7288074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495680" y="3106800"/>
                <a:ext cx="1132560" cy="7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36" y="219"/>
                    </a:moveTo>
                    <a:arcTo wR="10800" hR="10800" stAng="-6093420" swAng="7869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36" y="219"/>
                    </a:moveTo>
                    <a:arcTo wR="10800" hR="10800" stAng="-6093420" swAng="7869116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502520" y="3119400"/>
                <a:ext cx="1117800" cy="7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74" y="211"/>
                    </a:moveTo>
                    <a:arcTo wR="10800" hR="10800" stAng="-6081227" swAng="7883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74" y="211"/>
                    </a:moveTo>
                    <a:arcTo wR="10800" hR="10800" stAng="-6081227" swAng="7883948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86320" y="3592800"/>
                <a:ext cx="1303560" cy="8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8"/>
                    </a:moveTo>
                    <a:arcTo wR="10800" hR="10800" stAng="-3079728" swAng="521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8"/>
                    </a:moveTo>
                    <a:arcTo wR="10800" hR="10800" stAng="-3079728" swAng="5215234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494600" y="3606840"/>
                <a:ext cx="128700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6" y="2311"/>
                    </a:moveTo>
                    <a:arcTo wR="10800" hR="10800" stAng="-3108995" swAng="527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6" y="2311"/>
                    </a:moveTo>
                    <a:arcTo wR="10800" hR="10800" stAng="-3108995" swAng="527302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539240" y="3799800"/>
                <a:ext cx="114840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0" y="7714"/>
                    </a:moveTo>
                    <a:arcTo wR="10800" hR="10800" stAng="-996347" swAng="7522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0" y="7714"/>
                    </a:moveTo>
                    <a:arcTo wR="10800" hR="10800" stAng="-996347" swAng="7522215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46080" y="3815640"/>
                <a:ext cx="1133280" cy="12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5" y="7699"/>
                    </a:moveTo>
                    <a:arcTo wR="10800" hR="10800" stAng="-1001234" swAng="75216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5" y="7699"/>
                    </a:moveTo>
                    <a:arcTo wR="10800" hR="10800" stAng="-1001234" swAng="7521691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286000" y="3682440"/>
                <a:ext cx="832680" cy="83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8" y="20662"/>
                    </a:moveTo>
                    <a:arcTo wR="10800" hR="10800" stAng="6843274" swAng="9135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8" y="20662"/>
                    </a:moveTo>
                    <a:arcTo wR="10800" hR="10800" stAng="6843274" swAng="9135251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294280" y="3695040"/>
                <a:ext cx="816120" cy="80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7" y="20680"/>
                    </a:moveTo>
                    <a:arcTo wR="10800" hR="10800" stAng="6829599" swAng="9151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7" y="20680"/>
                    </a:moveTo>
                    <a:arcTo wR="10800" hR="10800" stAng="6829599" swAng="9151283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69240" y="4285440"/>
                <a:ext cx="1734480" cy="9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2" y="16973"/>
                    </a:moveTo>
                    <a:arcTo wR="10800" hR="10800" stAng="2091630" swAng="80248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2" y="16973"/>
                    </a:moveTo>
                    <a:arcTo wR="10800" hR="10800" stAng="2091630" swAng="8024878"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377160" y="4298040"/>
                <a:ext cx="1717560" cy="94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2" y="17044"/>
                    </a:moveTo>
                    <a:arcTo wR="10800" hR="10800" stAng="2119406" swAng="7985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2" y="17044"/>
                    </a:moveTo>
                    <a:arcTo wR="10800" hR="10800" stAng="2119406" swAng="7985579"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3" name=""/>
          <p:cNvSpPr/>
          <p:nvPr/>
        </p:nvSpPr>
        <p:spPr>
          <a:xfrm>
            <a:off x="3886200" y="4343400"/>
            <a:ext cx="14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 IPv4 del  I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4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576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/>
          <p:cNvPicPr/>
          <p:nvPr/>
        </p:nvPicPr>
        <p:blipFill>
          <a:blip r:embed="rId5"/>
          <a:stretch/>
        </p:blipFill>
        <p:spPr>
          <a:xfrm>
            <a:off x="1371600" y="5029200"/>
            <a:ext cx="906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78" name=""/>
          <p:cNvGrpSpPr/>
          <p:nvPr/>
        </p:nvGrpSpPr>
        <p:grpSpPr>
          <a:xfrm>
            <a:off x="5802480" y="1228680"/>
            <a:ext cx="2188800" cy="1123200"/>
            <a:chOff x="5802480" y="1228680"/>
            <a:chExt cx="2188800" cy="1123200"/>
          </a:xfrm>
        </p:grpSpPr>
        <p:grpSp>
          <p:nvGrpSpPr>
            <p:cNvPr id="1579" name=""/>
            <p:cNvGrpSpPr/>
            <p:nvPr/>
          </p:nvGrpSpPr>
          <p:grpSpPr>
            <a:xfrm>
              <a:off x="5802480" y="1231560"/>
              <a:ext cx="2182680" cy="1117080"/>
              <a:chOff x="5802480" y="1231560"/>
              <a:chExt cx="2182680" cy="1117080"/>
            </a:xfrm>
          </p:grpSpPr>
          <p:sp>
            <p:nvSpPr>
              <p:cNvPr id="1580" name=""/>
              <p:cNvSpPr/>
              <p:nvPr/>
            </p:nvSpPr>
            <p:spPr>
              <a:xfrm>
                <a:off x="6546960" y="1231560"/>
                <a:ext cx="952560" cy="46188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24600" y="1353600"/>
                <a:ext cx="728640" cy="461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02480" y="1631520"/>
                <a:ext cx="490320" cy="375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950080" y="1796400"/>
                <a:ext cx="739800" cy="407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473880" y="1864800"/>
                <a:ext cx="1104840" cy="4838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175520" y="1366200"/>
                <a:ext cx="70956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282080" y="1599480"/>
                <a:ext cx="703080" cy="36324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18360" y="1675800"/>
                <a:ext cx="69876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197760" y="1496520"/>
                <a:ext cx="1417680" cy="5965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5802480" y="1228680"/>
              <a:ext cx="2188800" cy="1123200"/>
              <a:chOff x="5802480" y="1228680"/>
              <a:chExt cx="2188800" cy="112320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47680" y="122868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52000" y="123336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024600" y="134928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029280" y="135396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945400" y="178956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950080" y="179532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80560" y="136188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187760" y="136656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175880" y="158688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180560" y="159192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207560" y="168228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213680" y="168516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802480" y="162828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07160" y="163332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478920" y="190512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485400" y="191016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33cccc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6216840" y="1463400"/>
              <a:ext cx="15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unto de Intercambio 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607" name="" descr=""/>
          <p:cNvPicPr/>
          <p:nvPr/>
        </p:nvPicPr>
        <p:blipFill>
          <a:blip r:embed="rId6"/>
          <a:stretch/>
        </p:blipFill>
        <p:spPr>
          <a:xfrm>
            <a:off x="5943600" y="990720"/>
            <a:ext cx="906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4111560" y="1143000"/>
            <a:ext cx="1216080" cy="606600"/>
            <a:chOff x="4111560" y="1143000"/>
            <a:chExt cx="1216080" cy="606600"/>
          </a:xfrm>
        </p:grpSpPr>
        <p:sp>
          <p:nvSpPr>
            <p:cNvPr id="1609" name=""/>
            <p:cNvSpPr/>
            <p:nvPr/>
          </p:nvSpPr>
          <p:spPr>
            <a:xfrm>
              <a:off x="4526280" y="1143000"/>
              <a:ext cx="53064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235040" y="1209240"/>
              <a:ext cx="405720" cy="250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111560" y="1360080"/>
              <a:ext cx="272880" cy="2041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193640" y="1449720"/>
              <a:ext cx="412200" cy="221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485600" y="1486800"/>
              <a:ext cx="615600" cy="2628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876560" y="1216080"/>
              <a:ext cx="3952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35960" y="1342800"/>
              <a:ext cx="391680" cy="197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900320" y="1384200"/>
              <a:ext cx="38916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331520" y="1287000"/>
              <a:ext cx="789840" cy="323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18" name=""/>
          <p:cNvSpPr/>
          <p:nvPr/>
        </p:nvSpPr>
        <p:spPr>
          <a:xfrm flipH="1" flipV="1">
            <a:off x="4723920" y="1676520"/>
            <a:ext cx="228600" cy="1218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029200" y="12193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4114800" y="1143000"/>
            <a:ext cx="1218960" cy="609120"/>
            <a:chOff x="4114800" y="1143000"/>
            <a:chExt cx="1218960" cy="609120"/>
          </a:xfrm>
        </p:grpSpPr>
        <p:sp>
          <p:nvSpPr>
            <p:cNvPr id="1621" name=""/>
            <p:cNvSpPr/>
            <p:nvPr/>
          </p:nvSpPr>
          <p:spPr>
            <a:xfrm>
              <a:off x="4529880" y="1143000"/>
              <a:ext cx="5349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" y="7351"/>
                  </a:moveTo>
                  <a:arcTo wR="10800" hR="10800" stAng="-9682569" swAng="8361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" y="7351"/>
                  </a:moveTo>
                  <a:arcTo wR="10800" hR="10800" stAng="-9682569" swAng="8361996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32040" y="1145520"/>
              <a:ext cx="53028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7" y="7318"/>
                  </a:moveTo>
                  <a:arcTo wR="10800" hR="10800" stAng="-9671347" swAng="8337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577" y="7318"/>
                  </a:moveTo>
                  <a:arcTo wR="10800" hR="10800" stAng="-9671347" swAng="8337896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238280" y="1208520"/>
              <a:ext cx="40788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7" y="13096"/>
                  </a:moveTo>
                  <a:arcTo wR="10800" hR="10800" stAng="10063487" swAng="8048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7" y="13096"/>
                  </a:moveTo>
                  <a:arcTo wR="10800" hR="10800" stAng="10063487" swAng="804895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240800" y="1211040"/>
              <a:ext cx="4032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" y="13113"/>
                  </a:moveTo>
                  <a:arcTo wR="10800" hR="10800" stAng="10058078" swAng="8042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" y="13113"/>
                  </a:moveTo>
                  <a:arcTo wR="10800" hR="10800" stAng="10058078" swAng="8042753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194360" y="1447200"/>
              <a:ext cx="423000" cy="2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79" y="20222"/>
                  </a:moveTo>
                  <a:arcTo wR="10800" hR="10800" stAng="3644329" swAng="732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79" y="20222"/>
                  </a:moveTo>
                  <a:arcTo wR="10800" hR="10800" stAng="3644329" swAng="73250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196880" y="1450080"/>
              <a:ext cx="417240" cy="2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38" y="20245"/>
                  </a:moveTo>
                  <a:arcTo wR="10800" hR="10800" stAng="3659382" swAng="7311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38" y="20245"/>
                  </a:moveTo>
                  <a:arcTo wR="10800" hR="10800" stAng="3659382" swAng="731170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882680" y="1215360"/>
              <a:ext cx="394560" cy="19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96" y="227"/>
                  </a:moveTo>
                  <a:arcTo wR="10800" hR="10800" stAng="-6106623" swAng="7890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8596" y="227"/>
                  </a:moveTo>
                  <a:arcTo wR="10800" hR="10800" stAng="-6106623" swAng="789073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886640" y="1217880"/>
              <a:ext cx="387720" cy="1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3" y="222"/>
                  </a:moveTo>
                  <a:arcTo wR="10800" hR="10800" stAng="-6097743" swAng="7901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3" y="222"/>
                  </a:moveTo>
                  <a:arcTo wR="10800" hR="10800" stAng="-6097743" swAng="7901172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9800" y="1337400"/>
              <a:ext cx="453960" cy="21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3" y="2379"/>
                  </a:moveTo>
                  <a:arcTo wR="10800" hR="10800" stAng="-3073884" swAng="5226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3" y="2379"/>
                  </a:moveTo>
                  <a:arcTo wR="10800" hR="10800" stAng="-3073884" swAng="522638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882680" y="1340280"/>
              <a:ext cx="44820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10" y="2338"/>
                  </a:moveTo>
                  <a:arcTo wR="10800" hR="10800" stAng="-3095213" swAng="5268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10" y="2338"/>
                  </a:moveTo>
                  <a:arcTo wR="10800" hR="10800" stAng="-3095213" swAng="5268528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897440" y="1388880"/>
              <a:ext cx="399600" cy="32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6" y="7700"/>
                  </a:moveTo>
                  <a:arcTo wR="10800" hR="10800" stAng="-1000703" swAng="7537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6" y="7700"/>
                  </a:moveTo>
                  <a:arcTo wR="10800" hR="10800" stAng="-1000703" swAng="7537860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901040" y="1390680"/>
              <a:ext cx="3942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3"/>
                  </a:moveTo>
                  <a:arcTo wR="10800" hR="10800" stAng="-1003227" swAng="75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3"/>
                  </a:moveTo>
                  <a:arcTo wR="10800" hR="10800" stAng="-1003227" swAng="7537570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114800" y="1359720"/>
              <a:ext cx="287640" cy="20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96" y="20661"/>
                  </a:moveTo>
                  <a:arcTo wR="10800" hR="10800" stAng="6843840" swAng="9145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6396" y="20661"/>
                  </a:moveTo>
                  <a:arcTo wR="10800" hR="10800" stAng="6843840" swAng="9145519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117320" y="1362600"/>
              <a:ext cx="282600" cy="2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0" y="20672"/>
                  </a:moveTo>
                  <a:arcTo wR="10800" hR="10800" stAng="6835634" swAng="9155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0" y="20672"/>
                  </a:moveTo>
                  <a:arcTo wR="10800" hR="10800" stAng="6835634" swAng="9155071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491720" y="1509840"/>
              <a:ext cx="60372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5" y="16983"/>
                  </a:moveTo>
                  <a:arcTo wR="10800" hR="10800" stAng="2095618" swAng="801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5" y="16983"/>
                  </a:moveTo>
                  <a:arcTo wR="10800" hR="10800" stAng="2095618" swAng="8011703"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94960" y="1512720"/>
              <a:ext cx="597960" cy="2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18" y="17036"/>
                  </a:moveTo>
                  <a:arcTo wR="10800" hR="10800" stAng="2116129" swAng="79825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18" y="17036"/>
                  </a:moveTo>
                  <a:arcTo wR="10800" hR="10800" stAng="2116129" swAng="7982594"/>
                </a:path>
              </a:pathLst>
            </a:custGeom>
            <a:solidFill>
              <a:srgbClr val="ffcc99"/>
            </a:solidFill>
            <a:ln w="1116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2133720" y="4952880"/>
            <a:ext cx="6094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526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1371960" y="1675800"/>
            <a:ext cx="1828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352680" y="32767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4724280" y="1447920"/>
            <a:ext cx="1295640" cy="3047400"/>
            <a:chOff x="4724280" y="1447920"/>
            <a:chExt cx="1295640" cy="3047400"/>
          </a:xfrm>
        </p:grpSpPr>
        <p:sp>
          <p:nvSpPr>
            <p:cNvPr id="1643" name=""/>
            <p:cNvSpPr/>
            <p:nvPr/>
          </p:nvSpPr>
          <p:spPr>
            <a:xfrm flipH="1">
              <a:off x="4724280" y="1447920"/>
              <a:ext cx="10663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257800" y="14479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685800" y="200160"/>
            <a:ext cx="6248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el 1:IPv6 Addr: 2001:yyyy:0300:0202::1/6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Tunnel Source: 192.168.5.1./24, Tunnel Dest. 192.168.4.1/24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86400" y="2971800"/>
            <a:ext cx="3429000" cy="3657600"/>
          </a:xfrm>
          <a:prstGeom prst="wedgeRectCallout">
            <a:avLst>
              <a:gd name="adj1" fmla="val -148055"/>
              <a:gd name="adj2" fmla="val 17402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serial 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3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route-cach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100:0301::2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source serial2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destination 192.168.2.2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ode ipv6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2001:yyyy:0101::/64 fastethernet1/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::/0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H="1">
            <a:off x="-720" y="914400"/>
            <a:ext cx="3048120" cy="3962520"/>
          </a:xfrm>
          <a:prstGeom prst="wedgeRectCallout">
            <a:avLst>
              <a:gd name="adj1" fmla="val -37708"/>
              <a:gd name="adj2" fmla="val -1203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unicast-rout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fastethernet1/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 address 192.168.1.2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face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No ip addre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address 2001:yyyy:0100:0301::1/6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source fastethernet1/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Tunnel destination 192.168.3.1 255.255.255.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ode ipv6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pv6 route 2001:yyyy:0101::/48 tunnel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167080" y="31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Configuración de Tu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80880" y="1779480"/>
            <a:ext cx="87631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Network Address Translation-Protocol Translation (NAT-PT) </a:t>
            </a: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RFC 2766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Transport Relay Translator </a:t>
            </a:r>
            <a:r>
              <a:rPr b="1" i="1" lang="es-ES" sz="2400" spc="-1" strike="noStrike">
                <a:solidFill>
                  <a:srgbClr val="ffffcc"/>
                </a:solidFill>
                <a:latin typeface="Trebuchet MS"/>
              </a:rPr>
              <a:t>(TCP-UDP Relay)</a:t>
            </a: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RFC 314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Bump-in-the-Stack (BIS) </a:t>
            </a: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RFC 2767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Dual Stack Transition Mechanism (DSTM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Internet Draft draft-ietf-ngtrans-dstm-07.tx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rebuchet MS"/>
              </a:rPr>
              <a:t>SOCKS-Based Gateway </a:t>
            </a:r>
            <a:r>
              <a:rPr b="0" i="1" lang="es-ES" sz="2800" spc="-1" strike="noStrike">
                <a:solidFill>
                  <a:srgbClr val="33cccc"/>
                </a:solidFill>
                <a:latin typeface="Trebuchet MS"/>
              </a:rPr>
              <a:t>(RFC 3089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901800" y="82872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Mecanismos de Traslación de Protocol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2" name="" descr=""/>
          <p:cNvPicPr/>
          <p:nvPr/>
        </p:nvPicPr>
        <p:blipFill>
          <a:blip r:embed="rId1"/>
          <a:stretch/>
        </p:blipFill>
        <p:spPr>
          <a:xfrm>
            <a:off x="3886200" y="87480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1653" name="" descr=""/>
          <p:cNvPicPr/>
          <p:nvPr/>
        </p:nvPicPr>
        <p:blipFill>
          <a:blip r:embed="rId2"/>
          <a:stretch/>
        </p:blipFill>
        <p:spPr>
          <a:xfrm>
            <a:off x="762120" y="722160"/>
            <a:ext cx="1041120" cy="825480"/>
          </a:xfrm>
          <a:prstGeom prst="rect">
            <a:avLst/>
          </a:prstGeom>
          <a:ln w="0">
            <a:noFill/>
          </a:ln>
        </p:spPr>
      </p:pic>
      <p:pic>
        <p:nvPicPr>
          <p:cNvPr id="1654" name="" descr=""/>
          <p:cNvPicPr/>
          <p:nvPr/>
        </p:nvPicPr>
        <p:blipFill>
          <a:blip r:embed="rId3"/>
          <a:stretch/>
        </p:blipFill>
        <p:spPr>
          <a:xfrm>
            <a:off x="6934320" y="722160"/>
            <a:ext cx="1041120" cy="825480"/>
          </a:xfrm>
          <a:prstGeom prst="rect">
            <a:avLst/>
          </a:prstGeom>
          <a:ln w="0">
            <a:noFill/>
          </a:ln>
        </p:spPr>
      </p:pic>
      <p:sp>
        <p:nvSpPr>
          <p:cNvPr id="1655" name=""/>
          <p:cNvSpPr/>
          <p:nvPr/>
        </p:nvSpPr>
        <p:spPr>
          <a:xfrm>
            <a:off x="1676520" y="1103400"/>
            <a:ext cx="22096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800600" y="1103400"/>
            <a:ext cx="22096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314160" y="45720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NAT-PT Rou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105640" y="114300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d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10552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d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870600" y="152388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Host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46120" y="15606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Host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09480" y="60357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NAT-PT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RFC 2766, Network Address Translation - Protocol Translation. (actualizado en RFC 315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905120" y="4846680"/>
            <a:ext cx="2209320" cy="1142640"/>
            <a:chOff x="1905120" y="4846680"/>
            <a:chExt cx="2209320" cy="1142640"/>
          </a:xfrm>
        </p:grpSpPr>
        <p:pic>
          <p:nvPicPr>
            <p:cNvPr id="1665" name="" descr=""/>
            <p:cNvPicPr/>
            <p:nvPr/>
          </p:nvPicPr>
          <p:blipFill>
            <a:blip r:embed="rId4"/>
            <a:stretch/>
          </p:blipFill>
          <p:spPr>
            <a:xfrm>
              <a:off x="1905120" y="4846680"/>
              <a:ext cx="220932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666" name=""/>
            <p:cNvSpPr/>
            <p:nvPr/>
          </p:nvSpPr>
          <p:spPr>
            <a:xfrm>
              <a:off x="2329200" y="5090760"/>
              <a:ext cx="15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4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7" name=""/>
          <p:cNvGrpSpPr/>
          <p:nvPr/>
        </p:nvGrpSpPr>
        <p:grpSpPr>
          <a:xfrm>
            <a:off x="6046920" y="4935600"/>
            <a:ext cx="2182680" cy="1117080"/>
            <a:chOff x="6046920" y="4935600"/>
            <a:chExt cx="2182680" cy="1117080"/>
          </a:xfrm>
        </p:grpSpPr>
        <p:grpSp>
          <p:nvGrpSpPr>
            <p:cNvPr id="1668" name=""/>
            <p:cNvGrpSpPr/>
            <p:nvPr/>
          </p:nvGrpSpPr>
          <p:grpSpPr>
            <a:xfrm>
              <a:off x="6046920" y="4935600"/>
              <a:ext cx="2182680" cy="1117080"/>
              <a:chOff x="6046920" y="4935600"/>
              <a:chExt cx="2182680" cy="1117080"/>
            </a:xfrm>
          </p:grpSpPr>
          <p:sp>
            <p:nvSpPr>
              <p:cNvPr id="1669" name=""/>
              <p:cNvSpPr/>
              <p:nvPr/>
            </p:nvSpPr>
            <p:spPr>
              <a:xfrm>
                <a:off x="6791400" y="4935600"/>
                <a:ext cx="952560" cy="461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269040" y="5057640"/>
                <a:ext cx="728640" cy="461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046920" y="5335560"/>
                <a:ext cx="490320" cy="375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194520" y="5500440"/>
                <a:ext cx="739800" cy="407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718320" y="5568840"/>
                <a:ext cx="1104840" cy="483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419960" y="5070240"/>
                <a:ext cx="70956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526520" y="5303520"/>
                <a:ext cx="70308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462800" y="5379840"/>
                <a:ext cx="69876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442200" y="5200560"/>
                <a:ext cx="141768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>
              <a:off x="6461280" y="5167440"/>
              <a:ext cx="15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6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380880" y="3160800"/>
            <a:ext cx="236232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80880" y="2627280"/>
            <a:ext cx="236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cket, D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0880" y="2017800"/>
            <a:ext cx="2362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l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523880" y="4075200"/>
            <a:ext cx="68436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80880" y="369396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276720" y="2550960"/>
            <a:ext cx="3276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-P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276720" y="3084480"/>
            <a:ext cx="16761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276720" y="3618000"/>
            <a:ext cx="1676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029200" y="3084480"/>
            <a:ext cx="1523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029200" y="3618000"/>
            <a:ext cx="1523880" cy="459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3276720" y="4075200"/>
            <a:ext cx="76176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638680" y="4075200"/>
            <a:ext cx="914400" cy="9903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7543800" y="3846240"/>
            <a:ext cx="609480" cy="1143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2" name="" descr=""/>
          <p:cNvPicPr/>
          <p:nvPr/>
        </p:nvPicPr>
        <p:blipFill>
          <a:blip r:embed="rId5"/>
          <a:stretch/>
        </p:blipFill>
        <p:spPr>
          <a:xfrm>
            <a:off x="7620120" y="3084480"/>
            <a:ext cx="909360" cy="822240"/>
          </a:xfrm>
          <a:prstGeom prst="rect">
            <a:avLst/>
          </a:prstGeom>
          <a:ln w="0">
            <a:noFill/>
          </a:ln>
        </p:spPr>
      </p:pic>
      <p:sp>
        <p:nvSpPr>
          <p:cNvPr id="1693" name=""/>
          <p:cNvSpPr/>
          <p:nvPr/>
        </p:nvSpPr>
        <p:spPr>
          <a:xfrm>
            <a:off x="2817360" y="1563840"/>
            <a:ext cx="36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ool de direcciones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ool de direccione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"/>
          <p:cNvGrpSpPr/>
          <p:nvPr/>
        </p:nvGrpSpPr>
        <p:grpSpPr>
          <a:xfrm>
            <a:off x="2209680" y="4734000"/>
            <a:ext cx="2209680" cy="1142640"/>
            <a:chOff x="2209680" y="4734000"/>
            <a:chExt cx="2209680" cy="1142640"/>
          </a:xfrm>
        </p:grpSpPr>
        <p:pic>
          <p:nvPicPr>
            <p:cNvPr id="1695" name="" descr=""/>
            <p:cNvPicPr/>
            <p:nvPr/>
          </p:nvPicPr>
          <p:blipFill>
            <a:blip r:embed="rId1"/>
            <a:stretch/>
          </p:blipFill>
          <p:spPr>
            <a:xfrm>
              <a:off x="2209680" y="4734000"/>
              <a:ext cx="220968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696" name=""/>
            <p:cNvSpPr/>
            <p:nvPr/>
          </p:nvSpPr>
          <p:spPr>
            <a:xfrm>
              <a:off x="2633760" y="4978080"/>
              <a:ext cx="157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4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351480" y="4822920"/>
            <a:ext cx="2182680" cy="1117080"/>
            <a:chOff x="6351480" y="4822920"/>
            <a:chExt cx="2182680" cy="1117080"/>
          </a:xfrm>
        </p:grpSpPr>
        <p:grpSp>
          <p:nvGrpSpPr>
            <p:cNvPr id="1698" name=""/>
            <p:cNvGrpSpPr/>
            <p:nvPr/>
          </p:nvGrpSpPr>
          <p:grpSpPr>
            <a:xfrm>
              <a:off x="6351480" y="4822920"/>
              <a:ext cx="2182680" cy="1117080"/>
              <a:chOff x="6351480" y="4822920"/>
              <a:chExt cx="2182680" cy="1117080"/>
            </a:xfrm>
          </p:grpSpPr>
          <p:sp>
            <p:nvSpPr>
              <p:cNvPr id="1699" name=""/>
              <p:cNvSpPr/>
              <p:nvPr/>
            </p:nvSpPr>
            <p:spPr>
              <a:xfrm>
                <a:off x="7095960" y="4822920"/>
                <a:ext cx="952560" cy="461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573600" y="4944960"/>
                <a:ext cx="728640" cy="461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351480" y="5222880"/>
                <a:ext cx="490320" cy="375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499080" y="5387760"/>
                <a:ext cx="739800" cy="407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022880" y="5456160"/>
                <a:ext cx="1104840" cy="483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724520" y="4957560"/>
                <a:ext cx="70956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831080" y="5190840"/>
                <a:ext cx="70308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767360" y="5267160"/>
                <a:ext cx="69876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746760" y="5087880"/>
                <a:ext cx="141768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08" name=""/>
            <p:cNvSpPr/>
            <p:nvPr/>
          </p:nvSpPr>
          <p:spPr>
            <a:xfrm>
              <a:off x="6765840" y="5054760"/>
              <a:ext cx="15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6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85800" y="3048120"/>
            <a:ext cx="236232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2514600"/>
            <a:ext cx="236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cket, D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85800" y="1905120"/>
            <a:ext cx="2362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l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828800" y="3962520"/>
            <a:ext cx="68436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85800" y="358128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581280" y="2438280"/>
            <a:ext cx="3276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581280" y="2971800"/>
            <a:ext cx="167652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581280" y="3505320"/>
            <a:ext cx="1676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334120" y="2971800"/>
            <a:ext cx="1523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334120" y="3505320"/>
            <a:ext cx="1523880" cy="459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3580920" y="39625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943600" y="3962520"/>
            <a:ext cx="914400" cy="9903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7848720" y="3733560"/>
            <a:ext cx="609480" cy="1143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2"/>
          <a:stretch/>
        </p:blipFill>
        <p:spPr>
          <a:xfrm>
            <a:off x="7924680" y="2971800"/>
            <a:ext cx="909720" cy="82224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7797960" y="243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Dest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812160" y="1295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Cl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09480" y="5943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Transport Relay Translator (TRT)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RFC 3142, An IPv6-to-IPv4 Transport Relay Transla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1066680" y="2590920"/>
            <a:ext cx="1067040" cy="457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IPv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133720" y="2590920"/>
            <a:ext cx="1066680" cy="4572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066680" y="1752480"/>
            <a:ext cx="2133720" cy="3812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Socket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3000" y="2590920"/>
            <a:ext cx="914400" cy="144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066680" y="3429000"/>
            <a:ext cx="2133720" cy="3808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Ethernet MAC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066680" y="3809880"/>
            <a:ext cx="2133720" cy="38124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Physical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66680" y="1371600"/>
            <a:ext cx="2133720" cy="38088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Application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209680" y="2590920"/>
            <a:ext cx="914400" cy="144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907920" y="3048120"/>
            <a:ext cx="2438640" cy="3808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Translat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838080" y="2666880"/>
            <a:ext cx="2597400" cy="838440"/>
          </a:xfrm>
          <a:custGeom>
            <a:avLst/>
            <a:gdLst/>
            <a:ahLst/>
            <a:rect l="l" t="t" r="r" b="b"/>
            <a:pathLst>
              <a:path w="1632" h="816">
                <a:moveTo>
                  <a:pt x="48" y="480"/>
                </a:moveTo>
                <a:lnTo>
                  <a:pt x="864" y="480"/>
                </a:lnTo>
                <a:lnTo>
                  <a:pt x="864" y="0"/>
                </a:lnTo>
                <a:lnTo>
                  <a:pt x="1440" y="0"/>
                </a:lnTo>
                <a:lnTo>
                  <a:pt x="1440" y="480"/>
                </a:lnTo>
                <a:lnTo>
                  <a:pt x="1632" y="480"/>
                </a:lnTo>
                <a:lnTo>
                  <a:pt x="1632" y="816"/>
                </a:lnTo>
                <a:lnTo>
                  <a:pt x="0" y="816"/>
                </a:lnTo>
                <a:lnTo>
                  <a:pt x="0" y="480"/>
                </a:lnTo>
                <a:lnTo>
                  <a:pt x="48" y="480"/>
                </a:lnTo>
                <a:close/>
              </a:path>
            </a:pathLst>
          </a:custGeom>
          <a:noFill/>
          <a:ln w="25560">
            <a:solidFill>
              <a:srgbClr val="ff5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434760" y="2286000"/>
            <a:ext cx="224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  <a:ea typeface="굴림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Verdana"/>
                <a:ea typeface="굴림"/>
              </a:rPr>
              <a:t>Extension Name Resol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  <a:ea typeface="굴림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Verdana"/>
                <a:ea typeface="굴림"/>
              </a:rPr>
              <a:t>Address Map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Verdana"/>
                <a:ea typeface="굴림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Verdana"/>
                <a:ea typeface="굴림"/>
              </a:rPr>
              <a:t>Header or APIs Transl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V="1">
            <a:off x="3193920" y="2895120"/>
            <a:ext cx="38736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66680" y="2133720"/>
            <a:ext cx="2133720" cy="4572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TCP(UDP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066680" y="1371600"/>
            <a:ext cx="2133720" cy="2819520"/>
          </a:xfrm>
          <a:prstGeom prst="rect">
            <a:avLst/>
          </a:pr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09480" y="5105520"/>
            <a:ext cx="8305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Bump in the Stack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RFC 2767, Dual Stack Hosts using the "Bump-In-the-Stack" Technique (B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Bump in the API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RFC 3338, Dual Stack Hosts Using Bump-in-the-API (BIA)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095880" y="2971800"/>
            <a:ext cx="1067040" cy="457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IPv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162920" y="2971800"/>
            <a:ext cx="106668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IPv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095880" y="1752480"/>
            <a:ext cx="2133720" cy="3812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Socket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172200" y="29718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095880" y="3429000"/>
            <a:ext cx="2133720" cy="3808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Ethernet MAC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5880" y="3809880"/>
            <a:ext cx="2133720" cy="38124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Physical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095880" y="1371600"/>
            <a:ext cx="2133720" cy="38088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Application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238880" y="29718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095880" y="2514600"/>
            <a:ext cx="2133720" cy="4572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굴림"/>
              </a:rPr>
              <a:t>TCP(UDP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095880" y="1371600"/>
            <a:ext cx="2133720" cy="2819520"/>
          </a:xfrm>
          <a:prstGeom prst="rect">
            <a:avLst/>
          </a:prstGeom>
          <a:noFill/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943600" y="2133720"/>
            <a:ext cx="2438280" cy="380880"/>
          </a:xfrm>
          <a:prstGeom prst="rect">
            <a:avLst/>
          </a:prstGeom>
          <a:solidFill>
            <a:srgbClr val="00cccc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Translat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5486400" y="2362320"/>
            <a:ext cx="5335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94360" y="44197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Bump in the S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906160" y="44197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Bump in the AP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11080" y="1254240"/>
            <a:ext cx="81043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724120" y="316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Redes Domésticas (home network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1600200" y="1295280"/>
            <a:ext cx="586728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CP/IP 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666880" y="2409840"/>
            <a:ext cx="1295640" cy="8240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Extension Name resol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191120" y="2409840"/>
            <a:ext cx="1523880" cy="9511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Address mapp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867280" y="2409840"/>
            <a:ext cx="1524240" cy="3373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translat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00200" y="685800"/>
            <a:ext cx="5867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plicaciones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600200" y="3438360"/>
            <a:ext cx="586728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roladores Interfaz de 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2209680" y="4734000"/>
            <a:ext cx="4105080" cy="1208520"/>
            <a:chOff x="2209680" y="4734000"/>
            <a:chExt cx="4105080" cy="1208520"/>
          </a:xfrm>
        </p:grpSpPr>
        <p:grpSp>
          <p:nvGrpSpPr>
            <p:cNvPr id="1764" name=""/>
            <p:cNvGrpSpPr/>
            <p:nvPr/>
          </p:nvGrpSpPr>
          <p:grpSpPr>
            <a:xfrm>
              <a:off x="2209680" y="4734000"/>
              <a:ext cx="2209680" cy="1142280"/>
              <a:chOff x="2209680" y="4734000"/>
              <a:chExt cx="2209680" cy="1142280"/>
            </a:xfrm>
          </p:grpSpPr>
          <p:pic>
            <p:nvPicPr>
              <p:cNvPr id="17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09680" y="4734000"/>
                <a:ext cx="2209680" cy="11422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766" name=""/>
              <p:cNvSpPr/>
              <p:nvPr/>
            </p:nvSpPr>
            <p:spPr>
              <a:xfrm>
                <a:off x="2633760" y="4977720"/>
                <a:ext cx="157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600" spc="-1" strike="noStrike">
                    <a:solidFill>
                      <a:srgbClr val="000000"/>
                    </a:solidFill>
                    <a:latin typeface="Arial"/>
                  </a:rPr>
                  <a:t>IPv4 Internet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67" name=""/>
            <p:cNvGrpSpPr/>
            <p:nvPr/>
          </p:nvGrpSpPr>
          <p:grpSpPr>
            <a:xfrm>
              <a:off x="4125960" y="4822560"/>
              <a:ext cx="2182680" cy="1117080"/>
              <a:chOff x="4125960" y="4822560"/>
              <a:chExt cx="2182680" cy="1117080"/>
            </a:xfrm>
          </p:grpSpPr>
          <p:sp>
            <p:nvSpPr>
              <p:cNvPr id="1768" name=""/>
              <p:cNvSpPr/>
              <p:nvPr/>
            </p:nvSpPr>
            <p:spPr>
              <a:xfrm>
                <a:off x="4870440" y="4822560"/>
                <a:ext cx="952560" cy="461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348080" y="4944600"/>
                <a:ext cx="728640" cy="461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125960" y="5222520"/>
                <a:ext cx="490320" cy="375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73560" y="5387400"/>
                <a:ext cx="739800" cy="407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797360" y="5455800"/>
                <a:ext cx="1104840" cy="483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99000" y="4957200"/>
                <a:ext cx="70956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605560" y="5190480"/>
                <a:ext cx="70308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541840" y="5266800"/>
                <a:ext cx="69876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521240" y="5087520"/>
                <a:ext cx="141768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4125960" y="4819320"/>
              <a:ext cx="2188800" cy="1123200"/>
              <a:chOff x="4125960" y="4819320"/>
              <a:chExt cx="2188800" cy="1123200"/>
            </a:xfrm>
          </p:grpSpPr>
          <p:sp>
            <p:nvSpPr>
              <p:cNvPr id="1778" name=""/>
              <p:cNvSpPr/>
              <p:nvPr/>
            </p:nvSpPr>
            <p:spPr>
              <a:xfrm>
                <a:off x="4871160" y="4819320"/>
                <a:ext cx="961200" cy="46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875480" y="4824000"/>
                <a:ext cx="952560" cy="45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348080" y="4939920"/>
                <a:ext cx="732960" cy="46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352760" y="4944600"/>
                <a:ext cx="7239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68880" y="5380200"/>
                <a:ext cx="76068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73560" y="5385960"/>
                <a:ext cx="749880" cy="4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504040" y="4952520"/>
                <a:ext cx="709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511240" y="4957200"/>
                <a:ext cx="696960" cy="35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499360" y="5177520"/>
                <a:ext cx="815400" cy="39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504040" y="5182560"/>
                <a:ext cx="806040" cy="38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531040" y="5272920"/>
                <a:ext cx="718560" cy="59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537160" y="5275800"/>
                <a:ext cx="709200" cy="5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125960" y="5218920"/>
                <a:ext cx="517320" cy="38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130640" y="5223960"/>
                <a:ext cx="5079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802400" y="5495760"/>
                <a:ext cx="1084320" cy="44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808880" y="5500800"/>
                <a:ext cx="1074240" cy="4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94" name=""/>
            <p:cNvSpPr/>
            <p:nvPr/>
          </p:nvSpPr>
          <p:spPr>
            <a:xfrm>
              <a:off x="4540320" y="5054400"/>
              <a:ext cx="15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6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 flipV="1">
            <a:off x="3429000" y="4428720"/>
            <a:ext cx="7632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257440" y="4429080"/>
            <a:ext cx="15228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600200" y="4048200"/>
            <a:ext cx="5867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faz de 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309360" y="525780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Bump in the S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867280" y="2940120"/>
            <a:ext cx="1524240" cy="337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IPv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00200" y="2286000"/>
            <a:ext cx="914400" cy="107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/>
          <p:nvPr/>
        </p:nvSpPr>
        <p:spPr>
          <a:xfrm>
            <a:off x="1600200" y="1876320"/>
            <a:ext cx="5867280" cy="15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PI Transla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905120" y="2409840"/>
            <a:ext cx="1295280" cy="58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Name resol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619440" y="2409840"/>
            <a:ext cx="1524240" cy="58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Address mapp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562720" y="2409840"/>
            <a:ext cx="1523880" cy="58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Function Mapp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600200" y="1295280"/>
            <a:ext cx="5867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cket API (IPv4, IPv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600200" y="685800"/>
            <a:ext cx="5867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plicaciones 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600200" y="3581280"/>
            <a:ext cx="28954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CP(UDP)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572000" y="3581280"/>
            <a:ext cx="2895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CP(UDP)/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600200" y="4114800"/>
            <a:ext cx="586728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roladores Interfaz de 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11" name=""/>
          <p:cNvGrpSpPr/>
          <p:nvPr/>
        </p:nvGrpSpPr>
        <p:grpSpPr>
          <a:xfrm>
            <a:off x="2209680" y="5410080"/>
            <a:ext cx="4105080" cy="1209600"/>
            <a:chOff x="2209680" y="5410080"/>
            <a:chExt cx="4105080" cy="1209600"/>
          </a:xfrm>
        </p:grpSpPr>
        <p:grpSp>
          <p:nvGrpSpPr>
            <p:cNvPr id="1812" name=""/>
            <p:cNvGrpSpPr/>
            <p:nvPr/>
          </p:nvGrpSpPr>
          <p:grpSpPr>
            <a:xfrm>
              <a:off x="2209680" y="5410080"/>
              <a:ext cx="2209680" cy="1142640"/>
              <a:chOff x="2209680" y="5410080"/>
              <a:chExt cx="2209680" cy="1142640"/>
            </a:xfrm>
          </p:grpSpPr>
          <p:pic>
            <p:nvPicPr>
              <p:cNvPr id="18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09680" y="5410080"/>
                <a:ext cx="2209680" cy="1142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814" name=""/>
              <p:cNvSpPr/>
              <p:nvPr/>
            </p:nvSpPr>
            <p:spPr>
              <a:xfrm>
                <a:off x="2633760" y="5654160"/>
                <a:ext cx="157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600" spc="-1" strike="noStrike">
                    <a:solidFill>
                      <a:srgbClr val="000000"/>
                    </a:solidFill>
                    <a:latin typeface="Arial"/>
                  </a:rPr>
                  <a:t>IPv4 Internet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4125960" y="5499000"/>
              <a:ext cx="2182680" cy="1117800"/>
              <a:chOff x="4125960" y="5499000"/>
              <a:chExt cx="2182680" cy="1117800"/>
            </a:xfrm>
          </p:grpSpPr>
          <p:sp>
            <p:nvSpPr>
              <p:cNvPr id="1816" name=""/>
              <p:cNvSpPr/>
              <p:nvPr/>
            </p:nvSpPr>
            <p:spPr>
              <a:xfrm>
                <a:off x="4870440" y="5499000"/>
                <a:ext cx="952560" cy="462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48080" y="5621400"/>
                <a:ext cx="728640" cy="461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25960" y="5899320"/>
                <a:ext cx="490320" cy="3762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273560" y="6064200"/>
                <a:ext cx="739800" cy="407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797360" y="6132600"/>
                <a:ext cx="1104840" cy="4842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499000" y="5634000"/>
                <a:ext cx="709560" cy="3636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605560" y="5867280"/>
                <a:ext cx="703080" cy="3636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541840" y="5943600"/>
                <a:ext cx="698760" cy="596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521240" y="5764320"/>
                <a:ext cx="1417680" cy="596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4125960" y="5495760"/>
              <a:ext cx="2188800" cy="1123920"/>
              <a:chOff x="4125960" y="5495760"/>
              <a:chExt cx="2188800" cy="1123920"/>
            </a:xfrm>
          </p:grpSpPr>
          <p:sp>
            <p:nvSpPr>
              <p:cNvPr id="1826" name=""/>
              <p:cNvSpPr/>
              <p:nvPr/>
            </p:nvSpPr>
            <p:spPr>
              <a:xfrm>
                <a:off x="4871160" y="5495760"/>
                <a:ext cx="961200" cy="46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7351"/>
                    </a:moveTo>
                    <a:arcTo wR="10800" hR="10800" stAng="-9682569" swAng="83619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7351"/>
                    </a:moveTo>
                    <a:arcTo wR="10800" hR="10800" stAng="-9682569" swAng="8361996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875480" y="5500800"/>
                <a:ext cx="952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7" y="7318"/>
                    </a:moveTo>
                    <a:arcTo wR="10800" hR="10800" stAng="-9671347" swAng="83378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7" y="7318"/>
                    </a:moveTo>
                    <a:arcTo wR="10800" hR="10800" stAng="-9671347" swAng="8337896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48080" y="5616720"/>
                <a:ext cx="732960" cy="46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6"/>
                    </a:moveTo>
                    <a:arcTo wR="10800" hR="10800" stAng="10063487" swAng="8048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6"/>
                    </a:moveTo>
                    <a:arcTo wR="10800" hR="10800" stAng="10063487" swAng="8048959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52760" y="5621400"/>
                <a:ext cx="723960" cy="4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1" y="13113"/>
                    </a:moveTo>
                    <a:arcTo wR="10800" hR="10800" stAng="10058078" swAng="8042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1" y="13113"/>
                    </a:moveTo>
                    <a:arcTo wR="10800" hR="10800" stAng="10058078" swAng="8042753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268880" y="6056640"/>
                <a:ext cx="760680" cy="42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9" y="20222"/>
                    </a:moveTo>
                    <a:arcTo wR="10800" hR="10800" stAng="3644329" swAng="7325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9" y="20222"/>
                    </a:moveTo>
                    <a:arcTo wR="10800" hR="10800" stAng="3644329" swAng="7325003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273560" y="6062400"/>
                <a:ext cx="749880" cy="41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38" y="20245"/>
                    </a:moveTo>
                    <a:arcTo wR="10800" hR="10800" stAng="3659382" swAng="731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38" y="20245"/>
                    </a:moveTo>
                    <a:arcTo wR="10800" hR="10800" stAng="3659382" swAng="7311700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504040" y="5629320"/>
                <a:ext cx="709200" cy="36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6" y="227"/>
                    </a:moveTo>
                    <a:arcTo wR="10800" hR="10800" stAng="-6106623" swAng="78907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6" y="227"/>
                    </a:moveTo>
                    <a:arcTo wR="10800" hR="10800" stAng="-6106623" swAng="7890733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511240" y="5634000"/>
                <a:ext cx="696960" cy="35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23" y="222"/>
                    </a:moveTo>
                    <a:arcTo wR="10800" hR="10800" stAng="-6097743" swAng="7901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23" y="222"/>
                    </a:moveTo>
                    <a:arcTo wR="10800" hR="10800" stAng="-6097743" swAng="7901172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499360" y="5854320"/>
                <a:ext cx="815400" cy="39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3" y="2379"/>
                    </a:moveTo>
                    <a:arcTo wR="10800" hR="10800" stAng="-3073884" swAng="52263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3" y="2379"/>
                    </a:moveTo>
                    <a:arcTo wR="10800" hR="10800" stAng="-3073884" swAng="5226383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504040" y="5859360"/>
                <a:ext cx="806040" cy="38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10" y="2338"/>
                    </a:moveTo>
                    <a:arcTo wR="10800" hR="10800" stAng="-3095213" swAng="52685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10" y="2338"/>
                    </a:moveTo>
                    <a:arcTo wR="10800" hR="10800" stAng="-3095213" swAng="5268528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531040" y="5949360"/>
                <a:ext cx="718560" cy="59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6" y="7700"/>
                    </a:moveTo>
                    <a:arcTo wR="10800" hR="10800" stAng="-1000703" swAng="753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6" y="7700"/>
                    </a:moveTo>
                    <a:arcTo wR="10800" hR="10800" stAng="-1000703" swAng="7537860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537160" y="5952240"/>
                <a:ext cx="709200" cy="59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3" y="7693"/>
                    </a:moveTo>
                    <a:arcTo wR="10800" hR="10800" stAng="-1003227" swAng="75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3" y="7693"/>
                    </a:moveTo>
                    <a:arcTo wR="10800" hR="10800" stAng="-1003227" swAng="7537570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125960" y="5895720"/>
                <a:ext cx="517320" cy="38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96" y="20661"/>
                    </a:moveTo>
                    <a:arcTo wR="10800" hR="10800" stAng="6843840" swAng="9145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96" y="20661"/>
                    </a:moveTo>
                    <a:arcTo wR="10800" hR="10800" stAng="6843840" swAng="9145519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130640" y="5900760"/>
                <a:ext cx="5079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634" swAng="9155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634" swAng="9155071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802400" y="6172200"/>
                <a:ext cx="1084320" cy="44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5" y="16983"/>
                    </a:moveTo>
                    <a:arcTo wR="10800" hR="10800" stAng="2095618" swAng="8011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5" y="16983"/>
                    </a:moveTo>
                    <a:arcTo wR="10800" hR="10800" stAng="2095618" swAng="8011703"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808880" y="6177240"/>
                <a:ext cx="10742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8" y="17036"/>
                    </a:moveTo>
                    <a:arcTo wR="10800" hR="10800" stAng="2116129" swAng="7982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8" y="17036"/>
                    </a:moveTo>
                    <a:arcTo wR="10800" hR="10800" stAng="2116129" swAng="7982594"/>
                  </a:path>
                </a:pathLst>
              </a:custGeom>
              <a:solidFill>
                <a:srgbClr val="ccecff"/>
              </a:solidFill>
              <a:ln w="1116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42" name=""/>
            <p:cNvSpPr/>
            <p:nvPr/>
          </p:nvSpPr>
          <p:spPr>
            <a:xfrm>
              <a:off x="4540320" y="5730840"/>
              <a:ext cx="15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6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43" name=""/>
          <p:cNvSpPr/>
          <p:nvPr/>
        </p:nvSpPr>
        <p:spPr>
          <a:xfrm flipV="1">
            <a:off x="3429000" y="5105520"/>
            <a:ext cx="7632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 flipV="1">
            <a:off x="5257440" y="5105520"/>
            <a:ext cx="15228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600200" y="4724280"/>
            <a:ext cx="5867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faz de 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312600" y="52578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Bump in the AP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8" name=""/>
          <p:cNvGrpSpPr/>
          <p:nvPr/>
        </p:nvGrpSpPr>
        <p:grpSpPr>
          <a:xfrm>
            <a:off x="2209680" y="4734000"/>
            <a:ext cx="2209680" cy="1142640"/>
            <a:chOff x="2209680" y="4734000"/>
            <a:chExt cx="2209680" cy="1142640"/>
          </a:xfrm>
        </p:grpSpPr>
        <p:pic>
          <p:nvPicPr>
            <p:cNvPr id="1849" name="" descr=""/>
            <p:cNvPicPr/>
            <p:nvPr/>
          </p:nvPicPr>
          <p:blipFill>
            <a:blip r:embed="rId1"/>
            <a:stretch/>
          </p:blipFill>
          <p:spPr>
            <a:xfrm>
              <a:off x="2209680" y="4734000"/>
              <a:ext cx="2209680" cy="1142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850" name=""/>
            <p:cNvSpPr/>
            <p:nvPr/>
          </p:nvSpPr>
          <p:spPr>
            <a:xfrm>
              <a:off x="2633760" y="4978080"/>
              <a:ext cx="157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4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51" name=""/>
          <p:cNvGrpSpPr/>
          <p:nvPr/>
        </p:nvGrpSpPr>
        <p:grpSpPr>
          <a:xfrm>
            <a:off x="6351480" y="4822920"/>
            <a:ext cx="2182680" cy="1117080"/>
            <a:chOff x="6351480" y="4822920"/>
            <a:chExt cx="2182680" cy="1117080"/>
          </a:xfrm>
        </p:grpSpPr>
        <p:grpSp>
          <p:nvGrpSpPr>
            <p:cNvPr id="1852" name=""/>
            <p:cNvGrpSpPr/>
            <p:nvPr/>
          </p:nvGrpSpPr>
          <p:grpSpPr>
            <a:xfrm>
              <a:off x="6351480" y="4822920"/>
              <a:ext cx="2182680" cy="1117080"/>
              <a:chOff x="6351480" y="4822920"/>
              <a:chExt cx="2182680" cy="1117080"/>
            </a:xfrm>
          </p:grpSpPr>
          <p:sp>
            <p:nvSpPr>
              <p:cNvPr id="1853" name=""/>
              <p:cNvSpPr/>
              <p:nvPr/>
            </p:nvSpPr>
            <p:spPr>
              <a:xfrm>
                <a:off x="7095960" y="4822920"/>
                <a:ext cx="952560" cy="461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573600" y="4944960"/>
                <a:ext cx="728640" cy="461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351480" y="5222880"/>
                <a:ext cx="490320" cy="375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499080" y="5387760"/>
                <a:ext cx="739800" cy="407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022880" y="5456160"/>
                <a:ext cx="1104840" cy="483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724520" y="4957560"/>
                <a:ext cx="70956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831080" y="5190840"/>
                <a:ext cx="703080" cy="363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767360" y="5267160"/>
                <a:ext cx="69876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746760" y="5087880"/>
                <a:ext cx="1417680" cy="5965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62" name=""/>
            <p:cNvSpPr/>
            <p:nvPr/>
          </p:nvSpPr>
          <p:spPr>
            <a:xfrm>
              <a:off x="6765840" y="5054760"/>
              <a:ext cx="15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IPv6 Intern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6151320" y="316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Transición 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85800" y="3048120"/>
            <a:ext cx="236232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85800" y="2514600"/>
            <a:ext cx="236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cket, D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85800" y="1981080"/>
            <a:ext cx="236232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cks Libr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85800" y="1447920"/>
            <a:ext cx="2362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l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828800" y="3962520"/>
            <a:ext cx="684360" cy="9144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358128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581280" y="2438280"/>
            <a:ext cx="3276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cket, D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581280" y="1676520"/>
            <a:ext cx="3276720" cy="70380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ocks Application Layer Gatewa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581280" y="2971800"/>
            <a:ext cx="167652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581280" y="3505320"/>
            <a:ext cx="1676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34120" y="2971800"/>
            <a:ext cx="1523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TCP/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334120" y="3505320"/>
            <a:ext cx="1523880" cy="459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3580920" y="39625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943600" y="3962520"/>
            <a:ext cx="914400" cy="9903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7848720" y="3733560"/>
            <a:ext cx="609480" cy="1143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7924680" y="2971800"/>
            <a:ext cx="909720" cy="82224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7797960" y="243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Dest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812160" y="8380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rebuchet MS"/>
              </a:rPr>
              <a:t>Cl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09480" y="5943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rebuchet MS"/>
              </a:rPr>
              <a:t>Socks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 RFC 3089, A SOCKS-based IPv6/IPv4 Gateway Mechanis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7419240" y="31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947520" y="533520"/>
            <a:ext cx="60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Bind 4.9 o superior, versión 8 o sup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64960" y="99072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AAA </a:t>
            </a:r>
            <a:r>
              <a:rPr b="0" i="1" lang="en-US" sz="2400" spc="-1" strike="noStrike">
                <a:solidFill>
                  <a:srgbClr val="ff9933"/>
                </a:solidFill>
                <a:latin typeface="Trebuchet MS"/>
              </a:rPr>
              <a:t>(obsole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304920" y="1373040"/>
            <a:ext cx="8152560" cy="703800"/>
            <a:chOff x="304920" y="1373040"/>
            <a:chExt cx="8152560" cy="703800"/>
          </a:xfrm>
        </p:grpSpPr>
        <p:sp>
          <p:nvSpPr>
            <p:cNvPr id="1887" name=""/>
            <p:cNvSpPr/>
            <p:nvPr/>
          </p:nvSpPr>
          <p:spPr>
            <a:xfrm>
              <a:off x="304920" y="1373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4920" y="1373040"/>
              <a:ext cx="815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$ORIGIN </a:t>
              </a:r>
              <a:r>
                <a:rPr b="1" i="1" lang="es-ES" sz="2000" spc="-1" strike="noStrike">
                  <a:solidFill>
                    <a:srgbClr val="00cccc"/>
                  </a:solidFill>
                  <a:latin typeface="Trebuchet MS"/>
                </a:rPr>
                <a:t>example.com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.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cc"/>
                  </a:solidFill>
                  <a:latin typeface="Trebuchet MS"/>
                </a:rPr>
                <a:t>host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3600 IN </a:t>
              </a:r>
              <a:r>
                <a:rPr b="1" lang="es-ES" sz="2000" spc="-1" strike="noStrike">
                  <a:solidFill>
                    <a:srgbClr val="ffffcc"/>
                  </a:solidFill>
                  <a:latin typeface="Trebuchet MS"/>
                </a:rPr>
                <a:t>AAAA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1" lang="es-ES" sz="2000" spc="-1" strike="noStrike">
                  <a:solidFill>
                    <a:srgbClr val="ff9933"/>
                  </a:solidFill>
                  <a:latin typeface="Trebuchet MS"/>
                </a:rPr>
                <a:t>3ffe:8050:201:1860:42::1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04920" y="2592360"/>
            <a:ext cx="8000280" cy="703800"/>
            <a:chOff x="304920" y="2592360"/>
            <a:chExt cx="8000280" cy="703800"/>
          </a:xfrm>
        </p:grpSpPr>
        <p:sp>
          <p:nvSpPr>
            <p:cNvPr id="1890" name=""/>
            <p:cNvSpPr/>
            <p:nvPr/>
          </p:nvSpPr>
          <p:spPr>
            <a:xfrm>
              <a:off x="304920" y="2592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4920" y="2592360"/>
              <a:ext cx="800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$ORIGIN </a:t>
              </a:r>
              <a:r>
                <a:rPr b="1" i="1" lang="es-ES" sz="2000" spc="-1" strike="noStrike">
                  <a:solidFill>
                    <a:srgbClr val="00cccc"/>
                  </a:solidFill>
                  <a:latin typeface="Trebuchet MS"/>
                </a:rPr>
                <a:t>example.com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.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cc"/>
                  </a:solidFill>
                  <a:latin typeface="Trebuchet MS"/>
                </a:rPr>
                <a:t>host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3600</a:t>
              </a:r>
              <a:r>
                <a:rPr b="0" lang="es-ES" sz="900" spc="-1" strike="noStrike">
                  <a:solidFill>
                    <a:srgbClr val="ffffff"/>
                  </a:solidFill>
                  <a:latin typeface="Trebuchet MS"/>
                  <a:ea typeface="arial"/>
                </a:rPr>
                <a:t> 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IN </a:t>
              </a:r>
              <a:r>
                <a:rPr b="1" lang="es-ES" sz="2000" spc="-1" strike="noStrike">
                  <a:solidFill>
                    <a:srgbClr val="ffffcc"/>
                  </a:solidFill>
                  <a:latin typeface="Trebuchet MS"/>
                </a:rPr>
                <a:t>A6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0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	</a:t>
              </a:r>
              <a:r>
                <a:rPr b="0" lang="es-ES" sz="2000" spc="-1" strike="noStrike">
                  <a:solidFill>
                    <a:srgbClr val="ffffcc"/>
                  </a:solidFill>
                  <a:latin typeface="Trebuchet MS"/>
                </a:rPr>
                <a:t> </a:t>
              </a:r>
              <a:r>
                <a:rPr b="1" lang="es-ES" sz="2000" spc="-1" strike="noStrike">
                  <a:solidFill>
                    <a:srgbClr val="ff9933"/>
                  </a:solidFill>
                  <a:latin typeface="Trebuchet MS"/>
                </a:rPr>
                <a:t>3ffe:8050:201:1860:42::1</a:t>
              </a:r>
              <a:r>
                <a:rPr b="1" lang="es-ES" sz="20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92" name=""/>
          <p:cNvSpPr/>
          <p:nvPr/>
        </p:nvSpPr>
        <p:spPr>
          <a:xfrm>
            <a:off x="245520" y="220968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304920" y="3809880"/>
            <a:ext cx="8381520" cy="3111480"/>
            <a:chOff x="304920" y="3809880"/>
            <a:chExt cx="8381520" cy="3111480"/>
          </a:xfrm>
        </p:grpSpPr>
        <p:sp>
          <p:nvSpPr>
            <p:cNvPr id="1894" name=""/>
            <p:cNvSpPr/>
            <p:nvPr/>
          </p:nvSpPr>
          <p:spPr>
            <a:xfrm>
              <a:off x="304920" y="3809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04920" y="3809880"/>
              <a:ext cx="838152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example.com.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3600 IN </a:t>
              </a:r>
              <a:r>
                <a:rPr b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6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64 0:0:0:0:42::1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00cccc"/>
                  </a:solidFill>
                  <a:latin typeface="Trebuchet MS"/>
                  <a:ea typeface="arial"/>
                </a:rPr>
                <a:t>company.example1.net.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3600 IN </a:t>
              </a:r>
              <a:r>
                <a:rPr b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6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64 0:0:0:0:42::1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1" lang="es-ES" sz="1800" spc="-1" strike="noStrike">
                  <a:solidFill>
                    <a:srgbClr val="00cccc"/>
                  </a:solidFill>
                  <a:latin typeface="Trebuchet MS"/>
                  <a:ea typeface="arial"/>
                </a:rPr>
                <a:t>company.example2.net.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SP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example1.net.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company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3600 IN </a:t>
              </a:r>
              <a:r>
                <a:rPr b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6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0 </a:t>
              </a:r>
              <a:r>
                <a:rPr b="1" lang="es-ES" sz="1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3ffe:8050:201:1860::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SP2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example2.net.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company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3600 IN</a:t>
              </a:r>
              <a:r>
                <a:rPr b="1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A6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0 </a:t>
              </a:r>
              <a:r>
                <a:rPr b="1" lang="es-ES" sz="1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1234:5678:90ab:fffa::</a:t>
              </a:r>
              <a:r>
                <a:rPr b="0" lang="es-ES" sz="1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176760" y="335268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6 Encaden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7419240" y="31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33520" y="6858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Registros A6 para Servidores D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1019160" y="1644480"/>
            <a:ext cx="7819560" cy="1922760"/>
            <a:chOff x="1019160" y="1644480"/>
            <a:chExt cx="7819560" cy="1922760"/>
          </a:xfrm>
        </p:grpSpPr>
        <p:sp>
          <p:nvSpPr>
            <p:cNvPr id="1900" name=""/>
            <p:cNvSpPr/>
            <p:nvPr/>
          </p:nvSpPr>
          <p:spPr>
            <a:xfrm>
              <a:off x="1019160" y="1644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9160" y="1644480"/>
              <a:ext cx="781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example.com.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@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NS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ns0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NS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ns1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ccc"/>
                  </a:solidFill>
                  <a:latin typeface="Trebuchet MS"/>
                  <a:ea typeface="arial"/>
                </a:rPr>
                <a:t>ns0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6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0 </a:t>
              </a:r>
              <a:r>
                <a:rPr b="1" lang="es-ES" sz="24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3ffe:8050:201:1860:42::1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cccc"/>
                  </a:solidFill>
                  <a:latin typeface="Trebuchet MS"/>
                  <a:ea typeface="arial"/>
                </a:rPr>
                <a:t>ns1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A </a:t>
              </a:r>
              <a:r>
                <a:rPr b="0" lang="es-ES" sz="24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1" lang="es-ES" sz="24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192.168.42.1</a:t>
              </a:r>
              <a:r>
                <a:rPr b="1" lang="es-ES" sz="24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57200" y="4235400"/>
            <a:ext cx="8379360" cy="1373760"/>
            <a:chOff x="457200" y="4235400"/>
            <a:chExt cx="8379360" cy="1373760"/>
          </a:xfrm>
        </p:grpSpPr>
        <p:sp>
          <p:nvSpPr>
            <p:cNvPr id="1903" name=""/>
            <p:cNvSpPr/>
            <p:nvPr/>
          </p:nvSpPr>
          <p:spPr>
            <a:xfrm>
              <a:off x="457200" y="4235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57200" y="4235400"/>
              <a:ext cx="8379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No usar direcciones mapeadas IPv4 en IPv6 para Servidores de D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</a:t>
              </a:r>
              <a:r>
                <a:rPr b="0" lang="es-ES" sz="2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::ffff:192.168.42.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06" name=""/>
          <p:cNvGrpSpPr/>
          <p:nvPr/>
        </p:nvGrpSpPr>
        <p:grpSpPr>
          <a:xfrm>
            <a:off x="914400" y="2162160"/>
            <a:ext cx="7467120" cy="824040"/>
            <a:chOff x="914400" y="2162160"/>
            <a:chExt cx="7467120" cy="824040"/>
          </a:xfrm>
        </p:grpSpPr>
        <p:sp>
          <p:nvSpPr>
            <p:cNvPr id="1907" name=""/>
            <p:cNvSpPr/>
            <p:nvPr/>
          </p:nvSpPr>
          <p:spPr>
            <a:xfrm>
              <a:off x="914400" y="2162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14400" y="2162160"/>
              <a:ext cx="746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0.6.8.1.1.0.2.0.0.5.0.8.e.f.f.3.</a:t>
              </a:r>
              <a:r>
                <a:rPr b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p6.int.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1.0.0.0.0.0.0.0.0.0.0.0.2.0.4..0</a:t>
              </a:r>
              <a:r>
                <a:rPr b="1" lang="es-ES" sz="16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PTR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i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.example.com.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09" name=""/>
          <p:cNvSpPr/>
          <p:nvPr/>
        </p:nvSpPr>
        <p:spPr>
          <a:xfrm>
            <a:off x="295200" y="982800"/>
            <a:ext cx="62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gistro Inverso (Nibble Format) </a:t>
            </a:r>
            <a:r>
              <a:rPr b="0" i="1" lang="es-ES" sz="2400" spc="-1" strike="noStrike">
                <a:solidFill>
                  <a:srgbClr val="ffffcc"/>
                </a:solidFill>
                <a:latin typeface="Trebuchet MS"/>
              </a:rPr>
              <a:t>(obsolet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533520" y="1552680"/>
            <a:ext cx="7999920" cy="520560"/>
            <a:chOff x="533520" y="1552680"/>
            <a:chExt cx="7999920" cy="520560"/>
          </a:xfrm>
        </p:grpSpPr>
        <p:sp>
          <p:nvSpPr>
            <p:cNvPr id="1911" name=""/>
            <p:cNvSpPr/>
            <p:nvPr/>
          </p:nvSpPr>
          <p:spPr>
            <a:xfrm>
              <a:off x="533520" y="1552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33520" y="1552680"/>
              <a:ext cx="799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 con dirección: </a:t>
              </a:r>
              <a:r>
                <a:rPr b="0" lang="es-ES" sz="2800" spc="-1" strike="noStrike">
                  <a:solidFill>
                    <a:srgbClr val="ff0000"/>
                  </a:solidFill>
                  <a:latin typeface="Trebuchet MS"/>
                  <a:ea typeface="arial"/>
                </a:rPr>
                <a:t> 3ffe:8050:201:1860:42::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262800" y="299880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Registro Inverso (Bitstring Forma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914400" y="3762360"/>
            <a:ext cx="7391160" cy="580680"/>
            <a:chOff x="914400" y="3762360"/>
            <a:chExt cx="7391160" cy="580680"/>
          </a:xfrm>
        </p:grpSpPr>
        <p:sp>
          <p:nvSpPr>
            <p:cNvPr id="1915" name=""/>
            <p:cNvSpPr/>
            <p:nvPr/>
          </p:nvSpPr>
          <p:spPr>
            <a:xfrm>
              <a:off x="914400" y="3762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880" rIns="5688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14400" y="3762360"/>
              <a:ext cx="7391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$ORIGIN \[x3ffe805002011860/64].</a:t>
              </a:r>
              <a:r>
                <a:rPr b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ip6.arpa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.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9933"/>
                  </a:solidFill>
                  <a:latin typeface="Trebuchet MS"/>
                  <a:ea typeface="arial"/>
                </a:rPr>
                <a:t>\[x0042000000000001/64]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14400 IN PTR </a:t>
              </a:r>
              <a:r>
                <a:rPr b="0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	</a:t>
              </a:r>
              <a:r>
                <a:rPr b="0" i="1" lang="es-ES" sz="16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host.example.com</a:t>
              </a:r>
              <a:r>
                <a:rPr b="0" i="1" lang="es-ES" sz="9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.</a:t>
              </a:r>
              <a:r>
                <a:rPr b="0" lang="es-ES" sz="900" spc="-1" strike="noStrike">
                  <a:solidFill>
                    <a:srgbClr val="ffffcc"/>
                  </a:solidFill>
                  <a:latin typeface="Trebuchet MS"/>
                  <a:ea typeface="arial"/>
                </a:rPr>
                <a:t> 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18" name=""/>
          <p:cNvGraphicFramePr/>
          <p:nvPr/>
        </p:nvGraphicFramePr>
        <p:xfrm>
          <a:off x="228600" y="792000"/>
          <a:ext cx="8763120" cy="5989680"/>
        </p:xfrm>
        <a:graphic>
          <a:graphicData uri="http://schemas.openxmlformats.org/drawingml/2006/table">
            <a:tbl>
              <a:tblPr/>
              <a:tblGrid>
                <a:gridCol w="642960"/>
                <a:gridCol w="2405160"/>
                <a:gridCol w="3352680"/>
                <a:gridCol w="2362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Organiza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Ubica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Direccione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nformation Sciences Institute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arina Del Rey C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92.228.79.201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478:65::5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nternet Systems Consortium, Inc.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Ottawa; Palo Alto; San Jose CA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New York City; San Francisco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adrid; Hong Kong; Los Angeles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Rome; Auckland; Sao Paulo; 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Beijing; Seoul; Moscow; Taipei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Dubai; Paris; Singapore; Brisbane;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Toronto; Monterrey; Lisbon; </a:t>
                      </a:r>
                      <a:br>
                        <a:rPr sz="1600"/>
                      </a:br>
                      <a:r>
                        <a:rPr b="0" lang="es-ES" sz="16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Johannesburg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92.5.5.241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500::103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U.S. Army Research Lab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Aberdeen M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128.63.2.53</a:t>
                      </a:r>
                      <a:br>
                        <a:rPr sz="2000"/>
                      </a:b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500:1::803f:2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WIDE Projec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Toky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4: 202.12.27.33</a:t>
                      </a:r>
                      <a:br>
                        <a:rPr sz="2000"/>
                      </a:b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Trebuchet MS"/>
                        </a:rPr>
                        <a:t>IPv6: 2001:dc3::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9" name=""/>
          <p:cNvSpPr/>
          <p:nvPr/>
        </p:nvSpPr>
        <p:spPr>
          <a:xfrm>
            <a:off x="380880" y="304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rebuchet MS"/>
              </a:rPr>
              <a:t>Root 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"/>
          <p:cNvSpPr/>
          <p:nvPr/>
        </p:nvSpPr>
        <p:spPr>
          <a:xfrm>
            <a:off x="533520" y="0"/>
            <a:ext cx="807696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greatplains.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TTL 86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greatplains     IN       SOA nic-ks.greatplains.net. root.greatplains.net. (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002081205 ; serial - YYYYMMDDX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1600      ; refresh - 6 hou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1200       ; retry - 20 minu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000    ; expire - long ti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86400)     ; minimum TTL - 24 hou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Nameserv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.kanren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990720" y="484200"/>
            <a:ext cx="746748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MX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MX        10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Hos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est nam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tmp-ks          IN        A         164.113.238.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tmp-ks          IN        AAAA      2001:468:1FD:1::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tmp-ks          IN        AAAA      2001:468:1FD:4::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e nic machi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nic-ks          IN        AAAA      2001:468:1FD:0:201:3FF:FED8:61C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nic-ks-s        IN        AAAA      2001:468:1FD:1:201:3FF:FED8:61C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fre-ks          IN        AAAA      2001:468:1FD:0:0210:4bff:fec9:370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380880" y="304920"/>
            <a:ext cx="84582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1.0.8.6.4.0.1.0.0.2.ip6.i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TTL 86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@               IN        SOA nic-ks.greatplains.net. root.nic-ks.greatplains.net. (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002050300  ; Serial - YYYYMMDDX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10800            ; Refres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            ; Ret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000            ; Exp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86400 )            ; Minimu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Nameserv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12240" y="3168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Otros Factores Motiv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33520"/>
            <a:ext cx="8763120" cy="60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Necesidad de establecimiento de verdadera Comunicación “Peer to Peer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Compartir contenidos (</a:t>
            </a:r>
            <a:r>
              <a:rPr b="0" i="1" lang="es-ES_tradnl" sz="2000" spc="-1" strike="noStrike">
                <a:solidFill>
                  <a:srgbClr val="ffffcc"/>
                </a:solidFill>
                <a:latin typeface="Verdana"/>
              </a:rPr>
              <a:t>Ej: </a:t>
            </a:r>
            <a:r>
              <a:rPr b="0" i="1" lang="es-ES_tradnl" sz="2000" spc="-1" strike="noStrike">
                <a:solidFill>
                  <a:srgbClr val="00cccc"/>
                </a:solidFill>
                <a:latin typeface="Verdana"/>
              </a:rPr>
              <a:t>Kazaa, Gnutella</a:t>
            </a:r>
            <a:r>
              <a:rPr b="0" i="1" lang="es-ES_tradnl" sz="2000" spc="-1" strike="noStrike">
                <a:solidFill>
                  <a:srgbClr val="ffffcc"/>
                </a:solidFill>
                <a:latin typeface="Verdana"/>
              </a:rPr>
              <a:t>, etc</a:t>
            </a: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Procesamiento de datos distribuidos (</a:t>
            </a:r>
            <a:r>
              <a:rPr b="0" i="1" lang="es-ES_tradnl" sz="2000" spc="-1" strike="noStrike">
                <a:solidFill>
                  <a:srgbClr val="ffffcc"/>
                </a:solidFill>
                <a:latin typeface="Verdana"/>
              </a:rPr>
              <a:t>Ej:</a:t>
            </a:r>
            <a:r>
              <a:rPr b="0" i="1" lang="en-US" sz="2000" spc="-1" strike="noStrike">
                <a:solidFill>
                  <a:srgbClr val="00cccc"/>
                </a:solidFill>
                <a:latin typeface="Verdana"/>
              </a:rPr>
              <a:t>SETI@home, Fightaids@home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Verdana"/>
              </a:rPr>
              <a:t>Relaciones personales</a:t>
            </a:r>
            <a:r>
              <a:rPr b="0" i="1" lang="es-ES_tradnl" sz="2000" spc="-1" strike="noStrike">
                <a:solidFill>
                  <a:srgbClr val="ffffcc"/>
                </a:solidFill>
                <a:latin typeface="Verdana"/>
              </a:rPr>
              <a:t> (Ej: </a:t>
            </a:r>
            <a:r>
              <a:rPr b="0" i="1" lang="en-US" sz="2000" spc="-1" strike="noStrike">
                <a:solidFill>
                  <a:srgbClr val="00cccc"/>
                </a:solidFill>
                <a:latin typeface="Verdana"/>
              </a:rPr>
              <a:t>Microsoft Threedegree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Voz sobre IP “Peer to Peer” (Ej: Skyp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Juegos “Peer to Peer”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00cc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Se estima que el mercado norteamericano crecerá a $1.8 B para el 200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240" indent="-203040">
              <a:lnSpc>
                <a:spcPct val="100000"/>
              </a:lnSpc>
              <a:spcBef>
                <a:spcPts val="1250"/>
              </a:spcBef>
              <a:buClr>
                <a:srgbClr val="00cc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cc"/>
                </a:solidFill>
                <a:latin typeface="Verdana"/>
              </a:rPr>
              <a:t>La industria japonesa prevé ventas de $2.2 B para el 200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Seguridad en las comunicaciones “Peer to Peer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omunicaciones con Calidad de Servicio (</a:t>
            </a:r>
            <a:r>
              <a:rPr b="0" i="1" lang="es-ES_tradnl" sz="2400" spc="-1" strike="noStrike">
                <a:solidFill>
                  <a:srgbClr val="ffffcc"/>
                </a:solidFill>
                <a:latin typeface="Verdana"/>
              </a:rPr>
              <a:t>QoS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/>
          <p:cNvSpPr/>
          <p:nvPr/>
        </p:nvSpPr>
        <p:spPr>
          <a:xfrm>
            <a:off x="762120" y="228600"/>
            <a:ext cx="77724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We delegate out 2001:468:100::/40 to other nameserv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is is the 2001:468:1fd::/48 delegated to GPN loc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d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is is the 2001:468:1fe::/48 delegated to Summerhil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e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cody.summerhill.org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is is the 2001:468:1ff::/48 delegated to GPN point-to-po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f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228600" y="152280"/>
            <a:ext cx="883908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d.f.1.0.8.6.4.0.1.0.0.2.ip6.i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TTL                86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d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@               IN       SOA nic-ks.greatplains.net. root.nic-ks.greatplains.net. (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002081202  ; Serial - YYYYMMDDX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10800       ; Refres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        ; Ret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000     ; Exp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86400 )     ; Minimu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Nameserv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Hosts on 2001:468:1fd::/64, the GPN ether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0.0.0.0.d.f.1.0.8.6.4.0.1.0.0.2.ip6.i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6.c.1.6.8.d.e.f.f.f.3.0.1.0.2.0  IN    PTR nic-ks.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d.0.7.3.9.c.e.f.f.f.b.4.0.1.2.0  IN    PTR fre-ks.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380880" y="223920"/>
            <a:ext cx="84582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x2001046801fd-48.ip6.arp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TTL                86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\[x2001046801fd/48].ip6.arp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@               IN       SOA nic-ks.greatplains.net. root.nic-ks.greatplains.net. (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2002081204  ; Serial - YYYYMMDDX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10800       ; Refres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        ; Ret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3600000     ; Expi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86400 )     ; Minimu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Nameserve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ks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IN        NS        nic-mn.northernlights.gigapop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;; The hosts in 2001:468:1fd::/64 on the GPN ether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$ORIGIN \[x2001046801fd0000/64].ip6.arp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\[x020103fffed861c6]             IN    PTR nic-ks.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ahoma"/>
              </a:rPr>
              <a:t>\[x02104bfffec9370d]             IN    PTR fre-ks.ip6.greatplains.n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419240" y="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DN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mapa" descr=""/>
          <p:cNvPicPr/>
          <p:nvPr/>
        </p:nvPicPr>
        <p:blipFill>
          <a:blip r:embed="rId1"/>
          <a:stretch/>
        </p:blipFill>
        <p:spPr>
          <a:xfrm>
            <a:off x="736560" y="1057320"/>
            <a:ext cx="7669080" cy="4743360"/>
          </a:xfrm>
          <a:prstGeom prst="rect">
            <a:avLst/>
          </a:prstGeom>
          <a:ln w="0">
            <a:noFill/>
          </a:ln>
        </p:spPr>
      </p:pic>
      <p:sp>
        <p:nvSpPr>
          <p:cNvPr id="1933" name=""/>
          <p:cNvSpPr/>
          <p:nvPr/>
        </p:nvSpPr>
        <p:spPr>
          <a:xfrm>
            <a:off x="5375880" y="3168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Fuerzas de Tare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1006560" y="1371600"/>
            <a:ext cx="838080" cy="144792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-107280" y="1035000"/>
            <a:ext cx="33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de Norteaméric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800000" y="6019920"/>
            <a:ext cx="41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Latinoamérica y el Carib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3063600" y="4648320"/>
            <a:ext cx="68580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322080" y="111132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de Europ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4511160" y="1371600"/>
            <a:ext cx="212760" cy="1828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711240" y="55627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Fuerza de Tarea de Ira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5121360" y="3733560"/>
            <a:ext cx="228600" cy="19047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640760" y="141588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rebuchet MS"/>
              </a:rPr>
              <a:t>Fuerza de Tarea de Afric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4876560" y="1676520"/>
            <a:ext cx="1143000" cy="2514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433920" y="1066680"/>
            <a:ext cx="25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de Chin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6492960" y="1371600"/>
            <a:ext cx="1279440" cy="23623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938560" y="6019920"/>
            <a:ext cx="32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rebuchet MS"/>
              </a:rPr>
              <a:t>Fuerza de Tarea de Asia-Pacífic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5959440" y="4647960"/>
            <a:ext cx="746280" cy="19047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12760" y="380880"/>
            <a:ext cx="89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El </a:t>
            </a: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Forum IPv6</a:t>
            </a: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 es el organismo coordinador de los esfuerzos de desarrollo IPv6 en el mundo </a:t>
            </a:r>
            <a:r>
              <a:rPr b="0" lang="es-ES" sz="2000" spc="-1" strike="noStrike">
                <a:solidFill>
                  <a:srgbClr val="00cccc"/>
                </a:solidFill>
                <a:latin typeface="Trebuchet MS"/>
              </a:rPr>
              <a:t>(http://www.ipv6forum.co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2"/>
          <a:srcRect l="45000" t="5998" r="11002" b="24671"/>
          <a:stretch/>
        </p:blipFill>
        <p:spPr>
          <a:xfrm>
            <a:off x="0" y="3581280"/>
            <a:ext cx="2771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066680" y="457200"/>
            <a:ext cx="119556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urop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52" name="europa-ipv6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1722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3" name=""/>
          <p:cNvGrpSpPr/>
          <p:nvPr/>
        </p:nvGrpSpPr>
        <p:grpSpPr>
          <a:xfrm>
            <a:off x="628560" y="1754280"/>
            <a:ext cx="7886880" cy="3262320"/>
            <a:chOff x="628560" y="1754280"/>
            <a:chExt cx="7886880" cy="3262320"/>
          </a:xfrm>
        </p:grpSpPr>
        <p:sp>
          <p:nvSpPr>
            <p:cNvPr id="1954" name=""/>
            <p:cNvSpPr/>
            <p:nvPr/>
          </p:nvSpPr>
          <p:spPr>
            <a:xfrm>
              <a:off x="628560" y="1754280"/>
              <a:ext cx="7886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28560" y="1754280"/>
              <a:ext cx="78868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484848"/>
                  </a:solidFill>
                  <a:latin typeface="Times New Roman"/>
                </a:rPr>
                <a:t>  </a:t>
              </a:r>
              <a:r>
                <a:rPr b="0" lang="es-ES" sz="20800" spc="-1" strike="noStrike">
                  <a:solidFill>
                    <a:srgbClr val="484848"/>
                  </a:solidFill>
                  <a:latin typeface="Times New Roman"/>
                </a:rPr>
                <a:t> </a:t>
              </a:r>
              <a:r>
                <a:rPr b="0" lang="es-ES" sz="1000" spc="-1" strike="noStrike">
                  <a:solidFill>
                    <a:srgbClr val="484848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956" name="ipv6_backbone-e" descr="IPv6 Backbone"/>
          <p:cNvPicPr/>
          <p:nvPr/>
        </p:nvPicPr>
        <p:blipFill>
          <a:blip r:embed="rId1"/>
          <a:stretch/>
        </p:blipFill>
        <p:spPr>
          <a:xfrm>
            <a:off x="1177920" y="1800360"/>
            <a:ext cx="7661160" cy="4100400"/>
          </a:xfrm>
          <a:prstGeom prst="rect">
            <a:avLst/>
          </a:prstGeom>
          <a:ln w="0">
            <a:noFill/>
          </a:ln>
        </p:spPr>
      </p:pic>
      <p:sp>
        <p:nvSpPr>
          <p:cNvPr id="1957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066680" y="457200"/>
            <a:ext cx="10429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Jap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/>
          <p:nvPr/>
        </p:nvSpPr>
        <p:spPr>
          <a:xfrm>
            <a:off x="471204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1143000" y="1066680"/>
            <a:ext cx="7543800" cy="5197680"/>
            <a:chOff x="1143000" y="1066680"/>
            <a:chExt cx="7543800" cy="5197680"/>
          </a:xfrm>
        </p:grpSpPr>
        <p:pic>
          <p:nvPicPr>
            <p:cNvPr id="1961" name="CERNET下一代" descr=""/>
            <p:cNvPicPr/>
            <p:nvPr/>
          </p:nvPicPr>
          <p:blipFill>
            <a:blip r:embed="rId1"/>
            <a:stretch/>
          </p:blipFill>
          <p:spPr>
            <a:xfrm>
              <a:off x="1143000" y="1066680"/>
              <a:ext cx="7543800" cy="51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2" name=""/>
            <p:cNvSpPr txBox="1"/>
            <p:nvPr/>
          </p:nvSpPr>
          <p:spPr>
            <a:xfrm>
              <a:off x="1143000" y="1066680"/>
              <a:ext cx="7543800" cy="519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99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>
            <a:off x="1066320" y="609480"/>
            <a:ext cx="9928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004240" cy="4495680"/>
          </a:xfrm>
          <a:prstGeom prst="rect">
            <a:avLst/>
          </a:prstGeom>
          <a:ln w="0">
            <a:noFill/>
          </a:ln>
        </p:spPr>
      </p:pic>
      <p:sp>
        <p:nvSpPr>
          <p:cNvPr id="1965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050840" y="609480"/>
            <a:ext cx="2448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stados Uni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7" name="ipv6-mx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467480" cy="5268960"/>
          </a:xfrm>
          <a:prstGeom prst="rect">
            <a:avLst/>
          </a:prstGeom>
          <a:ln w="0">
            <a:noFill/>
          </a:ln>
        </p:spPr>
      </p:pic>
      <p:sp>
        <p:nvSpPr>
          <p:cNvPr id="1968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609480"/>
            <a:ext cx="1180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éx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8803800" y="450216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Times New Roman"/>
              </a:rPr>
              <a:t>Cancún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5440" y="583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8960" y="5823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3080" y="569124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81000" y="5943600"/>
            <a:ext cx="6858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466560" y="1001520"/>
            <a:ext cx="8504280" cy="5858280"/>
            <a:chOff x="466560" y="1001520"/>
            <a:chExt cx="8504280" cy="5858280"/>
          </a:xfrm>
        </p:grpSpPr>
        <p:grpSp>
          <p:nvGrpSpPr>
            <p:cNvPr id="1977" name=""/>
            <p:cNvGrpSpPr/>
            <p:nvPr/>
          </p:nvGrpSpPr>
          <p:grpSpPr>
            <a:xfrm>
              <a:off x="766800" y="1371600"/>
              <a:ext cx="7470720" cy="5227560"/>
              <a:chOff x="766800" y="1371600"/>
              <a:chExt cx="7470720" cy="5227560"/>
            </a:xfrm>
          </p:grpSpPr>
          <p:sp>
            <p:nvSpPr>
              <p:cNvPr id="1978" name=""/>
              <p:cNvSpPr/>
              <p:nvPr/>
            </p:nvSpPr>
            <p:spPr>
              <a:xfrm>
                <a:off x="766800" y="1538280"/>
                <a:ext cx="7348680" cy="5060880"/>
              </a:xfrm>
              <a:custGeom>
                <a:avLst/>
                <a:gdLst/>
                <a:ahLst/>
                <a:rect l="l" t="t" r="r" b="b"/>
                <a:pathLst>
                  <a:path w="4527" h="3033">
                    <a:moveTo>
                      <a:pt x="0" y="18"/>
                    </a:moveTo>
                    <a:lnTo>
                      <a:pt x="4" y="37"/>
                    </a:lnTo>
                    <a:lnTo>
                      <a:pt x="9" y="64"/>
                    </a:lnTo>
                    <a:lnTo>
                      <a:pt x="11" y="86"/>
                    </a:lnTo>
                    <a:lnTo>
                      <a:pt x="9" y="96"/>
                    </a:lnTo>
                    <a:lnTo>
                      <a:pt x="117" y="432"/>
                    </a:lnTo>
                    <a:lnTo>
                      <a:pt x="159" y="506"/>
                    </a:lnTo>
                    <a:lnTo>
                      <a:pt x="134" y="556"/>
                    </a:lnTo>
                    <a:lnTo>
                      <a:pt x="145" y="563"/>
                    </a:lnTo>
                    <a:lnTo>
                      <a:pt x="170" y="583"/>
                    </a:lnTo>
                    <a:lnTo>
                      <a:pt x="198" y="613"/>
                    </a:lnTo>
                    <a:lnTo>
                      <a:pt x="239" y="647"/>
                    </a:lnTo>
                    <a:lnTo>
                      <a:pt x="277" y="687"/>
                    </a:lnTo>
                    <a:lnTo>
                      <a:pt x="312" y="729"/>
                    </a:lnTo>
                    <a:lnTo>
                      <a:pt x="338" y="768"/>
                    </a:lnTo>
                    <a:lnTo>
                      <a:pt x="351" y="804"/>
                    </a:lnTo>
                    <a:lnTo>
                      <a:pt x="362" y="857"/>
                    </a:lnTo>
                    <a:lnTo>
                      <a:pt x="364" y="894"/>
                    </a:lnTo>
                    <a:lnTo>
                      <a:pt x="358" y="910"/>
                    </a:lnTo>
                    <a:lnTo>
                      <a:pt x="337" y="921"/>
                    </a:lnTo>
                    <a:lnTo>
                      <a:pt x="320" y="924"/>
                    </a:lnTo>
                    <a:lnTo>
                      <a:pt x="304" y="919"/>
                    </a:lnTo>
                    <a:lnTo>
                      <a:pt x="289" y="910"/>
                    </a:lnTo>
                    <a:lnTo>
                      <a:pt x="275" y="901"/>
                    </a:lnTo>
                    <a:lnTo>
                      <a:pt x="257" y="893"/>
                    </a:lnTo>
                    <a:lnTo>
                      <a:pt x="246" y="885"/>
                    </a:lnTo>
                    <a:lnTo>
                      <a:pt x="231" y="885"/>
                    </a:lnTo>
                    <a:lnTo>
                      <a:pt x="222" y="891"/>
                    </a:lnTo>
                    <a:lnTo>
                      <a:pt x="215" y="911"/>
                    </a:lnTo>
                    <a:lnTo>
                      <a:pt x="235" y="927"/>
                    </a:lnTo>
                    <a:lnTo>
                      <a:pt x="258" y="942"/>
                    </a:lnTo>
                    <a:lnTo>
                      <a:pt x="268" y="955"/>
                    </a:lnTo>
                    <a:lnTo>
                      <a:pt x="274" y="979"/>
                    </a:lnTo>
                    <a:lnTo>
                      <a:pt x="285" y="1015"/>
                    </a:lnTo>
                    <a:lnTo>
                      <a:pt x="293" y="1052"/>
                    </a:lnTo>
                    <a:lnTo>
                      <a:pt x="297" y="1065"/>
                    </a:lnTo>
                    <a:lnTo>
                      <a:pt x="598" y="1260"/>
                    </a:lnTo>
                    <a:lnTo>
                      <a:pt x="622" y="1498"/>
                    </a:lnTo>
                    <a:lnTo>
                      <a:pt x="631" y="1506"/>
                    </a:lnTo>
                    <a:lnTo>
                      <a:pt x="662" y="1529"/>
                    </a:lnTo>
                    <a:lnTo>
                      <a:pt x="707" y="1565"/>
                    </a:lnTo>
                    <a:lnTo>
                      <a:pt x="753" y="1605"/>
                    </a:lnTo>
                    <a:lnTo>
                      <a:pt x="807" y="1649"/>
                    </a:lnTo>
                    <a:lnTo>
                      <a:pt x="850" y="1688"/>
                    </a:lnTo>
                    <a:lnTo>
                      <a:pt x="884" y="1719"/>
                    </a:lnTo>
                    <a:lnTo>
                      <a:pt x="906" y="1739"/>
                    </a:lnTo>
                    <a:lnTo>
                      <a:pt x="921" y="1771"/>
                    </a:lnTo>
                    <a:lnTo>
                      <a:pt x="928" y="1800"/>
                    </a:lnTo>
                    <a:lnTo>
                      <a:pt x="933" y="1821"/>
                    </a:lnTo>
                    <a:lnTo>
                      <a:pt x="933" y="1830"/>
                    </a:lnTo>
                    <a:lnTo>
                      <a:pt x="1053" y="1826"/>
                    </a:lnTo>
                    <a:lnTo>
                      <a:pt x="1050" y="1810"/>
                    </a:lnTo>
                    <a:lnTo>
                      <a:pt x="1042" y="1773"/>
                    </a:lnTo>
                    <a:lnTo>
                      <a:pt x="1030" y="1734"/>
                    </a:lnTo>
                    <a:lnTo>
                      <a:pt x="1020" y="1706"/>
                    </a:lnTo>
                    <a:lnTo>
                      <a:pt x="993" y="1679"/>
                    </a:lnTo>
                    <a:lnTo>
                      <a:pt x="954" y="1644"/>
                    </a:lnTo>
                    <a:lnTo>
                      <a:pt x="918" y="1614"/>
                    </a:lnTo>
                    <a:lnTo>
                      <a:pt x="901" y="1600"/>
                    </a:lnTo>
                    <a:lnTo>
                      <a:pt x="899" y="1604"/>
                    </a:lnTo>
                    <a:lnTo>
                      <a:pt x="889" y="1613"/>
                    </a:lnTo>
                    <a:lnTo>
                      <a:pt x="883" y="1621"/>
                    </a:lnTo>
                    <a:lnTo>
                      <a:pt x="869" y="1615"/>
                    </a:lnTo>
                    <a:lnTo>
                      <a:pt x="862" y="1597"/>
                    </a:lnTo>
                    <a:lnTo>
                      <a:pt x="860" y="1575"/>
                    </a:lnTo>
                    <a:lnTo>
                      <a:pt x="856" y="1556"/>
                    </a:lnTo>
                    <a:lnTo>
                      <a:pt x="853" y="1549"/>
                    </a:lnTo>
                    <a:lnTo>
                      <a:pt x="716" y="1260"/>
                    </a:lnTo>
                    <a:lnTo>
                      <a:pt x="682" y="1269"/>
                    </a:lnTo>
                    <a:lnTo>
                      <a:pt x="670" y="1236"/>
                    </a:lnTo>
                    <a:lnTo>
                      <a:pt x="683" y="1209"/>
                    </a:lnTo>
                    <a:lnTo>
                      <a:pt x="489" y="820"/>
                    </a:lnTo>
                    <a:lnTo>
                      <a:pt x="304" y="519"/>
                    </a:lnTo>
                    <a:lnTo>
                      <a:pt x="301" y="477"/>
                    </a:lnTo>
                    <a:lnTo>
                      <a:pt x="295" y="384"/>
                    </a:lnTo>
                    <a:lnTo>
                      <a:pt x="287" y="284"/>
                    </a:lnTo>
                    <a:lnTo>
                      <a:pt x="282" y="223"/>
                    </a:lnTo>
                    <a:lnTo>
                      <a:pt x="285" y="216"/>
                    </a:lnTo>
                    <a:lnTo>
                      <a:pt x="293" y="230"/>
                    </a:lnTo>
                    <a:lnTo>
                      <a:pt x="312" y="249"/>
                    </a:lnTo>
                    <a:lnTo>
                      <a:pt x="327" y="267"/>
                    </a:lnTo>
                    <a:lnTo>
                      <a:pt x="347" y="274"/>
                    </a:lnTo>
                    <a:lnTo>
                      <a:pt x="370" y="282"/>
                    </a:lnTo>
                    <a:lnTo>
                      <a:pt x="391" y="286"/>
                    </a:lnTo>
                    <a:lnTo>
                      <a:pt x="397" y="287"/>
                    </a:lnTo>
                    <a:lnTo>
                      <a:pt x="561" y="411"/>
                    </a:lnTo>
                    <a:lnTo>
                      <a:pt x="664" y="827"/>
                    </a:lnTo>
                    <a:lnTo>
                      <a:pt x="672" y="833"/>
                    </a:lnTo>
                    <a:lnTo>
                      <a:pt x="699" y="852"/>
                    </a:lnTo>
                    <a:lnTo>
                      <a:pt x="740" y="877"/>
                    </a:lnTo>
                    <a:lnTo>
                      <a:pt x="783" y="908"/>
                    </a:lnTo>
                    <a:lnTo>
                      <a:pt x="828" y="937"/>
                    </a:lnTo>
                    <a:lnTo>
                      <a:pt x="870" y="965"/>
                    </a:lnTo>
                    <a:lnTo>
                      <a:pt x="901" y="988"/>
                    </a:lnTo>
                    <a:lnTo>
                      <a:pt x="922" y="998"/>
                    </a:lnTo>
                    <a:lnTo>
                      <a:pt x="931" y="1008"/>
                    </a:lnTo>
                    <a:lnTo>
                      <a:pt x="933" y="1028"/>
                    </a:lnTo>
                    <a:lnTo>
                      <a:pt x="932" y="1048"/>
                    </a:lnTo>
                    <a:lnTo>
                      <a:pt x="927" y="1059"/>
                    </a:lnTo>
                    <a:lnTo>
                      <a:pt x="992" y="1159"/>
                    </a:lnTo>
                    <a:lnTo>
                      <a:pt x="1003" y="1163"/>
                    </a:lnTo>
                    <a:lnTo>
                      <a:pt x="1029" y="1174"/>
                    </a:lnTo>
                    <a:lnTo>
                      <a:pt x="1055" y="1190"/>
                    </a:lnTo>
                    <a:lnTo>
                      <a:pt x="1071" y="1216"/>
                    </a:lnTo>
                    <a:lnTo>
                      <a:pt x="1074" y="1255"/>
                    </a:lnTo>
                    <a:lnTo>
                      <a:pt x="1075" y="1298"/>
                    </a:lnTo>
                    <a:lnTo>
                      <a:pt x="1075" y="1338"/>
                    </a:lnTo>
                    <a:lnTo>
                      <a:pt x="1077" y="1360"/>
                    </a:lnTo>
                    <a:lnTo>
                      <a:pt x="1099" y="1381"/>
                    </a:lnTo>
                    <a:lnTo>
                      <a:pt x="1151" y="1437"/>
                    </a:lnTo>
                    <a:lnTo>
                      <a:pt x="1229" y="1506"/>
                    </a:lnTo>
                    <a:lnTo>
                      <a:pt x="1315" y="1587"/>
                    </a:lnTo>
                    <a:lnTo>
                      <a:pt x="1401" y="1664"/>
                    </a:lnTo>
                    <a:lnTo>
                      <a:pt x="1479" y="1736"/>
                    </a:lnTo>
                    <a:lnTo>
                      <a:pt x="1534" y="1783"/>
                    </a:lnTo>
                    <a:lnTo>
                      <a:pt x="1555" y="1801"/>
                    </a:lnTo>
                    <a:lnTo>
                      <a:pt x="1706" y="2151"/>
                    </a:lnTo>
                    <a:lnTo>
                      <a:pt x="1648" y="2353"/>
                    </a:lnTo>
                    <a:lnTo>
                      <a:pt x="1656" y="2359"/>
                    </a:lnTo>
                    <a:lnTo>
                      <a:pt x="1685" y="2377"/>
                    </a:lnTo>
                    <a:lnTo>
                      <a:pt x="1723" y="2403"/>
                    </a:lnTo>
                    <a:lnTo>
                      <a:pt x="1771" y="2432"/>
                    </a:lnTo>
                    <a:lnTo>
                      <a:pt x="1818" y="2458"/>
                    </a:lnTo>
                    <a:lnTo>
                      <a:pt x="1860" y="2480"/>
                    </a:lnTo>
                    <a:lnTo>
                      <a:pt x="1901" y="2496"/>
                    </a:lnTo>
                    <a:lnTo>
                      <a:pt x="1925" y="2499"/>
                    </a:lnTo>
                    <a:lnTo>
                      <a:pt x="1957" y="2508"/>
                    </a:lnTo>
                    <a:lnTo>
                      <a:pt x="1988" y="2531"/>
                    </a:lnTo>
                    <a:lnTo>
                      <a:pt x="2014" y="2553"/>
                    </a:lnTo>
                    <a:lnTo>
                      <a:pt x="2021" y="2565"/>
                    </a:lnTo>
                    <a:lnTo>
                      <a:pt x="2034" y="2569"/>
                    </a:lnTo>
                    <a:lnTo>
                      <a:pt x="2066" y="2586"/>
                    </a:lnTo>
                    <a:lnTo>
                      <a:pt x="2111" y="2606"/>
                    </a:lnTo>
                    <a:lnTo>
                      <a:pt x="2160" y="2632"/>
                    </a:lnTo>
                    <a:lnTo>
                      <a:pt x="2222" y="2658"/>
                    </a:lnTo>
                    <a:lnTo>
                      <a:pt x="2274" y="2682"/>
                    </a:lnTo>
                    <a:lnTo>
                      <a:pt x="2319" y="2697"/>
                    </a:lnTo>
                    <a:lnTo>
                      <a:pt x="2350" y="2703"/>
                    </a:lnTo>
                    <a:lnTo>
                      <a:pt x="2382" y="2711"/>
                    </a:lnTo>
                    <a:lnTo>
                      <a:pt x="2399" y="2719"/>
                    </a:lnTo>
                    <a:lnTo>
                      <a:pt x="2406" y="2731"/>
                    </a:lnTo>
                    <a:lnTo>
                      <a:pt x="2408" y="2736"/>
                    </a:lnTo>
                    <a:lnTo>
                      <a:pt x="2416" y="2742"/>
                    </a:lnTo>
                    <a:lnTo>
                      <a:pt x="2435" y="2747"/>
                    </a:lnTo>
                    <a:lnTo>
                      <a:pt x="2463" y="2759"/>
                    </a:lnTo>
                    <a:lnTo>
                      <a:pt x="2503" y="2776"/>
                    </a:lnTo>
                    <a:lnTo>
                      <a:pt x="2552" y="2793"/>
                    </a:lnTo>
                    <a:lnTo>
                      <a:pt x="2603" y="2814"/>
                    </a:lnTo>
                    <a:lnTo>
                      <a:pt x="2663" y="2836"/>
                    </a:lnTo>
                    <a:lnTo>
                      <a:pt x="2722" y="2857"/>
                    </a:lnTo>
                    <a:lnTo>
                      <a:pt x="2785" y="2877"/>
                    </a:lnTo>
                    <a:lnTo>
                      <a:pt x="2847" y="2898"/>
                    </a:lnTo>
                    <a:lnTo>
                      <a:pt x="2908" y="2916"/>
                    </a:lnTo>
                    <a:lnTo>
                      <a:pt x="2964" y="2927"/>
                    </a:lnTo>
                    <a:lnTo>
                      <a:pt x="3019" y="2938"/>
                    </a:lnTo>
                    <a:lnTo>
                      <a:pt x="3067" y="2944"/>
                    </a:lnTo>
                    <a:lnTo>
                      <a:pt x="3103" y="2948"/>
                    </a:lnTo>
                    <a:lnTo>
                      <a:pt x="3135" y="2939"/>
                    </a:lnTo>
                    <a:lnTo>
                      <a:pt x="3187" y="2917"/>
                    </a:lnTo>
                    <a:lnTo>
                      <a:pt x="3236" y="2893"/>
                    </a:lnTo>
                    <a:lnTo>
                      <a:pt x="3290" y="2871"/>
                    </a:lnTo>
                    <a:lnTo>
                      <a:pt x="3345" y="2848"/>
                    </a:lnTo>
                    <a:lnTo>
                      <a:pt x="3395" y="2827"/>
                    </a:lnTo>
                    <a:lnTo>
                      <a:pt x="3438" y="2811"/>
                    </a:lnTo>
                    <a:lnTo>
                      <a:pt x="3477" y="2799"/>
                    </a:lnTo>
                    <a:lnTo>
                      <a:pt x="3504" y="2795"/>
                    </a:lnTo>
                    <a:lnTo>
                      <a:pt x="3537" y="2798"/>
                    </a:lnTo>
                    <a:lnTo>
                      <a:pt x="3581" y="2802"/>
                    </a:lnTo>
                    <a:lnTo>
                      <a:pt x="3633" y="2809"/>
                    </a:lnTo>
                    <a:lnTo>
                      <a:pt x="3690" y="2825"/>
                    </a:lnTo>
                    <a:lnTo>
                      <a:pt x="3751" y="2849"/>
                    </a:lnTo>
                    <a:lnTo>
                      <a:pt x="3811" y="2879"/>
                    </a:lnTo>
                    <a:lnTo>
                      <a:pt x="3867" y="2924"/>
                    </a:lnTo>
                    <a:lnTo>
                      <a:pt x="3915" y="2984"/>
                    </a:lnTo>
                    <a:lnTo>
                      <a:pt x="3958" y="3032"/>
                    </a:lnTo>
                    <a:lnTo>
                      <a:pt x="3943" y="2959"/>
                    </a:lnTo>
                    <a:lnTo>
                      <a:pt x="3913" y="2853"/>
                    </a:lnTo>
                    <a:lnTo>
                      <a:pt x="3908" y="2791"/>
                    </a:lnTo>
                    <a:lnTo>
                      <a:pt x="3923" y="2777"/>
                    </a:lnTo>
                    <a:lnTo>
                      <a:pt x="3924" y="2757"/>
                    </a:lnTo>
                    <a:lnTo>
                      <a:pt x="3915" y="2731"/>
                    </a:lnTo>
                    <a:lnTo>
                      <a:pt x="3902" y="2704"/>
                    </a:lnTo>
                    <a:lnTo>
                      <a:pt x="3901" y="2687"/>
                    </a:lnTo>
                    <a:lnTo>
                      <a:pt x="3916" y="2673"/>
                    </a:lnTo>
                    <a:lnTo>
                      <a:pt x="3935" y="2655"/>
                    </a:lnTo>
                    <a:lnTo>
                      <a:pt x="3962" y="2642"/>
                    </a:lnTo>
                    <a:lnTo>
                      <a:pt x="3989" y="2629"/>
                    </a:lnTo>
                    <a:lnTo>
                      <a:pt x="4011" y="2618"/>
                    </a:lnTo>
                    <a:lnTo>
                      <a:pt x="4029" y="2612"/>
                    </a:lnTo>
                    <a:lnTo>
                      <a:pt x="4037" y="2609"/>
                    </a:lnTo>
                    <a:lnTo>
                      <a:pt x="4031" y="2602"/>
                    </a:lnTo>
                    <a:lnTo>
                      <a:pt x="4015" y="2597"/>
                    </a:lnTo>
                    <a:lnTo>
                      <a:pt x="3994" y="2587"/>
                    </a:lnTo>
                    <a:lnTo>
                      <a:pt x="3971" y="2573"/>
                    </a:lnTo>
                    <a:lnTo>
                      <a:pt x="3946" y="2559"/>
                    </a:lnTo>
                    <a:lnTo>
                      <a:pt x="3929" y="2542"/>
                    </a:lnTo>
                    <a:lnTo>
                      <a:pt x="3913" y="2531"/>
                    </a:lnTo>
                    <a:lnTo>
                      <a:pt x="3910" y="2523"/>
                    </a:lnTo>
                    <a:lnTo>
                      <a:pt x="3918" y="2512"/>
                    </a:lnTo>
                    <a:lnTo>
                      <a:pt x="3931" y="2501"/>
                    </a:lnTo>
                    <a:lnTo>
                      <a:pt x="3948" y="2492"/>
                    </a:lnTo>
                    <a:lnTo>
                      <a:pt x="3967" y="2482"/>
                    </a:lnTo>
                    <a:lnTo>
                      <a:pt x="3986" y="2472"/>
                    </a:lnTo>
                    <a:lnTo>
                      <a:pt x="4003" y="2463"/>
                    </a:lnTo>
                    <a:lnTo>
                      <a:pt x="4011" y="2454"/>
                    </a:lnTo>
                    <a:lnTo>
                      <a:pt x="4017" y="2453"/>
                    </a:lnTo>
                    <a:lnTo>
                      <a:pt x="4038" y="2353"/>
                    </a:lnTo>
                    <a:lnTo>
                      <a:pt x="4282" y="2260"/>
                    </a:lnTo>
                    <a:lnTo>
                      <a:pt x="4367" y="2138"/>
                    </a:lnTo>
                    <a:lnTo>
                      <a:pt x="4372" y="2144"/>
                    </a:lnTo>
                    <a:lnTo>
                      <a:pt x="4385" y="2165"/>
                    </a:lnTo>
                    <a:lnTo>
                      <a:pt x="4403" y="2196"/>
                    </a:lnTo>
                    <a:lnTo>
                      <a:pt x="4420" y="2227"/>
                    </a:lnTo>
                    <a:lnTo>
                      <a:pt x="4434" y="2236"/>
                    </a:lnTo>
                    <a:lnTo>
                      <a:pt x="4462" y="2218"/>
                    </a:lnTo>
                    <a:lnTo>
                      <a:pt x="4483" y="2190"/>
                    </a:lnTo>
                    <a:lnTo>
                      <a:pt x="4491" y="2164"/>
                    </a:lnTo>
                    <a:lnTo>
                      <a:pt x="4479" y="2131"/>
                    </a:lnTo>
                    <a:lnTo>
                      <a:pt x="4456" y="2085"/>
                    </a:lnTo>
                    <a:lnTo>
                      <a:pt x="4431" y="2039"/>
                    </a:lnTo>
                    <a:lnTo>
                      <a:pt x="4430" y="2011"/>
                    </a:lnTo>
                    <a:lnTo>
                      <a:pt x="4437" y="2000"/>
                    </a:lnTo>
                    <a:lnTo>
                      <a:pt x="4449" y="1978"/>
                    </a:lnTo>
                    <a:lnTo>
                      <a:pt x="4462" y="1950"/>
                    </a:lnTo>
                    <a:lnTo>
                      <a:pt x="4476" y="1919"/>
                    </a:lnTo>
                    <a:lnTo>
                      <a:pt x="4492" y="1885"/>
                    </a:lnTo>
                    <a:lnTo>
                      <a:pt x="4507" y="1853"/>
                    </a:lnTo>
                    <a:lnTo>
                      <a:pt x="4518" y="1829"/>
                    </a:lnTo>
                    <a:lnTo>
                      <a:pt x="4525" y="1815"/>
                    </a:lnTo>
                    <a:lnTo>
                      <a:pt x="4526" y="1780"/>
                    </a:lnTo>
                    <a:lnTo>
                      <a:pt x="4516" y="1738"/>
                    </a:lnTo>
                    <a:lnTo>
                      <a:pt x="4506" y="1701"/>
                    </a:lnTo>
                    <a:lnTo>
                      <a:pt x="4499" y="1684"/>
                    </a:lnTo>
                    <a:lnTo>
                      <a:pt x="4494" y="1686"/>
                    </a:lnTo>
                    <a:lnTo>
                      <a:pt x="4477" y="1692"/>
                    </a:lnTo>
                    <a:lnTo>
                      <a:pt x="4450" y="1699"/>
                    </a:lnTo>
                    <a:lnTo>
                      <a:pt x="4419" y="1707"/>
                    </a:lnTo>
                    <a:lnTo>
                      <a:pt x="4390" y="1715"/>
                    </a:lnTo>
                    <a:lnTo>
                      <a:pt x="4357" y="1719"/>
                    </a:lnTo>
                    <a:lnTo>
                      <a:pt x="4329" y="1720"/>
                    </a:lnTo>
                    <a:lnTo>
                      <a:pt x="4309" y="1713"/>
                    </a:lnTo>
                    <a:lnTo>
                      <a:pt x="4296" y="1709"/>
                    </a:lnTo>
                    <a:lnTo>
                      <a:pt x="4280" y="1712"/>
                    </a:lnTo>
                    <a:lnTo>
                      <a:pt x="4265" y="1718"/>
                    </a:lnTo>
                    <a:lnTo>
                      <a:pt x="4257" y="1727"/>
                    </a:lnTo>
                    <a:lnTo>
                      <a:pt x="4242" y="1735"/>
                    </a:lnTo>
                    <a:lnTo>
                      <a:pt x="4233" y="1749"/>
                    </a:lnTo>
                    <a:lnTo>
                      <a:pt x="4225" y="1758"/>
                    </a:lnTo>
                    <a:lnTo>
                      <a:pt x="4218" y="1763"/>
                    </a:lnTo>
                    <a:lnTo>
                      <a:pt x="4209" y="1770"/>
                    </a:lnTo>
                    <a:lnTo>
                      <a:pt x="4190" y="1780"/>
                    </a:lnTo>
                    <a:lnTo>
                      <a:pt x="4161" y="1796"/>
                    </a:lnTo>
                    <a:lnTo>
                      <a:pt x="4129" y="1810"/>
                    </a:lnTo>
                    <a:lnTo>
                      <a:pt x="4100" y="1824"/>
                    </a:lnTo>
                    <a:lnTo>
                      <a:pt x="4069" y="1841"/>
                    </a:lnTo>
                    <a:lnTo>
                      <a:pt x="4045" y="1856"/>
                    </a:lnTo>
                    <a:lnTo>
                      <a:pt x="4030" y="1870"/>
                    </a:lnTo>
                    <a:lnTo>
                      <a:pt x="4015" y="1921"/>
                    </a:lnTo>
                    <a:lnTo>
                      <a:pt x="4016" y="2004"/>
                    </a:lnTo>
                    <a:lnTo>
                      <a:pt x="4024" y="2079"/>
                    </a:lnTo>
                    <a:lnTo>
                      <a:pt x="4027" y="2112"/>
                    </a:lnTo>
                    <a:lnTo>
                      <a:pt x="3908" y="2251"/>
                    </a:lnTo>
                    <a:lnTo>
                      <a:pt x="3919" y="2310"/>
                    </a:lnTo>
                    <a:lnTo>
                      <a:pt x="3844" y="2343"/>
                    </a:lnTo>
                    <a:lnTo>
                      <a:pt x="3834" y="2315"/>
                    </a:lnTo>
                    <a:lnTo>
                      <a:pt x="3821" y="2320"/>
                    </a:lnTo>
                    <a:lnTo>
                      <a:pt x="3782" y="2337"/>
                    </a:lnTo>
                    <a:lnTo>
                      <a:pt x="3725" y="2361"/>
                    </a:lnTo>
                    <a:lnTo>
                      <a:pt x="3657" y="2389"/>
                    </a:lnTo>
                    <a:lnTo>
                      <a:pt x="3588" y="2420"/>
                    </a:lnTo>
                    <a:lnTo>
                      <a:pt x="3523" y="2438"/>
                    </a:lnTo>
                    <a:lnTo>
                      <a:pt x="3469" y="2455"/>
                    </a:lnTo>
                    <a:lnTo>
                      <a:pt x="3439" y="2460"/>
                    </a:lnTo>
                    <a:lnTo>
                      <a:pt x="3415" y="2449"/>
                    </a:lnTo>
                    <a:lnTo>
                      <a:pt x="3410" y="2436"/>
                    </a:lnTo>
                    <a:lnTo>
                      <a:pt x="3420" y="2424"/>
                    </a:lnTo>
                    <a:lnTo>
                      <a:pt x="3424" y="2419"/>
                    </a:lnTo>
                    <a:lnTo>
                      <a:pt x="3422" y="2420"/>
                    </a:lnTo>
                    <a:lnTo>
                      <a:pt x="3405" y="2423"/>
                    </a:lnTo>
                    <a:lnTo>
                      <a:pt x="3385" y="2422"/>
                    </a:lnTo>
                    <a:lnTo>
                      <a:pt x="3358" y="2420"/>
                    </a:lnTo>
                    <a:lnTo>
                      <a:pt x="3321" y="2411"/>
                    </a:lnTo>
                    <a:lnTo>
                      <a:pt x="3282" y="2391"/>
                    </a:lnTo>
                    <a:lnTo>
                      <a:pt x="3233" y="2360"/>
                    </a:lnTo>
                    <a:lnTo>
                      <a:pt x="3179" y="2314"/>
                    </a:lnTo>
                    <a:lnTo>
                      <a:pt x="3125" y="2261"/>
                    </a:lnTo>
                    <a:lnTo>
                      <a:pt x="3074" y="2208"/>
                    </a:lnTo>
                    <a:lnTo>
                      <a:pt x="3033" y="2160"/>
                    </a:lnTo>
                    <a:lnTo>
                      <a:pt x="2996" y="2113"/>
                    </a:lnTo>
                    <a:lnTo>
                      <a:pt x="2964" y="2064"/>
                    </a:lnTo>
                    <a:lnTo>
                      <a:pt x="2934" y="2015"/>
                    </a:lnTo>
                    <a:lnTo>
                      <a:pt x="2911" y="1960"/>
                    </a:lnTo>
                    <a:lnTo>
                      <a:pt x="2891" y="1904"/>
                    </a:lnTo>
                    <a:lnTo>
                      <a:pt x="2879" y="1840"/>
                    </a:lnTo>
                    <a:lnTo>
                      <a:pt x="2866" y="1767"/>
                    </a:lnTo>
                    <a:lnTo>
                      <a:pt x="2860" y="1686"/>
                    </a:lnTo>
                    <a:lnTo>
                      <a:pt x="2858" y="1603"/>
                    </a:lnTo>
                    <a:lnTo>
                      <a:pt x="2859" y="1525"/>
                    </a:lnTo>
                    <a:lnTo>
                      <a:pt x="2862" y="1464"/>
                    </a:lnTo>
                    <a:lnTo>
                      <a:pt x="2868" y="1410"/>
                    </a:lnTo>
                    <a:lnTo>
                      <a:pt x="2876" y="1378"/>
                    </a:lnTo>
                    <a:lnTo>
                      <a:pt x="2889" y="1350"/>
                    </a:lnTo>
                    <a:lnTo>
                      <a:pt x="2899" y="1346"/>
                    </a:lnTo>
                    <a:lnTo>
                      <a:pt x="2901" y="1351"/>
                    </a:lnTo>
                    <a:lnTo>
                      <a:pt x="2900" y="1355"/>
                    </a:lnTo>
                    <a:lnTo>
                      <a:pt x="2904" y="1344"/>
                    </a:lnTo>
                    <a:lnTo>
                      <a:pt x="2916" y="1314"/>
                    </a:lnTo>
                    <a:lnTo>
                      <a:pt x="2926" y="1276"/>
                    </a:lnTo>
                    <a:lnTo>
                      <a:pt x="2925" y="1236"/>
                    </a:lnTo>
                    <a:lnTo>
                      <a:pt x="2915" y="1217"/>
                    </a:lnTo>
                    <a:lnTo>
                      <a:pt x="2898" y="1217"/>
                    </a:lnTo>
                    <a:lnTo>
                      <a:pt x="2876" y="1220"/>
                    </a:lnTo>
                    <a:lnTo>
                      <a:pt x="2841" y="1218"/>
                    </a:lnTo>
                    <a:lnTo>
                      <a:pt x="2818" y="1209"/>
                    </a:lnTo>
                    <a:lnTo>
                      <a:pt x="2787" y="1197"/>
                    </a:lnTo>
                    <a:lnTo>
                      <a:pt x="2756" y="1183"/>
                    </a:lnTo>
                    <a:lnTo>
                      <a:pt x="2722" y="1167"/>
                    </a:lnTo>
                    <a:lnTo>
                      <a:pt x="2684" y="1149"/>
                    </a:lnTo>
                    <a:lnTo>
                      <a:pt x="2653" y="1135"/>
                    </a:lnTo>
                    <a:lnTo>
                      <a:pt x="2627" y="1121"/>
                    </a:lnTo>
                    <a:lnTo>
                      <a:pt x="2607" y="1111"/>
                    </a:lnTo>
                    <a:lnTo>
                      <a:pt x="2574" y="1077"/>
                    </a:lnTo>
                    <a:lnTo>
                      <a:pt x="2545" y="1022"/>
                    </a:lnTo>
                    <a:lnTo>
                      <a:pt x="2522" y="967"/>
                    </a:lnTo>
                    <a:lnTo>
                      <a:pt x="2513" y="933"/>
                    </a:lnTo>
                    <a:lnTo>
                      <a:pt x="2505" y="921"/>
                    </a:lnTo>
                    <a:lnTo>
                      <a:pt x="2478" y="908"/>
                    </a:lnTo>
                    <a:lnTo>
                      <a:pt x="2445" y="889"/>
                    </a:lnTo>
                    <a:lnTo>
                      <a:pt x="2416" y="865"/>
                    </a:lnTo>
                    <a:lnTo>
                      <a:pt x="2389" y="823"/>
                    </a:lnTo>
                    <a:lnTo>
                      <a:pt x="2366" y="777"/>
                    </a:lnTo>
                    <a:lnTo>
                      <a:pt x="2342" y="725"/>
                    </a:lnTo>
                    <a:lnTo>
                      <a:pt x="2310" y="685"/>
                    </a:lnTo>
                    <a:lnTo>
                      <a:pt x="2290" y="670"/>
                    </a:lnTo>
                    <a:lnTo>
                      <a:pt x="2264" y="653"/>
                    </a:lnTo>
                    <a:lnTo>
                      <a:pt x="2239" y="639"/>
                    </a:lnTo>
                    <a:lnTo>
                      <a:pt x="2211" y="627"/>
                    </a:lnTo>
                    <a:lnTo>
                      <a:pt x="2189" y="620"/>
                    </a:lnTo>
                    <a:lnTo>
                      <a:pt x="2171" y="612"/>
                    </a:lnTo>
                    <a:lnTo>
                      <a:pt x="2156" y="609"/>
                    </a:lnTo>
                    <a:lnTo>
                      <a:pt x="2151" y="605"/>
                    </a:lnTo>
                    <a:lnTo>
                      <a:pt x="2065" y="643"/>
                    </a:lnTo>
                    <a:lnTo>
                      <a:pt x="2066" y="717"/>
                    </a:lnTo>
                    <a:lnTo>
                      <a:pt x="2060" y="716"/>
                    </a:lnTo>
                    <a:lnTo>
                      <a:pt x="2039" y="721"/>
                    </a:lnTo>
                    <a:lnTo>
                      <a:pt x="2007" y="721"/>
                    </a:lnTo>
                    <a:lnTo>
                      <a:pt x="1973" y="722"/>
                    </a:lnTo>
                    <a:lnTo>
                      <a:pt x="1934" y="719"/>
                    </a:lnTo>
                    <a:lnTo>
                      <a:pt x="1900" y="711"/>
                    </a:lnTo>
                    <a:lnTo>
                      <a:pt x="1868" y="703"/>
                    </a:lnTo>
                    <a:lnTo>
                      <a:pt x="1848" y="687"/>
                    </a:lnTo>
                    <a:lnTo>
                      <a:pt x="1814" y="642"/>
                    </a:lnTo>
                    <a:lnTo>
                      <a:pt x="1780" y="589"/>
                    </a:lnTo>
                    <a:lnTo>
                      <a:pt x="1753" y="538"/>
                    </a:lnTo>
                    <a:lnTo>
                      <a:pt x="1738" y="495"/>
                    </a:lnTo>
                    <a:lnTo>
                      <a:pt x="1736" y="490"/>
                    </a:lnTo>
                    <a:lnTo>
                      <a:pt x="1733" y="482"/>
                    </a:lnTo>
                    <a:lnTo>
                      <a:pt x="1725" y="477"/>
                    </a:lnTo>
                    <a:lnTo>
                      <a:pt x="1715" y="472"/>
                    </a:lnTo>
                    <a:lnTo>
                      <a:pt x="1700" y="463"/>
                    </a:lnTo>
                    <a:lnTo>
                      <a:pt x="1678" y="451"/>
                    </a:lnTo>
                    <a:lnTo>
                      <a:pt x="1647" y="436"/>
                    </a:lnTo>
                    <a:lnTo>
                      <a:pt x="1609" y="418"/>
                    </a:lnTo>
                    <a:lnTo>
                      <a:pt x="1596" y="391"/>
                    </a:lnTo>
                    <a:lnTo>
                      <a:pt x="1585" y="344"/>
                    </a:lnTo>
                    <a:lnTo>
                      <a:pt x="1574" y="299"/>
                    </a:lnTo>
                    <a:lnTo>
                      <a:pt x="1557" y="276"/>
                    </a:lnTo>
                    <a:lnTo>
                      <a:pt x="1526" y="276"/>
                    </a:lnTo>
                    <a:lnTo>
                      <a:pt x="1485" y="277"/>
                    </a:lnTo>
                    <a:lnTo>
                      <a:pt x="1438" y="274"/>
                    </a:lnTo>
                    <a:lnTo>
                      <a:pt x="1392" y="273"/>
                    </a:lnTo>
                    <a:lnTo>
                      <a:pt x="1350" y="275"/>
                    </a:lnTo>
                    <a:lnTo>
                      <a:pt x="1315" y="273"/>
                    </a:lnTo>
                    <a:lnTo>
                      <a:pt x="1292" y="273"/>
                    </a:lnTo>
                    <a:lnTo>
                      <a:pt x="1282" y="271"/>
                    </a:lnTo>
                    <a:lnTo>
                      <a:pt x="1277" y="350"/>
                    </a:lnTo>
                    <a:lnTo>
                      <a:pt x="930" y="328"/>
                    </a:lnTo>
                    <a:lnTo>
                      <a:pt x="424" y="61"/>
                    </a:lnTo>
                    <a:lnTo>
                      <a:pt x="364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3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78040" y="1371600"/>
                <a:ext cx="7359480" cy="5062680"/>
              </a:xfrm>
              <a:custGeom>
                <a:avLst/>
                <a:gdLst/>
                <a:ahLst/>
                <a:rect l="l" t="t" r="r" b="b"/>
                <a:pathLst>
                  <a:path w="4534" h="3034">
                    <a:moveTo>
                      <a:pt x="0" y="20"/>
                    </a:moveTo>
                    <a:lnTo>
                      <a:pt x="4" y="38"/>
                    </a:lnTo>
                    <a:lnTo>
                      <a:pt x="7" y="63"/>
                    </a:lnTo>
                    <a:lnTo>
                      <a:pt x="11" y="88"/>
                    </a:lnTo>
                    <a:lnTo>
                      <a:pt x="12" y="99"/>
                    </a:lnTo>
                    <a:lnTo>
                      <a:pt x="118" y="436"/>
                    </a:lnTo>
                    <a:lnTo>
                      <a:pt x="161" y="507"/>
                    </a:lnTo>
                    <a:lnTo>
                      <a:pt x="133" y="557"/>
                    </a:lnTo>
                    <a:lnTo>
                      <a:pt x="141" y="563"/>
                    </a:lnTo>
                    <a:lnTo>
                      <a:pt x="167" y="585"/>
                    </a:lnTo>
                    <a:lnTo>
                      <a:pt x="200" y="613"/>
                    </a:lnTo>
                    <a:lnTo>
                      <a:pt x="236" y="649"/>
                    </a:lnTo>
                    <a:lnTo>
                      <a:pt x="276" y="686"/>
                    </a:lnTo>
                    <a:lnTo>
                      <a:pt x="312" y="730"/>
                    </a:lnTo>
                    <a:lnTo>
                      <a:pt x="340" y="769"/>
                    </a:lnTo>
                    <a:lnTo>
                      <a:pt x="353" y="804"/>
                    </a:lnTo>
                    <a:lnTo>
                      <a:pt x="363" y="861"/>
                    </a:lnTo>
                    <a:lnTo>
                      <a:pt x="366" y="894"/>
                    </a:lnTo>
                    <a:lnTo>
                      <a:pt x="359" y="914"/>
                    </a:lnTo>
                    <a:lnTo>
                      <a:pt x="337" y="925"/>
                    </a:lnTo>
                    <a:lnTo>
                      <a:pt x="320" y="925"/>
                    </a:lnTo>
                    <a:lnTo>
                      <a:pt x="306" y="919"/>
                    </a:lnTo>
                    <a:lnTo>
                      <a:pt x="290" y="914"/>
                    </a:lnTo>
                    <a:lnTo>
                      <a:pt x="277" y="901"/>
                    </a:lnTo>
                    <a:lnTo>
                      <a:pt x="259" y="893"/>
                    </a:lnTo>
                    <a:lnTo>
                      <a:pt x="248" y="886"/>
                    </a:lnTo>
                    <a:lnTo>
                      <a:pt x="233" y="885"/>
                    </a:lnTo>
                    <a:lnTo>
                      <a:pt x="222" y="893"/>
                    </a:lnTo>
                    <a:lnTo>
                      <a:pt x="218" y="914"/>
                    </a:lnTo>
                    <a:lnTo>
                      <a:pt x="236" y="931"/>
                    </a:lnTo>
                    <a:lnTo>
                      <a:pt x="258" y="945"/>
                    </a:lnTo>
                    <a:lnTo>
                      <a:pt x="269" y="959"/>
                    </a:lnTo>
                    <a:lnTo>
                      <a:pt x="275" y="982"/>
                    </a:lnTo>
                    <a:lnTo>
                      <a:pt x="283" y="1020"/>
                    </a:lnTo>
                    <a:lnTo>
                      <a:pt x="291" y="1051"/>
                    </a:lnTo>
                    <a:lnTo>
                      <a:pt x="297" y="1066"/>
                    </a:lnTo>
                    <a:lnTo>
                      <a:pt x="598" y="1260"/>
                    </a:lnTo>
                    <a:lnTo>
                      <a:pt x="624" y="1498"/>
                    </a:lnTo>
                    <a:lnTo>
                      <a:pt x="634" y="1509"/>
                    </a:lnTo>
                    <a:lnTo>
                      <a:pt x="665" y="1529"/>
                    </a:lnTo>
                    <a:lnTo>
                      <a:pt x="708" y="1568"/>
                    </a:lnTo>
                    <a:lnTo>
                      <a:pt x="756" y="1605"/>
                    </a:lnTo>
                    <a:lnTo>
                      <a:pt x="806" y="1650"/>
                    </a:lnTo>
                    <a:lnTo>
                      <a:pt x="853" y="1690"/>
                    </a:lnTo>
                    <a:lnTo>
                      <a:pt x="887" y="1721"/>
                    </a:lnTo>
                    <a:lnTo>
                      <a:pt x="906" y="1742"/>
                    </a:lnTo>
                    <a:lnTo>
                      <a:pt x="923" y="1771"/>
                    </a:lnTo>
                    <a:lnTo>
                      <a:pt x="928" y="1801"/>
                    </a:lnTo>
                    <a:lnTo>
                      <a:pt x="932" y="1819"/>
                    </a:lnTo>
                    <a:lnTo>
                      <a:pt x="933" y="1830"/>
                    </a:lnTo>
                    <a:lnTo>
                      <a:pt x="1054" y="1823"/>
                    </a:lnTo>
                    <a:lnTo>
                      <a:pt x="1052" y="1810"/>
                    </a:lnTo>
                    <a:lnTo>
                      <a:pt x="1042" y="1773"/>
                    </a:lnTo>
                    <a:lnTo>
                      <a:pt x="1030" y="1734"/>
                    </a:lnTo>
                    <a:lnTo>
                      <a:pt x="1019" y="1704"/>
                    </a:lnTo>
                    <a:lnTo>
                      <a:pt x="994" y="1682"/>
                    </a:lnTo>
                    <a:lnTo>
                      <a:pt x="955" y="1647"/>
                    </a:lnTo>
                    <a:lnTo>
                      <a:pt x="918" y="1617"/>
                    </a:lnTo>
                    <a:lnTo>
                      <a:pt x="904" y="1602"/>
                    </a:lnTo>
                    <a:lnTo>
                      <a:pt x="900" y="1607"/>
                    </a:lnTo>
                    <a:lnTo>
                      <a:pt x="892" y="1616"/>
                    </a:lnTo>
                    <a:lnTo>
                      <a:pt x="883" y="1622"/>
                    </a:lnTo>
                    <a:lnTo>
                      <a:pt x="872" y="1617"/>
                    </a:lnTo>
                    <a:lnTo>
                      <a:pt x="866" y="1599"/>
                    </a:lnTo>
                    <a:lnTo>
                      <a:pt x="861" y="1578"/>
                    </a:lnTo>
                    <a:lnTo>
                      <a:pt x="857" y="1559"/>
                    </a:lnTo>
                    <a:lnTo>
                      <a:pt x="855" y="1554"/>
                    </a:lnTo>
                    <a:lnTo>
                      <a:pt x="719" y="1262"/>
                    </a:lnTo>
                    <a:lnTo>
                      <a:pt x="682" y="1270"/>
                    </a:lnTo>
                    <a:lnTo>
                      <a:pt x="671" y="1240"/>
                    </a:lnTo>
                    <a:lnTo>
                      <a:pt x="684" y="1212"/>
                    </a:lnTo>
                    <a:lnTo>
                      <a:pt x="490" y="823"/>
                    </a:lnTo>
                    <a:lnTo>
                      <a:pt x="305" y="523"/>
                    </a:lnTo>
                    <a:lnTo>
                      <a:pt x="304" y="480"/>
                    </a:lnTo>
                    <a:lnTo>
                      <a:pt x="296" y="388"/>
                    </a:lnTo>
                    <a:lnTo>
                      <a:pt x="291" y="287"/>
                    </a:lnTo>
                    <a:lnTo>
                      <a:pt x="283" y="227"/>
                    </a:lnTo>
                    <a:lnTo>
                      <a:pt x="284" y="221"/>
                    </a:lnTo>
                    <a:lnTo>
                      <a:pt x="297" y="233"/>
                    </a:lnTo>
                    <a:lnTo>
                      <a:pt x="310" y="254"/>
                    </a:lnTo>
                    <a:lnTo>
                      <a:pt x="329" y="267"/>
                    </a:lnTo>
                    <a:lnTo>
                      <a:pt x="348" y="278"/>
                    </a:lnTo>
                    <a:lnTo>
                      <a:pt x="369" y="281"/>
                    </a:lnTo>
                    <a:lnTo>
                      <a:pt x="391" y="287"/>
                    </a:lnTo>
                    <a:lnTo>
                      <a:pt x="400" y="287"/>
                    </a:lnTo>
                    <a:lnTo>
                      <a:pt x="563" y="411"/>
                    </a:lnTo>
                    <a:lnTo>
                      <a:pt x="667" y="827"/>
                    </a:lnTo>
                    <a:lnTo>
                      <a:pt x="675" y="836"/>
                    </a:lnTo>
                    <a:lnTo>
                      <a:pt x="702" y="854"/>
                    </a:lnTo>
                    <a:lnTo>
                      <a:pt x="741" y="881"/>
                    </a:lnTo>
                    <a:lnTo>
                      <a:pt x="786" y="910"/>
                    </a:lnTo>
                    <a:lnTo>
                      <a:pt x="829" y="940"/>
                    </a:lnTo>
                    <a:lnTo>
                      <a:pt x="873" y="967"/>
                    </a:lnTo>
                    <a:lnTo>
                      <a:pt x="905" y="990"/>
                    </a:lnTo>
                    <a:lnTo>
                      <a:pt x="924" y="997"/>
                    </a:lnTo>
                    <a:lnTo>
                      <a:pt x="935" y="1011"/>
                    </a:lnTo>
                    <a:lnTo>
                      <a:pt x="937" y="1030"/>
                    </a:lnTo>
                    <a:lnTo>
                      <a:pt x="930" y="1053"/>
                    </a:lnTo>
                    <a:lnTo>
                      <a:pt x="927" y="1060"/>
                    </a:lnTo>
                    <a:lnTo>
                      <a:pt x="993" y="1162"/>
                    </a:lnTo>
                    <a:lnTo>
                      <a:pt x="1005" y="1163"/>
                    </a:lnTo>
                    <a:lnTo>
                      <a:pt x="1032" y="1173"/>
                    </a:lnTo>
                    <a:lnTo>
                      <a:pt x="1059" y="1192"/>
                    </a:lnTo>
                    <a:lnTo>
                      <a:pt x="1072" y="1219"/>
                    </a:lnTo>
                    <a:lnTo>
                      <a:pt x="1075" y="1258"/>
                    </a:lnTo>
                    <a:lnTo>
                      <a:pt x="1078" y="1300"/>
                    </a:lnTo>
                    <a:lnTo>
                      <a:pt x="1079" y="1340"/>
                    </a:lnTo>
                    <a:lnTo>
                      <a:pt x="1081" y="1362"/>
                    </a:lnTo>
                    <a:lnTo>
                      <a:pt x="1100" y="1384"/>
                    </a:lnTo>
                    <a:lnTo>
                      <a:pt x="1154" y="1436"/>
                    </a:lnTo>
                    <a:lnTo>
                      <a:pt x="1230" y="1509"/>
                    </a:lnTo>
                    <a:lnTo>
                      <a:pt x="1319" y="1588"/>
                    </a:lnTo>
                    <a:lnTo>
                      <a:pt x="1403" y="1667"/>
                    </a:lnTo>
                    <a:lnTo>
                      <a:pt x="1483" y="1738"/>
                    </a:lnTo>
                    <a:lnTo>
                      <a:pt x="1535" y="1785"/>
                    </a:lnTo>
                    <a:lnTo>
                      <a:pt x="1556" y="1803"/>
                    </a:lnTo>
                    <a:lnTo>
                      <a:pt x="1706" y="2151"/>
                    </a:lnTo>
                    <a:lnTo>
                      <a:pt x="1649" y="2356"/>
                    </a:lnTo>
                    <a:lnTo>
                      <a:pt x="1657" y="2361"/>
                    </a:lnTo>
                    <a:lnTo>
                      <a:pt x="1685" y="2377"/>
                    </a:lnTo>
                    <a:lnTo>
                      <a:pt x="1726" y="2402"/>
                    </a:lnTo>
                    <a:lnTo>
                      <a:pt x="1771" y="2431"/>
                    </a:lnTo>
                    <a:lnTo>
                      <a:pt x="1818" y="2457"/>
                    </a:lnTo>
                    <a:lnTo>
                      <a:pt x="1864" y="2481"/>
                    </a:lnTo>
                    <a:lnTo>
                      <a:pt x="1902" y="2498"/>
                    </a:lnTo>
                    <a:lnTo>
                      <a:pt x="1926" y="2501"/>
                    </a:lnTo>
                    <a:lnTo>
                      <a:pt x="1960" y="2506"/>
                    </a:lnTo>
                    <a:lnTo>
                      <a:pt x="1990" y="2527"/>
                    </a:lnTo>
                    <a:lnTo>
                      <a:pt x="2017" y="2551"/>
                    </a:lnTo>
                    <a:lnTo>
                      <a:pt x="2024" y="2563"/>
                    </a:lnTo>
                    <a:lnTo>
                      <a:pt x="2034" y="2568"/>
                    </a:lnTo>
                    <a:lnTo>
                      <a:pt x="2065" y="2582"/>
                    </a:lnTo>
                    <a:lnTo>
                      <a:pt x="2111" y="2606"/>
                    </a:lnTo>
                    <a:lnTo>
                      <a:pt x="2163" y="2630"/>
                    </a:lnTo>
                    <a:lnTo>
                      <a:pt x="2221" y="2655"/>
                    </a:lnTo>
                    <a:lnTo>
                      <a:pt x="2273" y="2679"/>
                    </a:lnTo>
                    <a:lnTo>
                      <a:pt x="2320" y="2696"/>
                    </a:lnTo>
                    <a:lnTo>
                      <a:pt x="2350" y="2700"/>
                    </a:lnTo>
                    <a:lnTo>
                      <a:pt x="2384" y="2707"/>
                    </a:lnTo>
                    <a:lnTo>
                      <a:pt x="2401" y="2721"/>
                    </a:lnTo>
                    <a:lnTo>
                      <a:pt x="2411" y="2732"/>
                    </a:lnTo>
                    <a:lnTo>
                      <a:pt x="2412" y="2737"/>
                    </a:lnTo>
                    <a:lnTo>
                      <a:pt x="2419" y="2740"/>
                    </a:lnTo>
                    <a:lnTo>
                      <a:pt x="2439" y="2747"/>
                    </a:lnTo>
                    <a:lnTo>
                      <a:pt x="2467" y="2760"/>
                    </a:lnTo>
                    <a:lnTo>
                      <a:pt x="2505" y="2778"/>
                    </a:lnTo>
                    <a:lnTo>
                      <a:pt x="2552" y="2795"/>
                    </a:lnTo>
                    <a:lnTo>
                      <a:pt x="2605" y="2816"/>
                    </a:lnTo>
                    <a:lnTo>
                      <a:pt x="2662" y="2838"/>
                    </a:lnTo>
                    <a:lnTo>
                      <a:pt x="2724" y="2858"/>
                    </a:lnTo>
                    <a:lnTo>
                      <a:pt x="2786" y="2879"/>
                    </a:lnTo>
                    <a:lnTo>
                      <a:pt x="2849" y="2899"/>
                    </a:lnTo>
                    <a:lnTo>
                      <a:pt x="2909" y="2914"/>
                    </a:lnTo>
                    <a:lnTo>
                      <a:pt x="2966" y="2928"/>
                    </a:lnTo>
                    <a:lnTo>
                      <a:pt x="3019" y="2940"/>
                    </a:lnTo>
                    <a:lnTo>
                      <a:pt x="3067" y="2946"/>
                    </a:lnTo>
                    <a:lnTo>
                      <a:pt x="3104" y="2944"/>
                    </a:lnTo>
                    <a:lnTo>
                      <a:pt x="3132" y="2936"/>
                    </a:lnTo>
                    <a:lnTo>
                      <a:pt x="3185" y="2914"/>
                    </a:lnTo>
                    <a:lnTo>
                      <a:pt x="3240" y="2891"/>
                    </a:lnTo>
                    <a:lnTo>
                      <a:pt x="3295" y="2868"/>
                    </a:lnTo>
                    <a:lnTo>
                      <a:pt x="3349" y="2845"/>
                    </a:lnTo>
                    <a:lnTo>
                      <a:pt x="3398" y="2828"/>
                    </a:lnTo>
                    <a:lnTo>
                      <a:pt x="3441" y="2812"/>
                    </a:lnTo>
                    <a:lnTo>
                      <a:pt x="3480" y="2800"/>
                    </a:lnTo>
                    <a:lnTo>
                      <a:pt x="3510" y="2795"/>
                    </a:lnTo>
                    <a:lnTo>
                      <a:pt x="3540" y="2799"/>
                    </a:lnTo>
                    <a:lnTo>
                      <a:pt x="3584" y="2802"/>
                    </a:lnTo>
                    <a:lnTo>
                      <a:pt x="3636" y="2809"/>
                    </a:lnTo>
                    <a:lnTo>
                      <a:pt x="3696" y="2825"/>
                    </a:lnTo>
                    <a:lnTo>
                      <a:pt x="3754" y="2849"/>
                    </a:lnTo>
                    <a:lnTo>
                      <a:pt x="3811" y="2880"/>
                    </a:lnTo>
                    <a:lnTo>
                      <a:pt x="3868" y="2926"/>
                    </a:lnTo>
                    <a:lnTo>
                      <a:pt x="3916" y="2986"/>
                    </a:lnTo>
                    <a:lnTo>
                      <a:pt x="3959" y="3033"/>
                    </a:lnTo>
                    <a:lnTo>
                      <a:pt x="3947" y="2960"/>
                    </a:lnTo>
                    <a:lnTo>
                      <a:pt x="3914" y="2854"/>
                    </a:lnTo>
                    <a:lnTo>
                      <a:pt x="3908" y="2793"/>
                    </a:lnTo>
                    <a:lnTo>
                      <a:pt x="3923" y="2776"/>
                    </a:lnTo>
                    <a:lnTo>
                      <a:pt x="3923" y="2753"/>
                    </a:lnTo>
                    <a:lnTo>
                      <a:pt x="3919" y="2729"/>
                    </a:lnTo>
                    <a:lnTo>
                      <a:pt x="3904" y="2703"/>
                    </a:lnTo>
                    <a:lnTo>
                      <a:pt x="3906" y="2685"/>
                    </a:lnTo>
                    <a:lnTo>
                      <a:pt x="3918" y="2669"/>
                    </a:lnTo>
                    <a:lnTo>
                      <a:pt x="3938" y="2653"/>
                    </a:lnTo>
                    <a:lnTo>
                      <a:pt x="3962" y="2641"/>
                    </a:lnTo>
                    <a:lnTo>
                      <a:pt x="3992" y="2627"/>
                    </a:lnTo>
                    <a:lnTo>
                      <a:pt x="4013" y="2614"/>
                    </a:lnTo>
                    <a:lnTo>
                      <a:pt x="4030" y="2607"/>
                    </a:lnTo>
                    <a:lnTo>
                      <a:pt x="4036" y="2606"/>
                    </a:lnTo>
                    <a:lnTo>
                      <a:pt x="4032" y="2604"/>
                    </a:lnTo>
                    <a:lnTo>
                      <a:pt x="4016" y="2598"/>
                    </a:lnTo>
                    <a:lnTo>
                      <a:pt x="3997" y="2585"/>
                    </a:lnTo>
                    <a:lnTo>
                      <a:pt x="3974" y="2571"/>
                    </a:lnTo>
                    <a:lnTo>
                      <a:pt x="3951" y="2556"/>
                    </a:lnTo>
                    <a:lnTo>
                      <a:pt x="3932" y="2543"/>
                    </a:lnTo>
                    <a:lnTo>
                      <a:pt x="3918" y="2528"/>
                    </a:lnTo>
                    <a:lnTo>
                      <a:pt x="3914" y="2518"/>
                    </a:lnTo>
                    <a:lnTo>
                      <a:pt x="3920" y="2510"/>
                    </a:lnTo>
                    <a:lnTo>
                      <a:pt x="3934" y="2502"/>
                    </a:lnTo>
                    <a:lnTo>
                      <a:pt x="3950" y="2490"/>
                    </a:lnTo>
                    <a:lnTo>
                      <a:pt x="3969" y="2478"/>
                    </a:lnTo>
                    <a:lnTo>
                      <a:pt x="3988" y="2468"/>
                    </a:lnTo>
                    <a:lnTo>
                      <a:pt x="4006" y="2461"/>
                    </a:lnTo>
                    <a:lnTo>
                      <a:pt x="4018" y="2454"/>
                    </a:lnTo>
                    <a:lnTo>
                      <a:pt x="4023" y="2452"/>
                    </a:lnTo>
                    <a:lnTo>
                      <a:pt x="4044" y="2353"/>
                    </a:lnTo>
                    <a:lnTo>
                      <a:pt x="4283" y="2259"/>
                    </a:lnTo>
                    <a:lnTo>
                      <a:pt x="4369" y="2133"/>
                    </a:lnTo>
                    <a:lnTo>
                      <a:pt x="4375" y="2142"/>
                    </a:lnTo>
                    <a:lnTo>
                      <a:pt x="4392" y="2165"/>
                    </a:lnTo>
                    <a:lnTo>
                      <a:pt x="4406" y="2194"/>
                    </a:lnTo>
                    <a:lnTo>
                      <a:pt x="4419" y="2224"/>
                    </a:lnTo>
                    <a:lnTo>
                      <a:pt x="4427" y="2236"/>
                    </a:lnTo>
                    <a:lnTo>
                      <a:pt x="4438" y="2234"/>
                    </a:lnTo>
                    <a:lnTo>
                      <a:pt x="4450" y="2230"/>
                    </a:lnTo>
                    <a:lnTo>
                      <a:pt x="4464" y="2219"/>
                    </a:lnTo>
                    <a:lnTo>
                      <a:pt x="4478" y="2202"/>
                    </a:lnTo>
                    <a:lnTo>
                      <a:pt x="4487" y="2188"/>
                    </a:lnTo>
                    <a:lnTo>
                      <a:pt x="4493" y="2174"/>
                    </a:lnTo>
                    <a:lnTo>
                      <a:pt x="4498" y="2163"/>
                    </a:lnTo>
                    <a:lnTo>
                      <a:pt x="4486" y="2131"/>
                    </a:lnTo>
                    <a:lnTo>
                      <a:pt x="4461" y="2085"/>
                    </a:lnTo>
                    <a:lnTo>
                      <a:pt x="4437" y="2036"/>
                    </a:lnTo>
                    <a:lnTo>
                      <a:pt x="4433" y="2009"/>
                    </a:lnTo>
                    <a:lnTo>
                      <a:pt x="4439" y="1995"/>
                    </a:lnTo>
                    <a:lnTo>
                      <a:pt x="4452" y="1974"/>
                    </a:lnTo>
                    <a:lnTo>
                      <a:pt x="4464" y="1946"/>
                    </a:lnTo>
                    <a:lnTo>
                      <a:pt x="4481" y="1914"/>
                    </a:lnTo>
                    <a:lnTo>
                      <a:pt x="4496" y="1883"/>
                    </a:lnTo>
                    <a:lnTo>
                      <a:pt x="4511" y="1854"/>
                    </a:lnTo>
                    <a:lnTo>
                      <a:pt x="4523" y="1830"/>
                    </a:lnTo>
                    <a:lnTo>
                      <a:pt x="4531" y="1813"/>
                    </a:lnTo>
                    <a:lnTo>
                      <a:pt x="4533" y="1780"/>
                    </a:lnTo>
                    <a:lnTo>
                      <a:pt x="4523" y="1738"/>
                    </a:lnTo>
                    <a:lnTo>
                      <a:pt x="4513" y="1701"/>
                    </a:lnTo>
                    <a:lnTo>
                      <a:pt x="4506" y="1683"/>
                    </a:lnTo>
                    <a:lnTo>
                      <a:pt x="4501" y="1685"/>
                    </a:lnTo>
                    <a:lnTo>
                      <a:pt x="4484" y="1692"/>
                    </a:lnTo>
                    <a:lnTo>
                      <a:pt x="4455" y="1699"/>
                    </a:lnTo>
                    <a:lnTo>
                      <a:pt x="4426" y="1707"/>
                    </a:lnTo>
                    <a:lnTo>
                      <a:pt x="4393" y="1711"/>
                    </a:lnTo>
                    <a:lnTo>
                      <a:pt x="4363" y="1716"/>
                    </a:lnTo>
                    <a:lnTo>
                      <a:pt x="4335" y="1718"/>
                    </a:lnTo>
                    <a:lnTo>
                      <a:pt x="4316" y="1713"/>
                    </a:lnTo>
                    <a:lnTo>
                      <a:pt x="4300" y="1710"/>
                    </a:lnTo>
                    <a:lnTo>
                      <a:pt x="4284" y="1713"/>
                    </a:lnTo>
                    <a:lnTo>
                      <a:pt x="4272" y="1718"/>
                    </a:lnTo>
                    <a:lnTo>
                      <a:pt x="4257" y="1726"/>
                    </a:lnTo>
                    <a:lnTo>
                      <a:pt x="4246" y="1735"/>
                    </a:lnTo>
                    <a:lnTo>
                      <a:pt x="4238" y="1744"/>
                    </a:lnTo>
                    <a:lnTo>
                      <a:pt x="4228" y="1757"/>
                    </a:lnTo>
                    <a:lnTo>
                      <a:pt x="4225" y="1763"/>
                    </a:lnTo>
                    <a:lnTo>
                      <a:pt x="4213" y="1771"/>
                    </a:lnTo>
                    <a:lnTo>
                      <a:pt x="4194" y="1781"/>
                    </a:lnTo>
                    <a:lnTo>
                      <a:pt x="4167" y="1793"/>
                    </a:lnTo>
                    <a:lnTo>
                      <a:pt x="4134" y="1805"/>
                    </a:lnTo>
                    <a:lnTo>
                      <a:pt x="4104" y="1825"/>
                    </a:lnTo>
                    <a:lnTo>
                      <a:pt x="4074" y="1839"/>
                    </a:lnTo>
                    <a:lnTo>
                      <a:pt x="4048" y="1854"/>
                    </a:lnTo>
                    <a:lnTo>
                      <a:pt x="4030" y="1866"/>
                    </a:lnTo>
                    <a:lnTo>
                      <a:pt x="4020" y="1919"/>
                    </a:lnTo>
                    <a:lnTo>
                      <a:pt x="4018" y="2000"/>
                    </a:lnTo>
                    <a:lnTo>
                      <a:pt x="4029" y="2077"/>
                    </a:lnTo>
                    <a:lnTo>
                      <a:pt x="4030" y="2111"/>
                    </a:lnTo>
                    <a:lnTo>
                      <a:pt x="3912" y="2252"/>
                    </a:lnTo>
                    <a:lnTo>
                      <a:pt x="3925" y="2310"/>
                    </a:lnTo>
                    <a:lnTo>
                      <a:pt x="3850" y="2343"/>
                    </a:lnTo>
                    <a:lnTo>
                      <a:pt x="3839" y="2313"/>
                    </a:lnTo>
                    <a:lnTo>
                      <a:pt x="3824" y="2318"/>
                    </a:lnTo>
                    <a:lnTo>
                      <a:pt x="3784" y="2336"/>
                    </a:lnTo>
                    <a:lnTo>
                      <a:pt x="3727" y="2359"/>
                    </a:lnTo>
                    <a:lnTo>
                      <a:pt x="3662" y="2386"/>
                    </a:lnTo>
                    <a:lnTo>
                      <a:pt x="3592" y="2415"/>
                    </a:lnTo>
                    <a:lnTo>
                      <a:pt x="3528" y="2438"/>
                    </a:lnTo>
                    <a:lnTo>
                      <a:pt x="3474" y="2455"/>
                    </a:lnTo>
                    <a:lnTo>
                      <a:pt x="3441" y="2458"/>
                    </a:lnTo>
                    <a:lnTo>
                      <a:pt x="3417" y="2447"/>
                    </a:lnTo>
                    <a:lnTo>
                      <a:pt x="3412" y="2434"/>
                    </a:lnTo>
                    <a:lnTo>
                      <a:pt x="3422" y="2422"/>
                    </a:lnTo>
                    <a:lnTo>
                      <a:pt x="3425" y="2415"/>
                    </a:lnTo>
                    <a:lnTo>
                      <a:pt x="3423" y="2416"/>
                    </a:lnTo>
                    <a:lnTo>
                      <a:pt x="3406" y="2419"/>
                    </a:lnTo>
                    <a:lnTo>
                      <a:pt x="3389" y="2420"/>
                    </a:lnTo>
                    <a:lnTo>
                      <a:pt x="3359" y="2416"/>
                    </a:lnTo>
                    <a:lnTo>
                      <a:pt x="3324" y="2406"/>
                    </a:lnTo>
                    <a:lnTo>
                      <a:pt x="3283" y="2390"/>
                    </a:lnTo>
                    <a:lnTo>
                      <a:pt x="3237" y="2358"/>
                    </a:lnTo>
                    <a:lnTo>
                      <a:pt x="3182" y="2309"/>
                    </a:lnTo>
                    <a:lnTo>
                      <a:pt x="3126" y="2258"/>
                    </a:lnTo>
                    <a:lnTo>
                      <a:pt x="3079" y="2209"/>
                    </a:lnTo>
                    <a:lnTo>
                      <a:pt x="3038" y="2160"/>
                    </a:lnTo>
                    <a:lnTo>
                      <a:pt x="3000" y="2111"/>
                    </a:lnTo>
                    <a:lnTo>
                      <a:pt x="2967" y="2066"/>
                    </a:lnTo>
                    <a:lnTo>
                      <a:pt x="2939" y="2015"/>
                    </a:lnTo>
                    <a:lnTo>
                      <a:pt x="2917" y="1961"/>
                    </a:lnTo>
                    <a:lnTo>
                      <a:pt x="2896" y="1905"/>
                    </a:lnTo>
                    <a:lnTo>
                      <a:pt x="2881" y="1841"/>
                    </a:lnTo>
                    <a:lnTo>
                      <a:pt x="2871" y="1765"/>
                    </a:lnTo>
                    <a:lnTo>
                      <a:pt x="2864" y="1684"/>
                    </a:lnTo>
                    <a:lnTo>
                      <a:pt x="2861" y="1605"/>
                    </a:lnTo>
                    <a:lnTo>
                      <a:pt x="2861" y="1527"/>
                    </a:lnTo>
                    <a:lnTo>
                      <a:pt x="2865" y="1459"/>
                    </a:lnTo>
                    <a:lnTo>
                      <a:pt x="2872" y="1408"/>
                    </a:lnTo>
                    <a:lnTo>
                      <a:pt x="2881" y="1376"/>
                    </a:lnTo>
                    <a:lnTo>
                      <a:pt x="2895" y="1351"/>
                    </a:lnTo>
                    <a:lnTo>
                      <a:pt x="2901" y="1343"/>
                    </a:lnTo>
                    <a:lnTo>
                      <a:pt x="2903" y="1351"/>
                    </a:lnTo>
                    <a:lnTo>
                      <a:pt x="2903" y="1357"/>
                    </a:lnTo>
                    <a:lnTo>
                      <a:pt x="2910" y="1345"/>
                    </a:lnTo>
                    <a:lnTo>
                      <a:pt x="2921" y="1313"/>
                    </a:lnTo>
                    <a:lnTo>
                      <a:pt x="2929" y="1278"/>
                    </a:lnTo>
                    <a:lnTo>
                      <a:pt x="2926" y="1239"/>
                    </a:lnTo>
                    <a:lnTo>
                      <a:pt x="2915" y="1217"/>
                    </a:lnTo>
                    <a:lnTo>
                      <a:pt x="2900" y="1217"/>
                    </a:lnTo>
                    <a:lnTo>
                      <a:pt x="2878" y="1219"/>
                    </a:lnTo>
                    <a:lnTo>
                      <a:pt x="2846" y="1217"/>
                    </a:lnTo>
                    <a:lnTo>
                      <a:pt x="2822" y="1208"/>
                    </a:lnTo>
                    <a:lnTo>
                      <a:pt x="2792" y="1196"/>
                    </a:lnTo>
                    <a:lnTo>
                      <a:pt x="2761" y="1182"/>
                    </a:lnTo>
                    <a:lnTo>
                      <a:pt x="2723" y="1164"/>
                    </a:lnTo>
                    <a:lnTo>
                      <a:pt x="2689" y="1150"/>
                    </a:lnTo>
                    <a:lnTo>
                      <a:pt x="2658" y="1136"/>
                    </a:lnTo>
                    <a:lnTo>
                      <a:pt x="2633" y="1122"/>
                    </a:lnTo>
                    <a:lnTo>
                      <a:pt x="2612" y="1113"/>
                    </a:lnTo>
                    <a:lnTo>
                      <a:pt x="2580" y="1081"/>
                    </a:lnTo>
                    <a:lnTo>
                      <a:pt x="2551" y="1026"/>
                    </a:lnTo>
                    <a:lnTo>
                      <a:pt x="2526" y="972"/>
                    </a:lnTo>
                    <a:lnTo>
                      <a:pt x="2519" y="937"/>
                    </a:lnTo>
                    <a:lnTo>
                      <a:pt x="2509" y="926"/>
                    </a:lnTo>
                    <a:lnTo>
                      <a:pt x="2481" y="913"/>
                    </a:lnTo>
                    <a:lnTo>
                      <a:pt x="2448" y="894"/>
                    </a:lnTo>
                    <a:lnTo>
                      <a:pt x="2418" y="865"/>
                    </a:lnTo>
                    <a:lnTo>
                      <a:pt x="2394" y="824"/>
                    </a:lnTo>
                    <a:lnTo>
                      <a:pt x="2367" y="774"/>
                    </a:lnTo>
                    <a:lnTo>
                      <a:pt x="2342" y="729"/>
                    </a:lnTo>
                    <a:lnTo>
                      <a:pt x="2309" y="686"/>
                    </a:lnTo>
                    <a:lnTo>
                      <a:pt x="2292" y="670"/>
                    </a:lnTo>
                    <a:lnTo>
                      <a:pt x="2268" y="652"/>
                    </a:lnTo>
                    <a:lnTo>
                      <a:pt x="2240" y="639"/>
                    </a:lnTo>
                    <a:lnTo>
                      <a:pt x="2216" y="628"/>
                    </a:lnTo>
                    <a:lnTo>
                      <a:pt x="2192" y="617"/>
                    </a:lnTo>
                    <a:lnTo>
                      <a:pt x="2173" y="612"/>
                    </a:lnTo>
                    <a:lnTo>
                      <a:pt x="2159" y="606"/>
                    </a:lnTo>
                    <a:lnTo>
                      <a:pt x="2153" y="605"/>
                    </a:lnTo>
                    <a:lnTo>
                      <a:pt x="2066" y="643"/>
                    </a:lnTo>
                    <a:lnTo>
                      <a:pt x="2062" y="719"/>
                    </a:lnTo>
                    <a:lnTo>
                      <a:pt x="2055" y="716"/>
                    </a:lnTo>
                    <a:lnTo>
                      <a:pt x="2034" y="721"/>
                    </a:lnTo>
                    <a:lnTo>
                      <a:pt x="2009" y="721"/>
                    </a:lnTo>
                    <a:lnTo>
                      <a:pt x="1971" y="721"/>
                    </a:lnTo>
                    <a:lnTo>
                      <a:pt x="1936" y="719"/>
                    </a:lnTo>
                    <a:lnTo>
                      <a:pt x="1900" y="715"/>
                    </a:lnTo>
                    <a:lnTo>
                      <a:pt x="1872" y="702"/>
                    </a:lnTo>
                    <a:lnTo>
                      <a:pt x="1850" y="688"/>
                    </a:lnTo>
                    <a:lnTo>
                      <a:pt x="1816" y="643"/>
                    </a:lnTo>
                    <a:lnTo>
                      <a:pt x="1784" y="588"/>
                    </a:lnTo>
                    <a:lnTo>
                      <a:pt x="1754" y="536"/>
                    </a:lnTo>
                    <a:lnTo>
                      <a:pt x="1740" y="498"/>
                    </a:lnTo>
                    <a:lnTo>
                      <a:pt x="1738" y="493"/>
                    </a:lnTo>
                    <a:lnTo>
                      <a:pt x="1734" y="483"/>
                    </a:lnTo>
                    <a:lnTo>
                      <a:pt x="1727" y="480"/>
                    </a:lnTo>
                    <a:lnTo>
                      <a:pt x="1720" y="474"/>
                    </a:lnTo>
                    <a:lnTo>
                      <a:pt x="1702" y="466"/>
                    </a:lnTo>
                    <a:lnTo>
                      <a:pt x="1680" y="454"/>
                    </a:lnTo>
                    <a:lnTo>
                      <a:pt x="1649" y="439"/>
                    </a:lnTo>
                    <a:lnTo>
                      <a:pt x="1613" y="418"/>
                    </a:lnTo>
                    <a:lnTo>
                      <a:pt x="1601" y="394"/>
                    </a:lnTo>
                    <a:lnTo>
                      <a:pt x="1587" y="347"/>
                    </a:lnTo>
                    <a:lnTo>
                      <a:pt x="1575" y="300"/>
                    </a:lnTo>
                    <a:lnTo>
                      <a:pt x="1562" y="279"/>
                    </a:lnTo>
                    <a:lnTo>
                      <a:pt x="1527" y="277"/>
                    </a:lnTo>
                    <a:lnTo>
                      <a:pt x="1488" y="280"/>
                    </a:lnTo>
                    <a:lnTo>
                      <a:pt x="1440" y="277"/>
                    </a:lnTo>
                    <a:lnTo>
                      <a:pt x="1394" y="277"/>
                    </a:lnTo>
                    <a:lnTo>
                      <a:pt x="1351" y="275"/>
                    </a:lnTo>
                    <a:lnTo>
                      <a:pt x="1319" y="276"/>
                    </a:lnTo>
                    <a:lnTo>
                      <a:pt x="1295" y="273"/>
                    </a:lnTo>
                    <a:lnTo>
                      <a:pt x="1284" y="274"/>
                    </a:lnTo>
                    <a:lnTo>
                      <a:pt x="1279" y="354"/>
                    </a:lnTo>
                    <a:lnTo>
                      <a:pt x="930" y="329"/>
                    </a:lnTo>
                    <a:lnTo>
                      <a:pt x="428" y="64"/>
                    </a:lnTo>
                    <a:lnTo>
                      <a:pt x="367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80" name=""/>
            <p:cNvSpPr/>
            <p:nvPr/>
          </p:nvSpPr>
          <p:spPr>
            <a:xfrm>
              <a:off x="1242720" y="1611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80960" y="1685880"/>
              <a:ext cx="60516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368360" y="196200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243080" y="2214720"/>
              <a:ext cx="64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06440" y="2241720"/>
              <a:ext cx="5302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06440" y="2254320"/>
              <a:ext cx="5032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06440" y="2265480"/>
              <a:ext cx="1875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727520" y="3335400"/>
              <a:ext cx="34920" cy="331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1"/>
                  </a:moveTo>
                  <a:lnTo>
                    <a:pt x="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6" y="9"/>
                  </a:lnTo>
                  <a:lnTo>
                    <a:pt x="10" y="6"/>
                  </a:lnTo>
                  <a:lnTo>
                    <a:pt x="10" y="12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0" y="15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762440" y="3335400"/>
              <a:ext cx="368280" cy="61920"/>
            </a:xfrm>
            <a:custGeom>
              <a:avLst/>
              <a:gdLst/>
              <a:ahLst/>
              <a:rect l="l" t="t" r="r" b="b"/>
              <a:pathLst>
                <a:path w="293" h="45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3" y="12"/>
                  </a:lnTo>
                  <a:lnTo>
                    <a:pt x="28" y="12"/>
                  </a:lnTo>
                  <a:lnTo>
                    <a:pt x="35" y="12"/>
                  </a:lnTo>
                  <a:lnTo>
                    <a:pt x="35" y="6"/>
                  </a:lnTo>
                  <a:lnTo>
                    <a:pt x="31" y="11"/>
                  </a:lnTo>
                  <a:lnTo>
                    <a:pt x="36" y="16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6" y="24"/>
                  </a:lnTo>
                  <a:lnTo>
                    <a:pt x="53" y="24"/>
                  </a:lnTo>
                  <a:lnTo>
                    <a:pt x="53" y="17"/>
                  </a:lnTo>
                  <a:lnTo>
                    <a:pt x="46" y="17"/>
                  </a:lnTo>
                  <a:lnTo>
                    <a:pt x="49" y="21"/>
                  </a:lnTo>
                  <a:lnTo>
                    <a:pt x="46" y="17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9" y="26"/>
                  </a:lnTo>
                  <a:lnTo>
                    <a:pt x="53" y="29"/>
                  </a:lnTo>
                  <a:lnTo>
                    <a:pt x="58" y="29"/>
                  </a:lnTo>
                  <a:lnTo>
                    <a:pt x="58" y="23"/>
                  </a:lnTo>
                  <a:lnTo>
                    <a:pt x="54" y="28"/>
                  </a:lnTo>
                  <a:lnTo>
                    <a:pt x="59" y="33"/>
                  </a:lnTo>
                  <a:lnTo>
                    <a:pt x="59" y="31"/>
                  </a:lnTo>
                  <a:lnTo>
                    <a:pt x="63" y="34"/>
                  </a:lnTo>
                  <a:lnTo>
                    <a:pt x="69" y="34"/>
                  </a:lnTo>
                  <a:lnTo>
                    <a:pt x="76" y="34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2" y="34"/>
                  </a:lnTo>
                  <a:lnTo>
                    <a:pt x="92" y="28"/>
                  </a:lnTo>
                  <a:lnTo>
                    <a:pt x="86" y="28"/>
                  </a:lnTo>
                  <a:lnTo>
                    <a:pt x="88" y="31"/>
                  </a:lnTo>
                  <a:lnTo>
                    <a:pt x="86" y="2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8" y="37"/>
                  </a:lnTo>
                  <a:lnTo>
                    <a:pt x="92" y="39"/>
                  </a:lnTo>
                  <a:lnTo>
                    <a:pt x="99" y="39"/>
                  </a:lnTo>
                  <a:lnTo>
                    <a:pt x="104" y="39"/>
                  </a:lnTo>
                  <a:lnTo>
                    <a:pt x="109" y="39"/>
                  </a:lnTo>
                  <a:lnTo>
                    <a:pt x="115" y="39"/>
                  </a:lnTo>
                  <a:lnTo>
                    <a:pt x="120" y="39"/>
                  </a:lnTo>
                  <a:lnTo>
                    <a:pt x="127" y="39"/>
                  </a:lnTo>
                  <a:lnTo>
                    <a:pt x="133" y="39"/>
                  </a:lnTo>
                  <a:lnTo>
                    <a:pt x="133" y="33"/>
                  </a:lnTo>
                  <a:lnTo>
                    <a:pt x="128" y="37"/>
                  </a:lnTo>
                  <a:lnTo>
                    <a:pt x="133" y="43"/>
                  </a:lnTo>
                  <a:lnTo>
                    <a:pt x="134" y="43"/>
                  </a:lnTo>
                  <a:lnTo>
                    <a:pt x="138" y="45"/>
                  </a:lnTo>
                  <a:lnTo>
                    <a:pt x="143" y="45"/>
                  </a:lnTo>
                  <a:lnTo>
                    <a:pt x="150" y="45"/>
                  </a:lnTo>
                  <a:lnTo>
                    <a:pt x="156" y="45"/>
                  </a:lnTo>
                  <a:lnTo>
                    <a:pt x="161" y="45"/>
                  </a:lnTo>
                  <a:lnTo>
                    <a:pt x="166" y="45"/>
                  </a:lnTo>
                  <a:lnTo>
                    <a:pt x="173" y="45"/>
                  </a:lnTo>
                  <a:lnTo>
                    <a:pt x="173" y="45"/>
                  </a:lnTo>
                  <a:lnTo>
                    <a:pt x="178" y="44"/>
                  </a:lnTo>
                  <a:lnTo>
                    <a:pt x="184" y="38"/>
                  </a:lnTo>
                  <a:lnTo>
                    <a:pt x="179" y="33"/>
                  </a:lnTo>
                  <a:lnTo>
                    <a:pt x="179" y="39"/>
                  </a:lnTo>
                  <a:lnTo>
                    <a:pt x="184" y="39"/>
                  </a:lnTo>
                  <a:lnTo>
                    <a:pt x="184" y="39"/>
                  </a:lnTo>
                  <a:lnTo>
                    <a:pt x="189" y="38"/>
                  </a:lnTo>
                  <a:lnTo>
                    <a:pt x="194" y="33"/>
                  </a:lnTo>
                  <a:lnTo>
                    <a:pt x="189" y="28"/>
                  </a:lnTo>
                  <a:lnTo>
                    <a:pt x="189" y="34"/>
                  </a:lnTo>
                  <a:lnTo>
                    <a:pt x="196" y="34"/>
                  </a:lnTo>
                  <a:lnTo>
                    <a:pt x="202" y="34"/>
                  </a:lnTo>
                  <a:lnTo>
                    <a:pt x="213" y="34"/>
                  </a:lnTo>
                  <a:lnTo>
                    <a:pt x="219" y="34"/>
                  </a:lnTo>
                  <a:lnTo>
                    <a:pt x="224" y="34"/>
                  </a:lnTo>
                  <a:lnTo>
                    <a:pt x="230" y="34"/>
                  </a:lnTo>
                  <a:lnTo>
                    <a:pt x="236" y="34"/>
                  </a:lnTo>
                  <a:lnTo>
                    <a:pt x="236" y="34"/>
                  </a:lnTo>
                  <a:lnTo>
                    <a:pt x="241" y="31"/>
                  </a:lnTo>
                  <a:lnTo>
                    <a:pt x="243" y="28"/>
                  </a:lnTo>
                  <a:lnTo>
                    <a:pt x="243" y="23"/>
                  </a:lnTo>
                  <a:lnTo>
                    <a:pt x="236" y="23"/>
                  </a:lnTo>
                  <a:lnTo>
                    <a:pt x="236" y="29"/>
                  </a:lnTo>
                  <a:lnTo>
                    <a:pt x="241" y="26"/>
                  </a:lnTo>
                  <a:lnTo>
                    <a:pt x="236" y="29"/>
                  </a:lnTo>
                  <a:lnTo>
                    <a:pt x="241" y="29"/>
                  </a:lnTo>
                  <a:lnTo>
                    <a:pt x="247" y="29"/>
                  </a:lnTo>
                  <a:lnTo>
                    <a:pt x="252" y="29"/>
                  </a:lnTo>
                  <a:lnTo>
                    <a:pt x="252" y="29"/>
                  </a:lnTo>
                  <a:lnTo>
                    <a:pt x="256" y="28"/>
                  </a:lnTo>
                  <a:lnTo>
                    <a:pt x="262" y="23"/>
                  </a:lnTo>
                  <a:lnTo>
                    <a:pt x="258" y="17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8" y="23"/>
                  </a:lnTo>
                  <a:lnTo>
                    <a:pt x="280" y="16"/>
                  </a:lnTo>
                  <a:lnTo>
                    <a:pt x="276" y="11"/>
                  </a:lnTo>
                  <a:lnTo>
                    <a:pt x="276" y="17"/>
                  </a:lnTo>
                  <a:lnTo>
                    <a:pt x="282" y="17"/>
                  </a:lnTo>
                  <a:lnTo>
                    <a:pt x="282" y="17"/>
                  </a:lnTo>
                  <a:lnTo>
                    <a:pt x="287" y="16"/>
                  </a:lnTo>
                  <a:lnTo>
                    <a:pt x="293" y="11"/>
                  </a:lnTo>
                  <a:lnTo>
                    <a:pt x="284" y="2"/>
                  </a:lnTo>
                  <a:lnTo>
                    <a:pt x="278" y="7"/>
                  </a:lnTo>
                  <a:lnTo>
                    <a:pt x="282" y="11"/>
                  </a:lnTo>
                  <a:lnTo>
                    <a:pt x="282" y="5"/>
                  </a:lnTo>
                  <a:lnTo>
                    <a:pt x="276" y="5"/>
                  </a:lnTo>
                  <a:lnTo>
                    <a:pt x="276" y="5"/>
                  </a:lnTo>
                  <a:lnTo>
                    <a:pt x="273" y="6"/>
                  </a:lnTo>
                  <a:lnTo>
                    <a:pt x="262" y="12"/>
                  </a:lnTo>
                  <a:lnTo>
                    <a:pt x="264" y="17"/>
                  </a:lnTo>
                  <a:lnTo>
                    <a:pt x="264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4" y="14"/>
                  </a:lnTo>
                  <a:lnTo>
                    <a:pt x="248" y="19"/>
                  </a:lnTo>
                  <a:lnTo>
                    <a:pt x="252" y="23"/>
                  </a:lnTo>
                  <a:lnTo>
                    <a:pt x="252" y="16"/>
                  </a:lnTo>
                  <a:lnTo>
                    <a:pt x="247" y="16"/>
                  </a:lnTo>
                  <a:lnTo>
                    <a:pt x="241" y="16"/>
                  </a:lnTo>
                  <a:lnTo>
                    <a:pt x="236" y="16"/>
                  </a:lnTo>
                  <a:lnTo>
                    <a:pt x="236" y="16"/>
                  </a:lnTo>
                  <a:lnTo>
                    <a:pt x="233" y="19"/>
                  </a:lnTo>
                  <a:lnTo>
                    <a:pt x="230" y="23"/>
                  </a:lnTo>
                  <a:lnTo>
                    <a:pt x="230" y="23"/>
                  </a:lnTo>
                  <a:lnTo>
                    <a:pt x="230" y="28"/>
                  </a:lnTo>
                  <a:lnTo>
                    <a:pt x="236" y="21"/>
                  </a:lnTo>
                  <a:lnTo>
                    <a:pt x="233" y="24"/>
                  </a:lnTo>
                  <a:lnTo>
                    <a:pt x="230" y="28"/>
                  </a:lnTo>
                  <a:lnTo>
                    <a:pt x="236" y="28"/>
                  </a:lnTo>
                  <a:lnTo>
                    <a:pt x="236" y="21"/>
                  </a:lnTo>
                  <a:lnTo>
                    <a:pt x="230" y="21"/>
                  </a:lnTo>
                  <a:lnTo>
                    <a:pt x="224" y="21"/>
                  </a:lnTo>
                  <a:lnTo>
                    <a:pt x="219" y="21"/>
                  </a:lnTo>
                  <a:lnTo>
                    <a:pt x="213" y="21"/>
                  </a:lnTo>
                  <a:lnTo>
                    <a:pt x="202" y="21"/>
                  </a:lnTo>
                  <a:lnTo>
                    <a:pt x="196" y="21"/>
                  </a:lnTo>
                  <a:lnTo>
                    <a:pt x="189" y="21"/>
                  </a:lnTo>
                  <a:lnTo>
                    <a:pt x="189" y="21"/>
                  </a:lnTo>
                  <a:lnTo>
                    <a:pt x="185" y="24"/>
                  </a:lnTo>
                  <a:lnTo>
                    <a:pt x="180" y="29"/>
                  </a:lnTo>
                  <a:lnTo>
                    <a:pt x="184" y="33"/>
                  </a:lnTo>
                  <a:lnTo>
                    <a:pt x="184" y="26"/>
                  </a:lnTo>
                  <a:lnTo>
                    <a:pt x="179" y="26"/>
                  </a:lnTo>
                  <a:lnTo>
                    <a:pt x="179" y="26"/>
                  </a:lnTo>
                  <a:lnTo>
                    <a:pt x="175" y="29"/>
                  </a:lnTo>
                  <a:lnTo>
                    <a:pt x="169" y="35"/>
                  </a:lnTo>
                  <a:lnTo>
                    <a:pt x="173" y="39"/>
                  </a:lnTo>
                  <a:lnTo>
                    <a:pt x="173" y="33"/>
                  </a:lnTo>
                  <a:lnTo>
                    <a:pt x="166" y="33"/>
                  </a:lnTo>
                  <a:lnTo>
                    <a:pt x="161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3" y="33"/>
                  </a:lnTo>
                  <a:lnTo>
                    <a:pt x="138" y="33"/>
                  </a:lnTo>
                  <a:lnTo>
                    <a:pt x="138" y="39"/>
                  </a:lnTo>
                  <a:lnTo>
                    <a:pt x="143" y="35"/>
                  </a:lnTo>
                  <a:lnTo>
                    <a:pt x="138" y="29"/>
                  </a:lnTo>
                  <a:lnTo>
                    <a:pt x="138" y="29"/>
                  </a:lnTo>
                  <a:lnTo>
                    <a:pt x="133" y="26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15" y="26"/>
                  </a:lnTo>
                  <a:lnTo>
                    <a:pt x="109" y="26"/>
                  </a:lnTo>
                  <a:lnTo>
                    <a:pt x="104" y="26"/>
                  </a:lnTo>
                  <a:lnTo>
                    <a:pt x="99" y="26"/>
                  </a:lnTo>
                  <a:lnTo>
                    <a:pt x="92" y="26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99" y="33"/>
                  </a:lnTo>
                  <a:lnTo>
                    <a:pt x="99" y="28"/>
                  </a:lnTo>
                  <a:lnTo>
                    <a:pt x="99" y="28"/>
                  </a:lnTo>
                  <a:lnTo>
                    <a:pt x="97" y="24"/>
                  </a:lnTo>
                  <a:lnTo>
                    <a:pt x="92" y="21"/>
                  </a:lnTo>
                  <a:lnTo>
                    <a:pt x="86" y="21"/>
                  </a:lnTo>
                  <a:lnTo>
                    <a:pt x="81" y="21"/>
                  </a:lnTo>
                  <a:lnTo>
                    <a:pt x="76" y="21"/>
                  </a:lnTo>
                  <a:lnTo>
                    <a:pt x="69" y="21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8" y="24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58" y="16"/>
                  </a:lnTo>
                  <a:lnTo>
                    <a:pt x="53" y="16"/>
                  </a:lnTo>
                  <a:lnTo>
                    <a:pt x="59" y="23"/>
                  </a:lnTo>
                  <a:lnTo>
                    <a:pt x="58" y="19"/>
                  </a:lnTo>
                  <a:lnTo>
                    <a:pt x="53" y="23"/>
                  </a:lnTo>
                  <a:lnTo>
                    <a:pt x="59" y="23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8" y="14"/>
                  </a:lnTo>
                  <a:lnTo>
                    <a:pt x="53" y="11"/>
                  </a:lnTo>
                  <a:lnTo>
                    <a:pt x="46" y="11"/>
                  </a:lnTo>
                  <a:lnTo>
                    <a:pt x="46" y="17"/>
                  </a:lnTo>
                  <a:lnTo>
                    <a:pt x="51" y="14"/>
                  </a:lnTo>
                  <a:lnTo>
                    <a:pt x="45" y="7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151600" y="3265560"/>
              <a:ext cx="101520" cy="698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39"/>
                  </a:moveTo>
                  <a:lnTo>
                    <a:pt x="0" y="52"/>
                  </a:lnTo>
                  <a:lnTo>
                    <a:pt x="6" y="52"/>
                  </a:lnTo>
                  <a:lnTo>
                    <a:pt x="12" y="52"/>
                  </a:lnTo>
                  <a:lnTo>
                    <a:pt x="17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28" y="40"/>
                  </a:lnTo>
                  <a:lnTo>
                    <a:pt x="28" y="47"/>
                  </a:lnTo>
                  <a:lnTo>
                    <a:pt x="35" y="47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50" y="45"/>
                  </a:lnTo>
                  <a:lnTo>
                    <a:pt x="57" y="40"/>
                  </a:lnTo>
                  <a:lnTo>
                    <a:pt x="53" y="35"/>
                  </a:lnTo>
                  <a:lnTo>
                    <a:pt x="53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3" y="39"/>
                  </a:lnTo>
                  <a:lnTo>
                    <a:pt x="64" y="35"/>
                  </a:lnTo>
                  <a:lnTo>
                    <a:pt x="64" y="29"/>
                  </a:lnTo>
                  <a:lnTo>
                    <a:pt x="64" y="24"/>
                  </a:lnTo>
                  <a:lnTo>
                    <a:pt x="58" y="24"/>
                  </a:lnTo>
                  <a:lnTo>
                    <a:pt x="63" y="28"/>
                  </a:lnTo>
                  <a:lnTo>
                    <a:pt x="68" y="21"/>
                  </a:lnTo>
                  <a:lnTo>
                    <a:pt x="69" y="17"/>
                  </a:lnTo>
                  <a:lnTo>
                    <a:pt x="69" y="12"/>
                  </a:lnTo>
                  <a:lnTo>
                    <a:pt x="63" y="12"/>
                  </a:lnTo>
                  <a:lnTo>
                    <a:pt x="68" y="16"/>
                  </a:lnTo>
                  <a:lnTo>
                    <a:pt x="68" y="17"/>
                  </a:lnTo>
                  <a:lnTo>
                    <a:pt x="74" y="11"/>
                  </a:lnTo>
                  <a:lnTo>
                    <a:pt x="69" y="6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80" y="10"/>
                  </a:lnTo>
                  <a:lnTo>
                    <a:pt x="81" y="6"/>
                  </a:lnTo>
                  <a:lnTo>
                    <a:pt x="81" y="1"/>
                  </a:lnTo>
                  <a:lnTo>
                    <a:pt x="68" y="1"/>
                  </a:lnTo>
                  <a:lnTo>
                    <a:pt x="68" y="6"/>
                  </a:lnTo>
                  <a:lnTo>
                    <a:pt x="74" y="0"/>
                  </a:lnTo>
                  <a:lnTo>
                    <a:pt x="71" y="2"/>
                  </a:lnTo>
                  <a:lnTo>
                    <a:pt x="68" y="6"/>
                  </a:lnTo>
                  <a:lnTo>
                    <a:pt x="74" y="6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7" y="17"/>
                  </a:lnTo>
                  <a:lnTo>
                    <a:pt x="63" y="17"/>
                  </a:lnTo>
                  <a:lnTo>
                    <a:pt x="59" y="14"/>
                  </a:lnTo>
                  <a:lnTo>
                    <a:pt x="54" y="20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1" y="29"/>
                  </a:lnTo>
                  <a:lnTo>
                    <a:pt x="51" y="35"/>
                  </a:lnTo>
                  <a:lnTo>
                    <a:pt x="58" y="29"/>
                  </a:lnTo>
                  <a:lnTo>
                    <a:pt x="54" y="31"/>
                  </a:lnTo>
                  <a:lnTo>
                    <a:pt x="51" y="35"/>
                  </a:lnTo>
                  <a:lnTo>
                    <a:pt x="58" y="35"/>
                  </a:lnTo>
                  <a:lnTo>
                    <a:pt x="58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49" y="31"/>
                  </a:lnTo>
                  <a:lnTo>
                    <a:pt x="43" y="36"/>
                  </a:lnTo>
                  <a:lnTo>
                    <a:pt x="46" y="40"/>
                  </a:lnTo>
                  <a:lnTo>
                    <a:pt x="46" y="34"/>
                  </a:lnTo>
                  <a:lnTo>
                    <a:pt x="40" y="34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5" y="36"/>
                  </a:lnTo>
                  <a:lnTo>
                    <a:pt x="20" y="42"/>
                  </a:lnTo>
                  <a:lnTo>
                    <a:pt x="23" y="45"/>
                  </a:lnTo>
                  <a:lnTo>
                    <a:pt x="23" y="39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6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0160" y="3251160"/>
              <a:ext cx="27000" cy="302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13"/>
                  </a:moveTo>
                  <a:lnTo>
                    <a:pt x="7" y="2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20" y="12"/>
                  </a:lnTo>
                  <a:lnTo>
                    <a:pt x="15" y="7"/>
                  </a:lnTo>
                  <a:lnTo>
                    <a:pt x="15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6" y="8"/>
                  </a:lnTo>
                  <a:lnTo>
                    <a:pt x="10" y="12"/>
                  </a:lnTo>
                  <a:lnTo>
                    <a:pt x="6" y="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983040" y="3998880"/>
              <a:ext cx="117360" cy="198360"/>
            </a:xfrm>
            <a:custGeom>
              <a:avLst/>
              <a:gdLst/>
              <a:ahLst/>
              <a:rect l="l" t="t" r="r" b="b"/>
              <a:pathLst>
                <a:path w="93" h="148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" y="9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14" y="29"/>
                  </a:lnTo>
                  <a:lnTo>
                    <a:pt x="18" y="24"/>
                  </a:lnTo>
                  <a:lnTo>
                    <a:pt x="13" y="28"/>
                  </a:lnTo>
                  <a:lnTo>
                    <a:pt x="18" y="34"/>
                  </a:lnTo>
                  <a:lnTo>
                    <a:pt x="19" y="35"/>
                  </a:lnTo>
                  <a:lnTo>
                    <a:pt x="26" y="40"/>
                  </a:lnTo>
                  <a:lnTo>
                    <a:pt x="29" y="35"/>
                  </a:lnTo>
                  <a:lnTo>
                    <a:pt x="23" y="35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6" y="45"/>
                  </a:lnTo>
                  <a:lnTo>
                    <a:pt x="32" y="52"/>
                  </a:lnTo>
                  <a:lnTo>
                    <a:pt x="37" y="57"/>
                  </a:lnTo>
                  <a:lnTo>
                    <a:pt x="41" y="52"/>
                  </a:lnTo>
                  <a:lnTo>
                    <a:pt x="36" y="54"/>
                  </a:lnTo>
                  <a:lnTo>
                    <a:pt x="41" y="66"/>
                  </a:lnTo>
                  <a:lnTo>
                    <a:pt x="46" y="63"/>
                  </a:lnTo>
                  <a:lnTo>
                    <a:pt x="40" y="63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2" y="75"/>
                  </a:lnTo>
                  <a:lnTo>
                    <a:pt x="52" y="68"/>
                  </a:lnTo>
                  <a:lnTo>
                    <a:pt x="47" y="72"/>
                  </a:lnTo>
                  <a:lnTo>
                    <a:pt x="52" y="79"/>
                  </a:lnTo>
                  <a:lnTo>
                    <a:pt x="54" y="80"/>
                  </a:lnTo>
                  <a:lnTo>
                    <a:pt x="60" y="85"/>
                  </a:lnTo>
                  <a:lnTo>
                    <a:pt x="64" y="80"/>
                  </a:lnTo>
                  <a:lnTo>
                    <a:pt x="57" y="80"/>
                  </a:lnTo>
                  <a:lnTo>
                    <a:pt x="57" y="85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60" y="96"/>
                  </a:lnTo>
                  <a:lnTo>
                    <a:pt x="64" y="99"/>
                  </a:lnTo>
                  <a:lnTo>
                    <a:pt x="69" y="99"/>
                  </a:lnTo>
                  <a:lnTo>
                    <a:pt x="69" y="93"/>
                  </a:lnTo>
                  <a:lnTo>
                    <a:pt x="65" y="98"/>
                  </a:lnTo>
                  <a:lnTo>
                    <a:pt x="70" y="103"/>
                  </a:lnTo>
                  <a:lnTo>
                    <a:pt x="74" y="98"/>
                  </a:lnTo>
                  <a:lnTo>
                    <a:pt x="68" y="98"/>
                  </a:lnTo>
                  <a:lnTo>
                    <a:pt x="68" y="103"/>
                  </a:lnTo>
                  <a:lnTo>
                    <a:pt x="68" y="114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0" y="119"/>
                  </a:lnTo>
                  <a:lnTo>
                    <a:pt x="77" y="124"/>
                  </a:lnTo>
                  <a:lnTo>
                    <a:pt x="80" y="119"/>
                  </a:lnTo>
                  <a:lnTo>
                    <a:pt x="74" y="119"/>
                  </a:lnTo>
                  <a:lnTo>
                    <a:pt x="74" y="126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77" y="136"/>
                  </a:lnTo>
                  <a:lnTo>
                    <a:pt x="77" y="137"/>
                  </a:lnTo>
                  <a:lnTo>
                    <a:pt x="83" y="142"/>
                  </a:lnTo>
                  <a:lnTo>
                    <a:pt x="87" y="137"/>
                  </a:lnTo>
                  <a:lnTo>
                    <a:pt x="80" y="137"/>
                  </a:lnTo>
                  <a:lnTo>
                    <a:pt x="80" y="142"/>
                  </a:lnTo>
                  <a:lnTo>
                    <a:pt x="80" y="148"/>
                  </a:lnTo>
                  <a:lnTo>
                    <a:pt x="93" y="148"/>
                  </a:lnTo>
                  <a:lnTo>
                    <a:pt x="93" y="142"/>
                  </a:lnTo>
                  <a:lnTo>
                    <a:pt x="93" y="137"/>
                  </a:lnTo>
                  <a:lnTo>
                    <a:pt x="93" y="137"/>
                  </a:lnTo>
                  <a:lnTo>
                    <a:pt x="92" y="133"/>
                  </a:lnTo>
                  <a:lnTo>
                    <a:pt x="91" y="133"/>
                  </a:lnTo>
                  <a:lnTo>
                    <a:pt x="84" y="128"/>
                  </a:lnTo>
                  <a:lnTo>
                    <a:pt x="80" y="132"/>
                  </a:lnTo>
                  <a:lnTo>
                    <a:pt x="87" y="132"/>
                  </a:lnTo>
                  <a:lnTo>
                    <a:pt x="87" y="126"/>
                  </a:lnTo>
                  <a:lnTo>
                    <a:pt x="87" y="119"/>
                  </a:lnTo>
                  <a:lnTo>
                    <a:pt x="87" y="119"/>
                  </a:lnTo>
                  <a:lnTo>
                    <a:pt x="86" y="115"/>
                  </a:lnTo>
                  <a:lnTo>
                    <a:pt x="84" y="115"/>
                  </a:lnTo>
                  <a:lnTo>
                    <a:pt x="78" y="110"/>
                  </a:lnTo>
                  <a:lnTo>
                    <a:pt x="74" y="114"/>
                  </a:lnTo>
                  <a:lnTo>
                    <a:pt x="80" y="114"/>
                  </a:lnTo>
                  <a:lnTo>
                    <a:pt x="80" y="103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9" y="94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69" y="86"/>
                  </a:lnTo>
                  <a:lnTo>
                    <a:pt x="64" y="86"/>
                  </a:lnTo>
                  <a:lnTo>
                    <a:pt x="70" y="93"/>
                  </a:lnTo>
                  <a:lnTo>
                    <a:pt x="69" y="89"/>
                  </a:lnTo>
                  <a:lnTo>
                    <a:pt x="64" y="93"/>
                  </a:lnTo>
                  <a:lnTo>
                    <a:pt x="70" y="93"/>
                  </a:lnTo>
                  <a:lnTo>
                    <a:pt x="70" y="85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69" y="76"/>
                  </a:lnTo>
                  <a:lnTo>
                    <a:pt x="68" y="76"/>
                  </a:lnTo>
                  <a:lnTo>
                    <a:pt x="61" y="71"/>
                  </a:lnTo>
                  <a:lnTo>
                    <a:pt x="57" y="75"/>
                  </a:lnTo>
                  <a:lnTo>
                    <a:pt x="63" y="71"/>
                  </a:lnTo>
                  <a:lnTo>
                    <a:pt x="57" y="65"/>
                  </a:lnTo>
                  <a:lnTo>
                    <a:pt x="57" y="65"/>
                  </a:lnTo>
                  <a:lnTo>
                    <a:pt x="52" y="62"/>
                  </a:lnTo>
                  <a:lnTo>
                    <a:pt x="46" y="62"/>
                  </a:lnTo>
                  <a:lnTo>
                    <a:pt x="52" y="68"/>
                  </a:lnTo>
                  <a:lnTo>
                    <a:pt x="51" y="65"/>
                  </a:lnTo>
                  <a:lnTo>
                    <a:pt x="46" y="68"/>
                  </a:lnTo>
                  <a:lnTo>
                    <a:pt x="52" y="68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51" y="61"/>
                  </a:lnTo>
                  <a:lnTo>
                    <a:pt x="46" y="49"/>
                  </a:lnTo>
                  <a:lnTo>
                    <a:pt x="46" y="48"/>
                  </a:lnTo>
                  <a:lnTo>
                    <a:pt x="41" y="43"/>
                  </a:lnTo>
                  <a:lnTo>
                    <a:pt x="35" y="37"/>
                  </a:lnTo>
                  <a:lnTo>
                    <a:pt x="29" y="40"/>
                  </a:lnTo>
                  <a:lnTo>
                    <a:pt x="36" y="40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5" y="31"/>
                  </a:lnTo>
                  <a:lnTo>
                    <a:pt x="33" y="31"/>
                  </a:lnTo>
                  <a:lnTo>
                    <a:pt x="27" y="26"/>
                  </a:lnTo>
                  <a:lnTo>
                    <a:pt x="23" y="30"/>
                  </a:lnTo>
                  <a:lnTo>
                    <a:pt x="28" y="26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17" y="14"/>
                  </a:lnTo>
                  <a:lnTo>
                    <a:pt x="12" y="18"/>
                  </a:lnTo>
                  <a:lnTo>
                    <a:pt x="17" y="1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068720" y="4197240"/>
              <a:ext cx="31680" cy="9864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5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7"/>
                  </a:lnTo>
                  <a:lnTo>
                    <a:pt x="12" y="23"/>
                  </a:lnTo>
                  <a:lnTo>
                    <a:pt x="12" y="28"/>
                  </a:lnTo>
                  <a:lnTo>
                    <a:pt x="12" y="35"/>
                  </a:lnTo>
                  <a:lnTo>
                    <a:pt x="12" y="40"/>
                  </a:lnTo>
                  <a:lnTo>
                    <a:pt x="12" y="46"/>
                  </a:lnTo>
                  <a:lnTo>
                    <a:pt x="19" y="46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6" y="51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6" y="6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18" y="61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1"/>
                  </a:lnTo>
                  <a:lnTo>
                    <a:pt x="12" y="51"/>
                  </a:lnTo>
                  <a:lnTo>
                    <a:pt x="16" y="56"/>
                  </a:lnTo>
                  <a:lnTo>
                    <a:pt x="23" y="51"/>
                  </a:lnTo>
                  <a:lnTo>
                    <a:pt x="24" y="50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0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25" y="17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18080" y="3351240"/>
              <a:ext cx="38160" cy="302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0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2" y="9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12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30" y="23"/>
                  </a:lnTo>
                  <a:lnTo>
                    <a:pt x="30" y="10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2" y="10"/>
                  </a:lnTo>
                  <a:lnTo>
                    <a:pt x="12" y="17"/>
                  </a:lnTo>
                  <a:lnTo>
                    <a:pt x="17" y="1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518000" y="3351240"/>
              <a:ext cx="100080" cy="76320"/>
            </a:xfrm>
            <a:custGeom>
              <a:avLst/>
              <a:gdLst/>
              <a:ahLst/>
              <a:rect l="l" t="t" r="r" b="b"/>
              <a:pathLst>
                <a:path w="80" h="57">
                  <a:moveTo>
                    <a:pt x="0" y="45"/>
                  </a:moveTo>
                  <a:lnTo>
                    <a:pt x="0" y="57"/>
                  </a:lnTo>
                  <a:lnTo>
                    <a:pt x="12" y="57"/>
                  </a:lnTo>
                  <a:lnTo>
                    <a:pt x="17" y="57"/>
                  </a:lnTo>
                  <a:lnTo>
                    <a:pt x="23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4" y="55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40" y="45"/>
                  </a:lnTo>
                  <a:lnTo>
                    <a:pt x="34" y="40"/>
                  </a:lnTo>
                  <a:lnTo>
                    <a:pt x="34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6" y="45"/>
                  </a:lnTo>
                  <a:lnTo>
                    <a:pt x="51" y="40"/>
                  </a:lnTo>
                  <a:lnTo>
                    <a:pt x="51" y="38"/>
                  </a:lnTo>
                  <a:lnTo>
                    <a:pt x="52" y="34"/>
                  </a:lnTo>
                  <a:lnTo>
                    <a:pt x="52" y="28"/>
                  </a:lnTo>
                  <a:lnTo>
                    <a:pt x="52" y="22"/>
                  </a:lnTo>
                  <a:lnTo>
                    <a:pt x="46" y="22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7" y="17"/>
                  </a:lnTo>
                  <a:lnTo>
                    <a:pt x="57" y="12"/>
                  </a:lnTo>
                  <a:lnTo>
                    <a:pt x="51" y="12"/>
                  </a:lnTo>
                  <a:lnTo>
                    <a:pt x="56" y="15"/>
                  </a:lnTo>
                  <a:lnTo>
                    <a:pt x="55" y="17"/>
                  </a:lnTo>
                  <a:lnTo>
                    <a:pt x="61" y="12"/>
                  </a:lnTo>
                  <a:lnTo>
                    <a:pt x="57" y="6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69" y="13"/>
                  </a:lnTo>
                  <a:lnTo>
                    <a:pt x="74" y="13"/>
                  </a:lnTo>
                  <a:lnTo>
                    <a:pt x="80" y="13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3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7"/>
                  </a:lnTo>
                  <a:lnTo>
                    <a:pt x="51" y="17"/>
                  </a:lnTo>
                  <a:lnTo>
                    <a:pt x="47" y="13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7" y="36"/>
                  </a:lnTo>
                  <a:lnTo>
                    <a:pt x="41" y="40"/>
                  </a:lnTo>
                  <a:lnTo>
                    <a:pt x="41" y="33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1" y="36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51"/>
                  </a:lnTo>
                  <a:lnTo>
                    <a:pt x="29" y="45"/>
                  </a:lnTo>
                  <a:lnTo>
                    <a:pt x="26" y="47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29" y="45"/>
                  </a:lnTo>
                  <a:lnTo>
                    <a:pt x="23" y="45"/>
                  </a:lnTo>
                  <a:lnTo>
                    <a:pt x="17" y="45"/>
                  </a:lnTo>
                  <a:lnTo>
                    <a:pt x="1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568760" y="4952880"/>
              <a:ext cx="63720" cy="334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12"/>
                  </a:moveTo>
                  <a:lnTo>
                    <a:pt x="0" y="24"/>
                  </a:lnTo>
                  <a:lnTo>
                    <a:pt x="5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2" y="17"/>
                  </a:lnTo>
                  <a:lnTo>
                    <a:pt x="16" y="12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8" y="18"/>
                  </a:lnTo>
                  <a:lnTo>
                    <a:pt x="33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5" y="15"/>
                  </a:lnTo>
                  <a:lnTo>
                    <a:pt x="46" y="12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13"/>
                  </a:lnTo>
                  <a:lnTo>
                    <a:pt x="45" y="10"/>
                  </a:lnTo>
                  <a:lnTo>
                    <a:pt x="39" y="13"/>
                  </a:lnTo>
                  <a:lnTo>
                    <a:pt x="51" y="13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6" y="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9" y="5"/>
                  </a:lnTo>
                  <a:lnTo>
                    <a:pt x="36" y="8"/>
                  </a:lnTo>
                  <a:lnTo>
                    <a:pt x="33" y="12"/>
                  </a:lnTo>
                  <a:lnTo>
                    <a:pt x="39" y="12"/>
                  </a:lnTo>
                  <a:lnTo>
                    <a:pt x="39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632480" y="4952880"/>
              <a:ext cx="36360" cy="255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0" y="13"/>
                  </a:lnTo>
                  <a:lnTo>
                    <a:pt x="5" y="13"/>
                  </a:lnTo>
                  <a:lnTo>
                    <a:pt x="11" y="13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14" y="12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8"/>
                  </a:lnTo>
                  <a:lnTo>
                    <a:pt x="29" y="18"/>
                  </a:lnTo>
                  <a:lnTo>
                    <a:pt x="29" y="5"/>
                  </a:lnTo>
                  <a:lnTo>
                    <a:pt x="23" y="5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422600" y="4929120"/>
              <a:ext cx="115920" cy="5724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" y="0"/>
                  </a:moveTo>
                  <a:lnTo>
                    <a:pt x="1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19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5" y="13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14" y="3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9" y="35"/>
                  </a:lnTo>
                  <a:lnTo>
                    <a:pt x="19" y="33"/>
                  </a:lnTo>
                  <a:lnTo>
                    <a:pt x="23" y="36"/>
                  </a:lnTo>
                  <a:lnTo>
                    <a:pt x="29" y="36"/>
                  </a:lnTo>
                  <a:lnTo>
                    <a:pt x="29" y="30"/>
                  </a:lnTo>
                  <a:lnTo>
                    <a:pt x="25" y="35"/>
                  </a:lnTo>
                  <a:lnTo>
                    <a:pt x="32" y="41"/>
                  </a:lnTo>
                  <a:lnTo>
                    <a:pt x="32" y="40"/>
                  </a:lnTo>
                  <a:lnTo>
                    <a:pt x="35" y="42"/>
                  </a:lnTo>
                  <a:lnTo>
                    <a:pt x="41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2" y="41"/>
                  </a:lnTo>
                  <a:lnTo>
                    <a:pt x="58" y="35"/>
                  </a:lnTo>
                  <a:lnTo>
                    <a:pt x="53" y="30"/>
                  </a:lnTo>
                  <a:lnTo>
                    <a:pt x="53" y="3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64" y="35"/>
                  </a:lnTo>
                  <a:lnTo>
                    <a:pt x="69" y="30"/>
                  </a:lnTo>
                  <a:lnTo>
                    <a:pt x="64" y="25"/>
                  </a:lnTo>
                  <a:lnTo>
                    <a:pt x="64" y="31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79" y="30"/>
                  </a:lnTo>
                  <a:lnTo>
                    <a:pt x="85" y="25"/>
                  </a:lnTo>
                  <a:lnTo>
                    <a:pt x="81" y="19"/>
                  </a:lnTo>
                  <a:lnTo>
                    <a:pt x="81" y="26"/>
                  </a:lnTo>
                  <a:lnTo>
                    <a:pt x="87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87" y="13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78" y="16"/>
                  </a:lnTo>
                  <a:lnTo>
                    <a:pt x="71" y="21"/>
                  </a:lnTo>
                  <a:lnTo>
                    <a:pt x="75" y="25"/>
                  </a:lnTo>
                  <a:lnTo>
                    <a:pt x="75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0" y="21"/>
                  </a:lnTo>
                  <a:lnTo>
                    <a:pt x="55" y="26"/>
                  </a:lnTo>
                  <a:lnTo>
                    <a:pt x="58" y="30"/>
                  </a:lnTo>
                  <a:lnTo>
                    <a:pt x="58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0" y="26"/>
                  </a:lnTo>
                  <a:lnTo>
                    <a:pt x="43" y="32"/>
                  </a:lnTo>
                  <a:lnTo>
                    <a:pt x="47" y="36"/>
                  </a:lnTo>
                  <a:lnTo>
                    <a:pt x="47" y="30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35" y="36"/>
                  </a:lnTo>
                  <a:lnTo>
                    <a:pt x="41" y="3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3" y="23"/>
                  </a:lnTo>
                  <a:lnTo>
                    <a:pt x="23" y="30"/>
                  </a:lnTo>
                  <a:lnTo>
                    <a:pt x="28" y="26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18" y="19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11" y="7"/>
                  </a:lnTo>
                  <a:lnTo>
                    <a:pt x="6" y="7"/>
                  </a:lnTo>
                  <a:lnTo>
                    <a:pt x="12" y="13"/>
                  </a:lnTo>
                  <a:lnTo>
                    <a:pt x="11" y="9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3"/>
                  </a:lnTo>
                  <a:lnTo>
                    <a:pt x="6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397400" y="4910040"/>
              <a:ext cx="25200" cy="255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8" y="0"/>
                  </a:moveTo>
                  <a:lnTo>
                    <a:pt x="0" y="9"/>
                  </a:lnTo>
                  <a:lnTo>
                    <a:pt x="7" y="14"/>
                  </a:lnTo>
                  <a:lnTo>
                    <a:pt x="11" y="9"/>
                  </a:lnTo>
                  <a:lnTo>
                    <a:pt x="5" y="13"/>
                  </a:lnTo>
                  <a:lnTo>
                    <a:pt x="11" y="19"/>
                  </a:lnTo>
                  <a:lnTo>
                    <a:pt x="21" y="1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330800" y="4749840"/>
              <a:ext cx="41040" cy="442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0" y="0"/>
                  </a:moveTo>
                  <a:lnTo>
                    <a:pt x="0" y="7"/>
                  </a:lnTo>
                  <a:lnTo>
                    <a:pt x="5" y="14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3"/>
                  </a:lnTo>
                  <a:lnTo>
                    <a:pt x="15" y="16"/>
                  </a:lnTo>
                  <a:lnTo>
                    <a:pt x="11" y="21"/>
                  </a:lnTo>
                  <a:lnTo>
                    <a:pt x="18" y="27"/>
                  </a:lnTo>
                  <a:lnTo>
                    <a:pt x="24" y="32"/>
                  </a:lnTo>
                  <a:lnTo>
                    <a:pt x="32" y="23"/>
                  </a:lnTo>
                  <a:lnTo>
                    <a:pt x="26" y="18"/>
                  </a:lnTo>
                  <a:lnTo>
                    <a:pt x="19" y="13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7" y="16"/>
                  </a:lnTo>
                  <a:lnTo>
                    <a:pt x="15" y="13"/>
                  </a:lnTo>
                  <a:lnTo>
                    <a:pt x="10" y="16"/>
                  </a:lnTo>
                  <a:lnTo>
                    <a:pt x="17" y="16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241880" y="4746600"/>
              <a:ext cx="95040" cy="6336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0" y="47"/>
                  </a:moveTo>
                  <a:lnTo>
                    <a:pt x="12" y="47"/>
                  </a:lnTo>
                  <a:lnTo>
                    <a:pt x="12" y="41"/>
                  </a:lnTo>
                  <a:lnTo>
                    <a:pt x="6" y="41"/>
                  </a:lnTo>
                  <a:lnTo>
                    <a:pt x="11" y="45"/>
                  </a:lnTo>
                  <a:lnTo>
                    <a:pt x="11" y="46"/>
                  </a:lnTo>
                  <a:lnTo>
                    <a:pt x="17" y="40"/>
                  </a:lnTo>
                  <a:lnTo>
                    <a:pt x="12" y="35"/>
                  </a:lnTo>
                  <a:lnTo>
                    <a:pt x="16" y="40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9" y="30"/>
                  </a:lnTo>
                  <a:lnTo>
                    <a:pt x="24" y="24"/>
                  </a:lnTo>
                  <a:lnTo>
                    <a:pt x="26" y="30"/>
                  </a:lnTo>
                  <a:lnTo>
                    <a:pt x="38" y="24"/>
                  </a:lnTo>
                  <a:lnTo>
                    <a:pt x="35" y="19"/>
                  </a:lnTo>
                  <a:lnTo>
                    <a:pt x="35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7" y="23"/>
                  </a:lnTo>
                  <a:lnTo>
                    <a:pt x="48" y="19"/>
                  </a:lnTo>
                  <a:lnTo>
                    <a:pt x="48" y="13"/>
                  </a:lnTo>
                  <a:lnTo>
                    <a:pt x="42" y="13"/>
                  </a:lnTo>
                  <a:lnTo>
                    <a:pt x="47" y="17"/>
                  </a:lnTo>
                  <a:lnTo>
                    <a:pt x="52" y="10"/>
                  </a:lnTo>
                  <a:lnTo>
                    <a:pt x="47" y="7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8" y="13"/>
                  </a:lnTo>
                  <a:lnTo>
                    <a:pt x="65" y="13"/>
                  </a:lnTo>
                  <a:lnTo>
                    <a:pt x="70" y="13"/>
                  </a:lnTo>
                  <a:lnTo>
                    <a:pt x="76" y="13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38" y="9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9"/>
                  </a:lnTo>
                  <a:lnTo>
                    <a:pt x="42" y="13"/>
                  </a:lnTo>
                  <a:lnTo>
                    <a:pt x="38" y="16"/>
                  </a:lnTo>
                  <a:lnTo>
                    <a:pt x="35" y="19"/>
                  </a:lnTo>
                  <a:lnTo>
                    <a:pt x="42" y="19"/>
                  </a:lnTo>
                  <a:lnTo>
                    <a:pt x="42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21" y="19"/>
                  </a:lnTo>
                  <a:lnTo>
                    <a:pt x="20" y="21"/>
                  </a:lnTo>
                  <a:lnTo>
                    <a:pt x="15" y="26"/>
                  </a:lnTo>
                  <a:lnTo>
                    <a:pt x="19" y="30"/>
                  </a:lnTo>
                  <a:lnTo>
                    <a:pt x="15" y="26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349880" y="4809960"/>
              <a:ext cx="46080" cy="1080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1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9" y="16"/>
                  </a:lnTo>
                  <a:lnTo>
                    <a:pt x="13" y="11"/>
                  </a:lnTo>
                  <a:lnTo>
                    <a:pt x="7" y="11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9" y="49"/>
                  </a:lnTo>
                  <a:lnTo>
                    <a:pt x="13" y="51"/>
                  </a:lnTo>
                  <a:lnTo>
                    <a:pt x="18" y="51"/>
                  </a:lnTo>
                  <a:lnTo>
                    <a:pt x="18" y="45"/>
                  </a:lnTo>
                  <a:lnTo>
                    <a:pt x="12" y="45"/>
                  </a:lnTo>
                  <a:lnTo>
                    <a:pt x="14" y="49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4" y="61"/>
                  </a:lnTo>
                  <a:lnTo>
                    <a:pt x="19" y="66"/>
                  </a:lnTo>
                  <a:lnTo>
                    <a:pt x="23" y="61"/>
                  </a:lnTo>
                  <a:lnTo>
                    <a:pt x="17" y="61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27" y="79"/>
                  </a:lnTo>
                  <a:lnTo>
                    <a:pt x="31" y="80"/>
                  </a:lnTo>
                  <a:lnTo>
                    <a:pt x="36" y="80"/>
                  </a:lnTo>
                  <a:lnTo>
                    <a:pt x="36" y="68"/>
                  </a:lnTo>
                  <a:lnTo>
                    <a:pt x="31" y="68"/>
                  </a:lnTo>
                  <a:lnTo>
                    <a:pt x="31" y="74"/>
                  </a:lnTo>
                  <a:lnTo>
                    <a:pt x="35" y="70"/>
                  </a:lnTo>
                  <a:lnTo>
                    <a:pt x="27" y="64"/>
                  </a:lnTo>
                  <a:lnTo>
                    <a:pt x="23" y="68"/>
                  </a:lnTo>
                  <a:lnTo>
                    <a:pt x="30" y="68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8" y="58"/>
                  </a:lnTo>
                  <a:lnTo>
                    <a:pt x="23" y="52"/>
                  </a:lnTo>
                  <a:lnTo>
                    <a:pt x="18" y="56"/>
                  </a:lnTo>
                  <a:lnTo>
                    <a:pt x="25" y="56"/>
                  </a:lnTo>
                  <a:lnTo>
                    <a:pt x="25" y="51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3" y="41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19" y="45"/>
                  </a:lnTo>
                  <a:lnTo>
                    <a:pt x="18" y="41"/>
                  </a:lnTo>
                  <a:lnTo>
                    <a:pt x="13" y="45"/>
                  </a:lnTo>
                  <a:lnTo>
                    <a:pt x="19" y="45"/>
                  </a:lnTo>
                  <a:lnTo>
                    <a:pt x="19" y="40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19" y="17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1" y="2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302080" y="3162240"/>
              <a:ext cx="65160" cy="5724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0" y="43"/>
                  </a:moveTo>
                  <a:lnTo>
                    <a:pt x="13" y="43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20" y="32"/>
                  </a:lnTo>
                  <a:lnTo>
                    <a:pt x="20" y="26"/>
                  </a:lnTo>
                  <a:lnTo>
                    <a:pt x="20" y="21"/>
                  </a:lnTo>
                  <a:lnTo>
                    <a:pt x="13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23" y="21"/>
                  </a:lnTo>
                  <a:lnTo>
                    <a:pt x="18" y="16"/>
                  </a:lnTo>
                  <a:lnTo>
                    <a:pt x="18" y="22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5" y="21"/>
                  </a:lnTo>
                  <a:lnTo>
                    <a:pt x="41" y="14"/>
                  </a:lnTo>
                  <a:lnTo>
                    <a:pt x="36" y="9"/>
                  </a:lnTo>
                  <a:lnTo>
                    <a:pt x="36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6" y="14"/>
                  </a:lnTo>
                  <a:lnTo>
                    <a:pt x="51" y="9"/>
                  </a:lnTo>
                  <a:lnTo>
                    <a:pt x="42" y="0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1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0" y="9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9" y="28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361120" y="3146400"/>
              <a:ext cx="29880" cy="22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5"/>
                  </a:moveTo>
                  <a:lnTo>
                    <a:pt x="0" y="17"/>
                  </a:lnTo>
                  <a:lnTo>
                    <a:pt x="5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8" y="7"/>
                  </a:lnTo>
                  <a:lnTo>
                    <a:pt x="12" y="11"/>
                  </a:lnTo>
                  <a:lnTo>
                    <a:pt x="12" y="5"/>
                  </a:lnTo>
                  <a:lnTo>
                    <a:pt x="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933800" y="5046840"/>
              <a:ext cx="65160" cy="218880"/>
            </a:xfrm>
            <a:custGeom>
              <a:avLst/>
              <a:gdLst/>
              <a:ahLst/>
              <a:rect l="l" t="t" r="r" b="b"/>
              <a:pathLst>
                <a:path w="52" h="163">
                  <a:moveTo>
                    <a:pt x="19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13" y="6"/>
                  </a:lnTo>
                  <a:lnTo>
                    <a:pt x="9" y="2"/>
                  </a:lnTo>
                  <a:lnTo>
                    <a:pt x="9" y="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9" y="79"/>
                  </a:lnTo>
                  <a:lnTo>
                    <a:pt x="13" y="74"/>
                  </a:lnTo>
                  <a:lnTo>
                    <a:pt x="6" y="74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9" y="84"/>
                  </a:lnTo>
                  <a:lnTo>
                    <a:pt x="15" y="90"/>
                  </a:lnTo>
                  <a:lnTo>
                    <a:pt x="19" y="85"/>
                  </a:lnTo>
                  <a:lnTo>
                    <a:pt x="13" y="85"/>
                  </a:lnTo>
                  <a:lnTo>
                    <a:pt x="13" y="90"/>
                  </a:lnTo>
                  <a:lnTo>
                    <a:pt x="13" y="90"/>
                  </a:lnTo>
                  <a:lnTo>
                    <a:pt x="14" y="94"/>
                  </a:lnTo>
                  <a:lnTo>
                    <a:pt x="19" y="100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9" y="105"/>
                  </a:lnTo>
                  <a:lnTo>
                    <a:pt x="24" y="112"/>
                  </a:lnTo>
                  <a:lnTo>
                    <a:pt x="29" y="108"/>
                  </a:lnTo>
                  <a:lnTo>
                    <a:pt x="23" y="108"/>
                  </a:lnTo>
                  <a:lnTo>
                    <a:pt x="23" y="113"/>
                  </a:lnTo>
                  <a:lnTo>
                    <a:pt x="23" y="118"/>
                  </a:lnTo>
                  <a:lnTo>
                    <a:pt x="23" y="123"/>
                  </a:lnTo>
                  <a:lnTo>
                    <a:pt x="23" y="136"/>
                  </a:lnTo>
                  <a:lnTo>
                    <a:pt x="23" y="136"/>
                  </a:lnTo>
                  <a:lnTo>
                    <a:pt x="25" y="140"/>
                  </a:lnTo>
                  <a:lnTo>
                    <a:pt x="29" y="142"/>
                  </a:lnTo>
                  <a:lnTo>
                    <a:pt x="36" y="142"/>
                  </a:lnTo>
                  <a:lnTo>
                    <a:pt x="36" y="136"/>
                  </a:lnTo>
                  <a:lnTo>
                    <a:pt x="29" y="136"/>
                  </a:lnTo>
                  <a:lnTo>
                    <a:pt x="32" y="140"/>
                  </a:lnTo>
                  <a:lnTo>
                    <a:pt x="29" y="136"/>
                  </a:lnTo>
                  <a:lnTo>
                    <a:pt x="29" y="141"/>
                  </a:lnTo>
                  <a:lnTo>
                    <a:pt x="29" y="141"/>
                  </a:lnTo>
                  <a:lnTo>
                    <a:pt x="32" y="146"/>
                  </a:lnTo>
                  <a:lnTo>
                    <a:pt x="38" y="152"/>
                  </a:lnTo>
                  <a:lnTo>
                    <a:pt x="42" y="147"/>
                  </a:lnTo>
                  <a:lnTo>
                    <a:pt x="36" y="147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37" y="156"/>
                  </a:lnTo>
                  <a:lnTo>
                    <a:pt x="42" y="163"/>
                  </a:lnTo>
                  <a:lnTo>
                    <a:pt x="52" y="155"/>
                  </a:lnTo>
                  <a:lnTo>
                    <a:pt x="47" y="149"/>
                  </a:lnTo>
                  <a:lnTo>
                    <a:pt x="42" y="152"/>
                  </a:lnTo>
                  <a:lnTo>
                    <a:pt x="48" y="152"/>
                  </a:lnTo>
                  <a:lnTo>
                    <a:pt x="48" y="147"/>
                  </a:lnTo>
                  <a:lnTo>
                    <a:pt x="48" y="147"/>
                  </a:lnTo>
                  <a:lnTo>
                    <a:pt x="47" y="143"/>
                  </a:lnTo>
                  <a:lnTo>
                    <a:pt x="41" y="137"/>
                  </a:lnTo>
                  <a:lnTo>
                    <a:pt x="36" y="141"/>
                  </a:lnTo>
                  <a:lnTo>
                    <a:pt x="42" y="141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41" y="132"/>
                  </a:lnTo>
                  <a:lnTo>
                    <a:pt x="36" y="129"/>
                  </a:lnTo>
                  <a:lnTo>
                    <a:pt x="29" y="129"/>
                  </a:lnTo>
                  <a:lnTo>
                    <a:pt x="36" y="136"/>
                  </a:lnTo>
                  <a:lnTo>
                    <a:pt x="34" y="132"/>
                  </a:lnTo>
                  <a:lnTo>
                    <a:pt x="29" y="136"/>
                  </a:lnTo>
                  <a:lnTo>
                    <a:pt x="36" y="136"/>
                  </a:lnTo>
                  <a:lnTo>
                    <a:pt x="36" y="123"/>
                  </a:lnTo>
                  <a:lnTo>
                    <a:pt x="36" y="118"/>
                  </a:lnTo>
                  <a:lnTo>
                    <a:pt x="36" y="113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4" y="104"/>
                  </a:lnTo>
                  <a:lnTo>
                    <a:pt x="29" y="98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9" y="93"/>
                  </a:lnTo>
                  <a:lnTo>
                    <a:pt x="24" y="86"/>
                  </a:lnTo>
                  <a:lnTo>
                    <a:pt x="19" y="90"/>
                  </a:lnTo>
                  <a:lnTo>
                    <a:pt x="25" y="90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4" y="81"/>
                  </a:lnTo>
                  <a:lnTo>
                    <a:pt x="18" y="75"/>
                  </a:lnTo>
                  <a:lnTo>
                    <a:pt x="13" y="79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18" y="70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8"/>
                  </a:lnTo>
                  <a:lnTo>
                    <a:pt x="13" y="68"/>
                  </a:lnTo>
                  <a:lnTo>
                    <a:pt x="13" y="62"/>
                  </a:lnTo>
                  <a:lnTo>
                    <a:pt x="13" y="51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13" y="16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10" y="16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82960" y="4971960"/>
              <a:ext cx="168480" cy="82800"/>
            </a:xfrm>
            <a:custGeom>
              <a:avLst/>
              <a:gdLst/>
              <a:ahLst/>
              <a:rect l="l" t="t" r="r" b="b"/>
              <a:pathLst>
                <a:path w="134" h="62">
                  <a:moveTo>
                    <a:pt x="5" y="0"/>
                  </a:moveTo>
                  <a:lnTo>
                    <a:pt x="0" y="10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15" y="21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1"/>
                  </a:lnTo>
                  <a:lnTo>
                    <a:pt x="25" y="25"/>
                  </a:lnTo>
                  <a:lnTo>
                    <a:pt x="32" y="37"/>
                  </a:lnTo>
                  <a:lnTo>
                    <a:pt x="34" y="38"/>
                  </a:lnTo>
                  <a:lnTo>
                    <a:pt x="44" y="43"/>
                  </a:lnTo>
                  <a:lnTo>
                    <a:pt x="47" y="38"/>
                  </a:lnTo>
                  <a:lnTo>
                    <a:pt x="42" y="41"/>
                  </a:lnTo>
                  <a:lnTo>
                    <a:pt x="48" y="53"/>
                  </a:lnTo>
                  <a:lnTo>
                    <a:pt x="49" y="55"/>
                  </a:lnTo>
                  <a:lnTo>
                    <a:pt x="53" y="57"/>
                  </a:lnTo>
                  <a:lnTo>
                    <a:pt x="60" y="57"/>
                  </a:lnTo>
                  <a:lnTo>
                    <a:pt x="60" y="51"/>
                  </a:lnTo>
                  <a:lnTo>
                    <a:pt x="57" y="56"/>
                  </a:lnTo>
                  <a:lnTo>
                    <a:pt x="67" y="61"/>
                  </a:lnTo>
                  <a:lnTo>
                    <a:pt x="70" y="62"/>
                  </a:lnTo>
                  <a:lnTo>
                    <a:pt x="76" y="62"/>
                  </a:lnTo>
                  <a:lnTo>
                    <a:pt x="88" y="62"/>
                  </a:lnTo>
                  <a:lnTo>
                    <a:pt x="93" y="62"/>
                  </a:lnTo>
                  <a:lnTo>
                    <a:pt x="104" y="62"/>
                  </a:lnTo>
                  <a:lnTo>
                    <a:pt x="111" y="62"/>
                  </a:lnTo>
                  <a:lnTo>
                    <a:pt x="122" y="62"/>
                  </a:lnTo>
                  <a:lnTo>
                    <a:pt x="127" y="62"/>
                  </a:lnTo>
                  <a:lnTo>
                    <a:pt x="134" y="62"/>
                  </a:lnTo>
                  <a:lnTo>
                    <a:pt x="134" y="49"/>
                  </a:lnTo>
                  <a:lnTo>
                    <a:pt x="127" y="49"/>
                  </a:lnTo>
                  <a:lnTo>
                    <a:pt x="122" y="49"/>
                  </a:lnTo>
                  <a:lnTo>
                    <a:pt x="111" y="49"/>
                  </a:lnTo>
                  <a:lnTo>
                    <a:pt x="104" y="49"/>
                  </a:lnTo>
                  <a:lnTo>
                    <a:pt x="93" y="49"/>
                  </a:lnTo>
                  <a:lnTo>
                    <a:pt x="88" y="49"/>
                  </a:lnTo>
                  <a:lnTo>
                    <a:pt x="76" y="49"/>
                  </a:lnTo>
                  <a:lnTo>
                    <a:pt x="70" y="49"/>
                  </a:lnTo>
                  <a:lnTo>
                    <a:pt x="70" y="56"/>
                  </a:lnTo>
                  <a:lnTo>
                    <a:pt x="72" y="51"/>
                  </a:lnTo>
                  <a:lnTo>
                    <a:pt x="62" y="46"/>
                  </a:lnTo>
                  <a:lnTo>
                    <a:pt x="60" y="44"/>
                  </a:lnTo>
                  <a:lnTo>
                    <a:pt x="53" y="44"/>
                  </a:lnTo>
                  <a:lnTo>
                    <a:pt x="53" y="51"/>
                  </a:lnTo>
                  <a:lnTo>
                    <a:pt x="58" y="48"/>
                  </a:lnTo>
                  <a:lnTo>
                    <a:pt x="52" y="35"/>
                  </a:lnTo>
                  <a:lnTo>
                    <a:pt x="49" y="33"/>
                  </a:lnTo>
                  <a:lnTo>
                    <a:pt x="39" y="28"/>
                  </a:lnTo>
                  <a:lnTo>
                    <a:pt x="37" y="33"/>
                  </a:lnTo>
                  <a:lnTo>
                    <a:pt x="42" y="30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4" y="15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24" y="13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703760" y="4960800"/>
              <a:ext cx="58680" cy="3204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12"/>
                  </a:moveTo>
                  <a:lnTo>
                    <a:pt x="0" y="24"/>
                  </a:lnTo>
                  <a:lnTo>
                    <a:pt x="5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8" y="10"/>
                  </a:lnTo>
                  <a:lnTo>
                    <a:pt x="23" y="7"/>
                  </a:lnTo>
                  <a:lnTo>
                    <a:pt x="23" y="13"/>
                  </a:lnTo>
                  <a:lnTo>
                    <a:pt x="28" y="13"/>
                  </a:lnTo>
                  <a:lnTo>
                    <a:pt x="41" y="13"/>
                  </a:lnTo>
                  <a:lnTo>
                    <a:pt x="46" y="13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4" y="9"/>
                  </a:lnTo>
                  <a:lnTo>
                    <a:pt x="18" y="13"/>
                  </a:lnTo>
                  <a:lnTo>
                    <a:pt x="14" y="9"/>
                  </a:lnTo>
                  <a:lnTo>
                    <a:pt x="8" y="1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151160" y="4809960"/>
              <a:ext cx="100080" cy="19692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0" y="138"/>
                  </a:moveTo>
                  <a:lnTo>
                    <a:pt x="8" y="147"/>
                  </a:lnTo>
                  <a:lnTo>
                    <a:pt x="14" y="141"/>
                  </a:lnTo>
                  <a:lnTo>
                    <a:pt x="15" y="140"/>
                  </a:lnTo>
                  <a:lnTo>
                    <a:pt x="17" y="136"/>
                  </a:lnTo>
                  <a:lnTo>
                    <a:pt x="17" y="125"/>
                  </a:lnTo>
                  <a:lnTo>
                    <a:pt x="17" y="119"/>
                  </a:lnTo>
                  <a:lnTo>
                    <a:pt x="17" y="114"/>
                  </a:lnTo>
                  <a:lnTo>
                    <a:pt x="17" y="108"/>
                  </a:lnTo>
                  <a:lnTo>
                    <a:pt x="17" y="96"/>
                  </a:lnTo>
                  <a:lnTo>
                    <a:pt x="17" y="91"/>
                  </a:lnTo>
                  <a:lnTo>
                    <a:pt x="10" y="91"/>
                  </a:lnTo>
                  <a:lnTo>
                    <a:pt x="15" y="94"/>
                  </a:lnTo>
                  <a:lnTo>
                    <a:pt x="20" y="88"/>
                  </a:lnTo>
                  <a:lnTo>
                    <a:pt x="15" y="84"/>
                  </a:lnTo>
                  <a:lnTo>
                    <a:pt x="20" y="89"/>
                  </a:lnTo>
                  <a:lnTo>
                    <a:pt x="26" y="84"/>
                  </a:lnTo>
                  <a:lnTo>
                    <a:pt x="20" y="79"/>
                  </a:lnTo>
                  <a:lnTo>
                    <a:pt x="24" y="84"/>
                  </a:lnTo>
                  <a:lnTo>
                    <a:pt x="31" y="79"/>
                  </a:lnTo>
                  <a:lnTo>
                    <a:pt x="27" y="74"/>
                  </a:lnTo>
                  <a:lnTo>
                    <a:pt x="27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3" y="78"/>
                  </a:lnTo>
                  <a:lnTo>
                    <a:pt x="45" y="74"/>
                  </a:lnTo>
                  <a:lnTo>
                    <a:pt x="45" y="68"/>
                  </a:lnTo>
                  <a:lnTo>
                    <a:pt x="38" y="68"/>
                  </a:lnTo>
                  <a:lnTo>
                    <a:pt x="38" y="74"/>
                  </a:lnTo>
                  <a:lnTo>
                    <a:pt x="43" y="72"/>
                  </a:lnTo>
                  <a:lnTo>
                    <a:pt x="38" y="74"/>
                  </a:lnTo>
                  <a:lnTo>
                    <a:pt x="45" y="74"/>
                  </a:lnTo>
                  <a:lnTo>
                    <a:pt x="45" y="74"/>
                  </a:lnTo>
                  <a:lnTo>
                    <a:pt x="50" y="72"/>
                  </a:lnTo>
                  <a:lnTo>
                    <a:pt x="51" y="68"/>
                  </a:lnTo>
                  <a:lnTo>
                    <a:pt x="51" y="61"/>
                  </a:lnTo>
                  <a:lnTo>
                    <a:pt x="51" y="51"/>
                  </a:lnTo>
                  <a:lnTo>
                    <a:pt x="51" y="45"/>
                  </a:lnTo>
                  <a:lnTo>
                    <a:pt x="51" y="40"/>
                  </a:lnTo>
                  <a:lnTo>
                    <a:pt x="51" y="35"/>
                  </a:lnTo>
                  <a:lnTo>
                    <a:pt x="51" y="22"/>
                  </a:lnTo>
                  <a:lnTo>
                    <a:pt x="45" y="22"/>
                  </a:lnTo>
                  <a:lnTo>
                    <a:pt x="45" y="28"/>
                  </a:lnTo>
                  <a:lnTo>
                    <a:pt x="50" y="26"/>
                  </a:lnTo>
                  <a:lnTo>
                    <a:pt x="45" y="28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1" y="27"/>
                  </a:lnTo>
                  <a:lnTo>
                    <a:pt x="66" y="22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78" y="9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64" y="7"/>
                  </a:lnTo>
                  <a:lnTo>
                    <a:pt x="57" y="13"/>
                  </a:lnTo>
                  <a:lnTo>
                    <a:pt x="52" y="1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35"/>
                  </a:lnTo>
                  <a:lnTo>
                    <a:pt x="38" y="40"/>
                  </a:lnTo>
                  <a:lnTo>
                    <a:pt x="38" y="45"/>
                  </a:lnTo>
                  <a:lnTo>
                    <a:pt x="38" y="51"/>
                  </a:lnTo>
                  <a:lnTo>
                    <a:pt x="38" y="61"/>
                  </a:lnTo>
                  <a:lnTo>
                    <a:pt x="38" y="68"/>
                  </a:lnTo>
                  <a:lnTo>
                    <a:pt x="45" y="61"/>
                  </a:lnTo>
                  <a:lnTo>
                    <a:pt x="41" y="64"/>
                  </a:lnTo>
                  <a:lnTo>
                    <a:pt x="38" y="68"/>
                  </a:lnTo>
                  <a:lnTo>
                    <a:pt x="45" y="68"/>
                  </a:lnTo>
                  <a:lnTo>
                    <a:pt x="45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74"/>
                  </a:lnTo>
                  <a:lnTo>
                    <a:pt x="38" y="68"/>
                  </a:lnTo>
                  <a:lnTo>
                    <a:pt x="35" y="70"/>
                  </a:lnTo>
                  <a:lnTo>
                    <a:pt x="32" y="74"/>
                  </a:lnTo>
                  <a:lnTo>
                    <a:pt x="38" y="74"/>
                  </a:lnTo>
                  <a:lnTo>
                    <a:pt x="38" y="68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3" y="70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6" y="87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4" y="96"/>
                  </a:lnTo>
                  <a:lnTo>
                    <a:pt x="4" y="108"/>
                  </a:lnTo>
                  <a:lnTo>
                    <a:pt x="4" y="114"/>
                  </a:lnTo>
                  <a:lnTo>
                    <a:pt x="4" y="119"/>
                  </a:lnTo>
                  <a:lnTo>
                    <a:pt x="4" y="125"/>
                  </a:lnTo>
                  <a:lnTo>
                    <a:pt x="4" y="136"/>
                  </a:lnTo>
                  <a:lnTo>
                    <a:pt x="10" y="136"/>
                  </a:lnTo>
                  <a:lnTo>
                    <a:pt x="6" y="13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062240" y="4352760"/>
              <a:ext cx="154080" cy="158760"/>
            </a:xfrm>
            <a:custGeom>
              <a:avLst/>
              <a:gdLst/>
              <a:ahLst/>
              <a:rect l="l" t="t" r="r" b="b"/>
              <a:pathLst>
                <a:path w="122" h="118">
                  <a:moveTo>
                    <a:pt x="1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11" y="28"/>
                  </a:lnTo>
                  <a:lnTo>
                    <a:pt x="17" y="28"/>
                  </a:lnTo>
                  <a:lnTo>
                    <a:pt x="17" y="21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1" y="21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4" y="30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24" y="27"/>
                  </a:lnTo>
                  <a:lnTo>
                    <a:pt x="17" y="27"/>
                  </a:lnTo>
                  <a:lnTo>
                    <a:pt x="20" y="30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20" y="37"/>
                  </a:lnTo>
                  <a:lnTo>
                    <a:pt x="24" y="39"/>
                  </a:lnTo>
                  <a:lnTo>
                    <a:pt x="29" y="39"/>
                  </a:lnTo>
                  <a:lnTo>
                    <a:pt x="35" y="39"/>
                  </a:lnTo>
                  <a:lnTo>
                    <a:pt x="40" y="39"/>
                  </a:lnTo>
                  <a:lnTo>
                    <a:pt x="40" y="33"/>
                  </a:lnTo>
                  <a:lnTo>
                    <a:pt x="37" y="38"/>
                  </a:lnTo>
                  <a:lnTo>
                    <a:pt x="43" y="43"/>
                  </a:lnTo>
                  <a:lnTo>
                    <a:pt x="47" y="44"/>
                  </a:lnTo>
                  <a:lnTo>
                    <a:pt x="53" y="44"/>
                  </a:lnTo>
                  <a:lnTo>
                    <a:pt x="58" y="44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54" y="42"/>
                  </a:lnTo>
                  <a:lnTo>
                    <a:pt x="52" y="38"/>
                  </a:lnTo>
                  <a:lnTo>
                    <a:pt x="52" y="44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4" y="53"/>
                  </a:lnTo>
                  <a:lnTo>
                    <a:pt x="58" y="56"/>
                  </a:lnTo>
                  <a:lnTo>
                    <a:pt x="63" y="56"/>
                  </a:lnTo>
                  <a:lnTo>
                    <a:pt x="63" y="49"/>
                  </a:lnTo>
                  <a:lnTo>
                    <a:pt x="60" y="55"/>
                  </a:lnTo>
                  <a:lnTo>
                    <a:pt x="65" y="60"/>
                  </a:lnTo>
                  <a:lnTo>
                    <a:pt x="65" y="58"/>
                  </a:lnTo>
                  <a:lnTo>
                    <a:pt x="69" y="61"/>
                  </a:lnTo>
                  <a:lnTo>
                    <a:pt x="75" y="61"/>
                  </a:lnTo>
                  <a:lnTo>
                    <a:pt x="81" y="61"/>
                  </a:lnTo>
                  <a:lnTo>
                    <a:pt x="86" y="61"/>
                  </a:lnTo>
                  <a:lnTo>
                    <a:pt x="91" y="61"/>
                  </a:lnTo>
                  <a:lnTo>
                    <a:pt x="98" y="61"/>
                  </a:lnTo>
                  <a:lnTo>
                    <a:pt x="104" y="61"/>
                  </a:lnTo>
                  <a:lnTo>
                    <a:pt x="109" y="61"/>
                  </a:lnTo>
                  <a:lnTo>
                    <a:pt x="116" y="61"/>
                  </a:lnTo>
                  <a:lnTo>
                    <a:pt x="116" y="55"/>
                  </a:lnTo>
                  <a:lnTo>
                    <a:pt x="109" y="55"/>
                  </a:lnTo>
                  <a:lnTo>
                    <a:pt x="112" y="58"/>
                  </a:lnTo>
                  <a:lnTo>
                    <a:pt x="109" y="55"/>
                  </a:lnTo>
                  <a:lnTo>
                    <a:pt x="109" y="61"/>
                  </a:lnTo>
                  <a:lnTo>
                    <a:pt x="109" y="67"/>
                  </a:lnTo>
                  <a:lnTo>
                    <a:pt x="109" y="72"/>
                  </a:lnTo>
                  <a:lnTo>
                    <a:pt x="109" y="79"/>
                  </a:lnTo>
                  <a:lnTo>
                    <a:pt x="116" y="79"/>
                  </a:lnTo>
                  <a:lnTo>
                    <a:pt x="112" y="75"/>
                  </a:lnTo>
                  <a:lnTo>
                    <a:pt x="112" y="75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109" y="89"/>
                  </a:lnTo>
                  <a:lnTo>
                    <a:pt x="109" y="83"/>
                  </a:lnTo>
                  <a:lnTo>
                    <a:pt x="106" y="85"/>
                  </a:lnTo>
                  <a:lnTo>
                    <a:pt x="109" y="83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100" y="85"/>
                  </a:lnTo>
                  <a:lnTo>
                    <a:pt x="94" y="91"/>
                  </a:lnTo>
                  <a:lnTo>
                    <a:pt x="98" y="95"/>
                  </a:lnTo>
                  <a:lnTo>
                    <a:pt x="98" y="89"/>
                  </a:lnTo>
                  <a:lnTo>
                    <a:pt x="91" y="89"/>
                  </a:lnTo>
                  <a:lnTo>
                    <a:pt x="86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77" y="91"/>
                  </a:lnTo>
                  <a:lnTo>
                    <a:pt x="71" y="98"/>
                  </a:lnTo>
                  <a:lnTo>
                    <a:pt x="75" y="102"/>
                  </a:lnTo>
                  <a:lnTo>
                    <a:pt x="75" y="95"/>
                  </a:lnTo>
                  <a:lnTo>
                    <a:pt x="69" y="95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0" y="98"/>
                  </a:lnTo>
                  <a:lnTo>
                    <a:pt x="54" y="103"/>
                  </a:lnTo>
                  <a:lnTo>
                    <a:pt x="58" y="107"/>
                  </a:lnTo>
                  <a:lnTo>
                    <a:pt x="58" y="10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43" y="103"/>
                  </a:lnTo>
                  <a:lnTo>
                    <a:pt x="37" y="108"/>
                  </a:lnTo>
                  <a:lnTo>
                    <a:pt x="40" y="112"/>
                  </a:lnTo>
                  <a:lnTo>
                    <a:pt x="40" y="105"/>
                  </a:lnTo>
                  <a:lnTo>
                    <a:pt x="35" y="105"/>
                  </a:lnTo>
                  <a:lnTo>
                    <a:pt x="35" y="118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44" y="117"/>
                  </a:lnTo>
                  <a:lnTo>
                    <a:pt x="51" y="112"/>
                  </a:lnTo>
                  <a:lnTo>
                    <a:pt x="47" y="107"/>
                  </a:lnTo>
                  <a:lnTo>
                    <a:pt x="47" y="113"/>
                  </a:lnTo>
                  <a:lnTo>
                    <a:pt x="58" y="113"/>
                  </a:lnTo>
                  <a:lnTo>
                    <a:pt x="58" y="113"/>
                  </a:lnTo>
                  <a:lnTo>
                    <a:pt x="63" y="112"/>
                  </a:lnTo>
                  <a:lnTo>
                    <a:pt x="69" y="107"/>
                  </a:lnTo>
                  <a:lnTo>
                    <a:pt x="63" y="102"/>
                  </a:lnTo>
                  <a:lnTo>
                    <a:pt x="63" y="108"/>
                  </a:lnTo>
                  <a:lnTo>
                    <a:pt x="69" y="108"/>
                  </a:lnTo>
                  <a:lnTo>
                    <a:pt x="75" y="108"/>
                  </a:lnTo>
                  <a:lnTo>
                    <a:pt x="75" y="108"/>
                  </a:lnTo>
                  <a:lnTo>
                    <a:pt x="80" y="107"/>
                  </a:lnTo>
                  <a:lnTo>
                    <a:pt x="86" y="100"/>
                  </a:lnTo>
                  <a:lnTo>
                    <a:pt x="81" y="95"/>
                  </a:lnTo>
                  <a:lnTo>
                    <a:pt x="81" y="102"/>
                  </a:lnTo>
                  <a:lnTo>
                    <a:pt x="86" y="102"/>
                  </a:lnTo>
                  <a:lnTo>
                    <a:pt x="91" y="102"/>
                  </a:lnTo>
                  <a:lnTo>
                    <a:pt x="98" y="102"/>
                  </a:lnTo>
                  <a:lnTo>
                    <a:pt x="98" y="102"/>
                  </a:lnTo>
                  <a:lnTo>
                    <a:pt x="103" y="100"/>
                  </a:lnTo>
                  <a:lnTo>
                    <a:pt x="109" y="94"/>
                  </a:lnTo>
                  <a:lnTo>
                    <a:pt x="104" y="89"/>
                  </a:lnTo>
                  <a:lnTo>
                    <a:pt x="104" y="95"/>
                  </a:lnTo>
                  <a:lnTo>
                    <a:pt x="109" y="95"/>
                  </a:lnTo>
                  <a:lnTo>
                    <a:pt x="109" y="95"/>
                  </a:lnTo>
                  <a:lnTo>
                    <a:pt x="114" y="93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16" y="84"/>
                  </a:lnTo>
                  <a:lnTo>
                    <a:pt x="109" y="84"/>
                  </a:lnTo>
                  <a:lnTo>
                    <a:pt x="113" y="89"/>
                  </a:lnTo>
                  <a:lnTo>
                    <a:pt x="120" y="84"/>
                  </a:lnTo>
                  <a:lnTo>
                    <a:pt x="121" y="83"/>
                  </a:lnTo>
                  <a:lnTo>
                    <a:pt x="122" y="79"/>
                  </a:lnTo>
                  <a:lnTo>
                    <a:pt x="122" y="79"/>
                  </a:lnTo>
                  <a:lnTo>
                    <a:pt x="122" y="72"/>
                  </a:lnTo>
                  <a:lnTo>
                    <a:pt x="122" y="67"/>
                  </a:lnTo>
                  <a:lnTo>
                    <a:pt x="122" y="61"/>
                  </a:lnTo>
                  <a:lnTo>
                    <a:pt x="122" y="55"/>
                  </a:lnTo>
                  <a:lnTo>
                    <a:pt x="122" y="55"/>
                  </a:lnTo>
                  <a:lnTo>
                    <a:pt x="121" y="51"/>
                  </a:lnTo>
                  <a:lnTo>
                    <a:pt x="116" y="48"/>
                  </a:lnTo>
                  <a:lnTo>
                    <a:pt x="109" y="48"/>
                  </a:lnTo>
                  <a:lnTo>
                    <a:pt x="104" y="48"/>
                  </a:lnTo>
                  <a:lnTo>
                    <a:pt x="98" y="48"/>
                  </a:lnTo>
                  <a:lnTo>
                    <a:pt x="91" y="48"/>
                  </a:lnTo>
                  <a:lnTo>
                    <a:pt x="86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8"/>
                  </a:lnTo>
                  <a:lnTo>
                    <a:pt x="69" y="55"/>
                  </a:lnTo>
                  <a:lnTo>
                    <a:pt x="74" y="51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63" y="43"/>
                  </a:lnTo>
                  <a:lnTo>
                    <a:pt x="58" y="43"/>
                  </a:lnTo>
                  <a:lnTo>
                    <a:pt x="65" y="49"/>
                  </a:lnTo>
                  <a:lnTo>
                    <a:pt x="63" y="46"/>
                  </a:lnTo>
                  <a:lnTo>
                    <a:pt x="58" y="49"/>
                  </a:lnTo>
                  <a:lnTo>
                    <a:pt x="65" y="49"/>
                  </a:lnTo>
                  <a:lnTo>
                    <a:pt x="65" y="44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3" y="34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7" y="32"/>
                  </a:lnTo>
                  <a:lnTo>
                    <a:pt x="47" y="38"/>
                  </a:lnTo>
                  <a:lnTo>
                    <a:pt x="51" y="34"/>
                  </a:lnTo>
                  <a:lnTo>
                    <a:pt x="44" y="29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29" y="27"/>
                  </a:lnTo>
                  <a:lnTo>
                    <a:pt x="24" y="27"/>
                  </a:lnTo>
                  <a:lnTo>
                    <a:pt x="30" y="33"/>
                  </a:lnTo>
                  <a:lnTo>
                    <a:pt x="29" y="29"/>
                  </a:lnTo>
                  <a:lnTo>
                    <a:pt x="24" y="33"/>
                  </a:lnTo>
                  <a:lnTo>
                    <a:pt x="30" y="33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29" y="23"/>
                  </a:lnTo>
                  <a:lnTo>
                    <a:pt x="24" y="20"/>
                  </a:lnTo>
                  <a:lnTo>
                    <a:pt x="17" y="20"/>
                  </a:lnTo>
                  <a:lnTo>
                    <a:pt x="24" y="27"/>
                  </a:lnTo>
                  <a:lnTo>
                    <a:pt x="23" y="23"/>
                  </a:lnTo>
                  <a:lnTo>
                    <a:pt x="17" y="27"/>
                  </a:lnTo>
                  <a:lnTo>
                    <a:pt x="24" y="27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11" y="21"/>
                  </a:lnTo>
                  <a:lnTo>
                    <a:pt x="16" y="18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63960" y="3963960"/>
              <a:ext cx="27000" cy="381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7" y="0"/>
                  </a:moveTo>
                  <a:lnTo>
                    <a:pt x="0" y="9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4" y="9"/>
                  </a:lnTo>
                  <a:lnTo>
                    <a:pt x="4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10" y="28"/>
                  </a:lnTo>
                  <a:lnTo>
                    <a:pt x="15" y="28"/>
                  </a:lnTo>
                  <a:lnTo>
                    <a:pt x="15" y="22"/>
                  </a:lnTo>
                  <a:lnTo>
                    <a:pt x="9" y="22"/>
                  </a:lnTo>
                  <a:lnTo>
                    <a:pt x="11" y="26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21" y="27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0" y="18"/>
                  </a:lnTo>
                  <a:lnTo>
                    <a:pt x="15" y="16"/>
                  </a:lnTo>
                  <a:lnTo>
                    <a:pt x="10" y="16"/>
                  </a:lnTo>
                  <a:lnTo>
                    <a:pt x="16" y="22"/>
                  </a:lnTo>
                  <a:lnTo>
                    <a:pt x="15" y="18"/>
                  </a:lnTo>
                  <a:lnTo>
                    <a:pt x="10" y="22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50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925800" y="3833640"/>
              <a:ext cx="50760" cy="150840"/>
            </a:xfrm>
            <a:custGeom>
              <a:avLst/>
              <a:gdLst/>
              <a:ahLst/>
              <a:rect l="l" t="t" r="r" b="b"/>
              <a:pathLst>
                <a:path w="41" h="112">
                  <a:moveTo>
                    <a:pt x="23" y="0"/>
                  </a:moveTo>
                  <a:lnTo>
                    <a:pt x="13" y="7"/>
                  </a:lnTo>
                  <a:lnTo>
                    <a:pt x="18" y="14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7" y="16"/>
                  </a:lnTo>
                  <a:lnTo>
                    <a:pt x="17" y="21"/>
                  </a:lnTo>
                  <a:lnTo>
                    <a:pt x="17" y="26"/>
                  </a:lnTo>
                  <a:lnTo>
                    <a:pt x="17" y="31"/>
                  </a:lnTo>
                  <a:lnTo>
                    <a:pt x="23" y="31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18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8" y="40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87"/>
                  </a:lnTo>
                  <a:lnTo>
                    <a:pt x="4" y="89"/>
                  </a:lnTo>
                  <a:lnTo>
                    <a:pt x="15" y="94"/>
                  </a:lnTo>
                  <a:lnTo>
                    <a:pt x="18" y="89"/>
                  </a:lnTo>
                  <a:lnTo>
                    <a:pt x="12" y="89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4" y="99"/>
                  </a:lnTo>
                  <a:lnTo>
                    <a:pt x="18" y="101"/>
                  </a:lnTo>
                  <a:lnTo>
                    <a:pt x="23" y="101"/>
                  </a:lnTo>
                  <a:lnTo>
                    <a:pt x="29" y="101"/>
                  </a:lnTo>
                  <a:lnTo>
                    <a:pt x="35" y="101"/>
                  </a:lnTo>
                  <a:lnTo>
                    <a:pt x="35" y="95"/>
                  </a:lnTo>
                  <a:lnTo>
                    <a:pt x="28" y="95"/>
                  </a:lnTo>
                  <a:lnTo>
                    <a:pt x="31" y="99"/>
                  </a:lnTo>
                  <a:lnTo>
                    <a:pt x="28" y="95"/>
                  </a:lnTo>
                  <a:lnTo>
                    <a:pt x="28" y="100"/>
                  </a:lnTo>
                  <a:lnTo>
                    <a:pt x="28" y="112"/>
                  </a:lnTo>
                  <a:lnTo>
                    <a:pt x="41" y="112"/>
                  </a:lnTo>
                  <a:lnTo>
                    <a:pt x="41" y="100"/>
                  </a:lnTo>
                  <a:lnTo>
                    <a:pt x="41" y="95"/>
                  </a:lnTo>
                  <a:lnTo>
                    <a:pt x="41" y="95"/>
                  </a:lnTo>
                  <a:lnTo>
                    <a:pt x="40" y="91"/>
                  </a:lnTo>
                  <a:lnTo>
                    <a:pt x="35" y="89"/>
                  </a:lnTo>
                  <a:lnTo>
                    <a:pt x="29" y="89"/>
                  </a:lnTo>
                  <a:lnTo>
                    <a:pt x="23" y="89"/>
                  </a:lnTo>
                  <a:lnTo>
                    <a:pt x="18" y="89"/>
                  </a:lnTo>
                  <a:lnTo>
                    <a:pt x="24" y="95"/>
                  </a:lnTo>
                  <a:lnTo>
                    <a:pt x="23" y="91"/>
                  </a:lnTo>
                  <a:lnTo>
                    <a:pt x="18" y="95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23" y="85"/>
                  </a:lnTo>
                  <a:lnTo>
                    <a:pt x="21" y="84"/>
                  </a:lnTo>
                  <a:lnTo>
                    <a:pt x="9" y="78"/>
                  </a:lnTo>
                  <a:lnTo>
                    <a:pt x="6" y="84"/>
                  </a:lnTo>
                  <a:lnTo>
                    <a:pt x="13" y="84"/>
                  </a:lnTo>
                  <a:lnTo>
                    <a:pt x="13" y="78"/>
                  </a:lnTo>
                  <a:lnTo>
                    <a:pt x="13" y="72"/>
                  </a:lnTo>
                  <a:lnTo>
                    <a:pt x="13" y="66"/>
                  </a:lnTo>
                  <a:lnTo>
                    <a:pt x="13" y="61"/>
                  </a:lnTo>
                  <a:lnTo>
                    <a:pt x="13" y="54"/>
                  </a:lnTo>
                  <a:lnTo>
                    <a:pt x="6" y="54"/>
                  </a:lnTo>
                  <a:lnTo>
                    <a:pt x="12" y="57"/>
                  </a:lnTo>
                  <a:lnTo>
                    <a:pt x="17" y="47"/>
                  </a:lnTo>
                  <a:lnTo>
                    <a:pt x="12" y="44"/>
                  </a:lnTo>
                  <a:lnTo>
                    <a:pt x="12" y="51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23" y="48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38"/>
                  </a:lnTo>
                  <a:lnTo>
                    <a:pt x="18" y="38"/>
                  </a:lnTo>
                  <a:lnTo>
                    <a:pt x="23" y="42"/>
                  </a:lnTo>
                  <a:lnTo>
                    <a:pt x="28" y="35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21"/>
                  </a:lnTo>
                  <a:lnTo>
                    <a:pt x="29" y="16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89520" y="4518000"/>
              <a:ext cx="102960" cy="12384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0" y="93"/>
                  </a:moveTo>
                  <a:lnTo>
                    <a:pt x="13" y="93"/>
                  </a:lnTo>
                  <a:lnTo>
                    <a:pt x="13" y="86"/>
                  </a:lnTo>
                  <a:lnTo>
                    <a:pt x="13" y="81"/>
                  </a:lnTo>
                  <a:lnTo>
                    <a:pt x="7" y="81"/>
                  </a:lnTo>
                  <a:lnTo>
                    <a:pt x="12" y="85"/>
                  </a:lnTo>
                  <a:lnTo>
                    <a:pt x="12" y="86"/>
                  </a:lnTo>
                  <a:lnTo>
                    <a:pt x="18" y="80"/>
                  </a:lnTo>
                  <a:lnTo>
                    <a:pt x="18" y="79"/>
                  </a:lnTo>
                  <a:lnTo>
                    <a:pt x="19" y="75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13" y="75"/>
                  </a:lnTo>
                  <a:lnTo>
                    <a:pt x="18" y="72"/>
                  </a:lnTo>
                  <a:lnTo>
                    <a:pt x="13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3" y="72"/>
                  </a:lnTo>
                  <a:lnTo>
                    <a:pt x="24" y="69"/>
                  </a:lnTo>
                  <a:lnTo>
                    <a:pt x="24" y="64"/>
                  </a:lnTo>
                  <a:lnTo>
                    <a:pt x="18" y="64"/>
                  </a:lnTo>
                  <a:lnTo>
                    <a:pt x="23" y="67"/>
                  </a:lnTo>
                  <a:lnTo>
                    <a:pt x="22" y="69"/>
                  </a:lnTo>
                  <a:lnTo>
                    <a:pt x="28" y="64"/>
                  </a:lnTo>
                  <a:lnTo>
                    <a:pt x="30" y="62"/>
                  </a:lnTo>
                  <a:lnTo>
                    <a:pt x="31" y="58"/>
                  </a:lnTo>
                  <a:lnTo>
                    <a:pt x="31" y="52"/>
                  </a:lnTo>
                  <a:lnTo>
                    <a:pt x="31" y="47"/>
                  </a:lnTo>
                  <a:lnTo>
                    <a:pt x="31" y="41"/>
                  </a:lnTo>
                  <a:lnTo>
                    <a:pt x="31" y="36"/>
                  </a:lnTo>
                  <a:lnTo>
                    <a:pt x="31" y="30"/>
                  </a:lnTo>
                  <a:lnTo>
                    <a:pt x="24" y="30"/>
                  </a:lnTo>
                  <a:lnTo>
                    <a:pt x="24" y="37"/>
                  </a:lnTo>
                  <a:lnTo>
                    <a:pt x="30" y="34"/>
                  </a:lnTo>
                  <a:lnTo>
                    <a:pt x="24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1" y="28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41" y="30"/>
                  </a:lnTo>
                  <a:lnTo>
                    <a:pt x="47" y="30"/>
                  </a:lnTo>
                  <a:lnTo>
                    <a:pt x="52" y="30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64" y="28"/>
                  </a:lnTo>
                  <a:lnTo>
                    <a:pt x="65" y="24"/>
                  </a:lnTo>
                  <a:lnTo>
                    <a:pt x="65" y="19"/>
                  </a:lnTo>
                  <a:lnTo>
                    <a:pt x="59" y="19"/>
                  </a:lnTo>
                  <a:lnTo>
                    <a:pt x="64" y="23"/>
                  </a:lnTo>
                  <a:lnTo>
                    <a:pt x="69" y="16"/>
                  </a:lnTo>
                  <a:lnTo>
                    <a:pt x="64" y="13"/>
                  </a:lnTo>
                  <a:lnTo>
                    <a:pt x="64" y="19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74" y="18"/>
                  </a:lnTo>
                  <a:lnTo>
                    <a:pt x="81" y="11"/>
                  </a:lnTo>
                  <a:lnTo>
                    <a:pt x="75" y="6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2" y="2"/>
                  </a:lnTo>
                  <a:lnTo>
                    <a:pt x="65" y="9"/>
                  </a:lnTo>
                  <a:lnTo>
                    <a:pt x="69" y="13"/>
                  </a:lnTo>
                  <a:lnTo>
                    <a:pt x="69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55" y="15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9" y="18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59" y="24"/>
                  </a:lnTo>
                  <a:lnTo>
                    <a:pt x="59" y="18"/>
                  </a:lnTo>
                  <a:lnTo>
                    <a:pt x="52" y="18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7" y="27"/>
                  </a:lnTo>
                  <a:lnTo>
                    <a:pt x="31" y="30"/>
                  </a:lnTo>
                  <a:lnTo>
                    <a:pt x="3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1"/>
                  </a:lnTo>
                  <a:lnTo>
                    <a:pt x="18" y="47"/>
                  </a:lnTo>
                  <a:lnTo>
                    <a:pt x="18" y="52"/>
                  </a:lnTo>
                  <a:lnTo>
                    <a:pt x="18" y="58"/>
                  </a:lnTo>
                  <a:lnTo>
                    <a:pt x="24" y="58"/>
                  </a:lnTo>
                  <a:lnTo>
                    <a:pt x="21" y="55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2" y="69"/>
                  </a:lnTo>
                  <a:lnTo>
                    <a:pt x="18" y="62"/>
                  </a:lnTo>
                  <a:lnTo>
                    <a:pt x="14" y="65"/>
                  </a:lnTo>
                  <a:lnTo>
                    <a:pt x="12" y="69"/>
                  </a:lnTo>
                  <a:lnTo>
                    <a:pt x="18" y="69"/>
                  </a:lnTo>
                  <a:lnTo>
                    <a:pt x="18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7" y="75"/>
                  </a:lnTo>
                  <a:lnTo>
                    <a:pt x="13" y="75"/>
                  </a:lnTo>
                  <a:lnTo>
                    <a:pt x="9" y="71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589200" y="3324240"/>
              <a:ext cx="311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639960" y="3344760"/>
              <a:ext cx="2098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639960" y="3355920"/>
              <a:ext cx="2098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639960" y="3355920"/>
              <a:ext cx="23976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40240" y="335772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Torréon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860640" y="3295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827520" y="3689280"/>
              <a:ext cx="114120" cy="1429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9" y="0"/>
                  </a:moveTo>
                  <a:lnTo>
                    <a:pt x="0" y="8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0" y="14"/>
                  </a:lnTo>
                  <a:lnTo>
                    <a:pt x="16" y="20"/>
                  </a:lnTo>
                  <a:lnTo>
                    <a:pt x="21" y="16"/>
                  </a:lnTo>
                  <a:lnTo>
                    <a:pt x="14" y="16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7" y="25"/>
                  </a:lnTo>
                  <a:lnTo>
                    <a:pt x="21" y="28"/>
                  </a:lnTo>
                  <a:lnTo>
                    <a:pt x="27" y="28"/>
                  </a:lnTo>
                  <a:lnTo>
                    <a:pt x="27" y="21"/>
                  </a:lnTo>
                  <a:lnTo>
                    <a:pt x="23" y="26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32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37" y="26"/>
                  </a:lnTo>
                  <a:lnTo>
                    <a:pt x="40" y="30"/>
                  </a:lnTo>
                  <a:lnTo>
                    <a:pt x="37" y="26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0" y="36"/>
                  </a:lnTo>
                  <a:lnTo>
                    <a:pt x="44" y="39"/>
                  </a:lnTo>
                  <a:lnTo>
                    <a:pt x="49" y="39"/>
                  </a:lnTo>
                  <a:lnTo>
                    <a:pt x="62" y="39"/>
                  </a:lnTo>
                  <a:lnTo>
                    <a:pt x="67" y="39"/>
                  </a:lnTo>
                  <a:lnTo>
                    <a:pt x="79" y="39"/>
                  </a:lnTo>
                  <a:lnTo>
                    <a:pt x="79" y="33"/>
                  </a:lnTo>
                  <a:lnTo>
                    <a:pt x="73" y="33"/>
                  </a:lnTo>
                  <a:lnTo>
                    <a:pt x="76" y="36"/>
                  </a:lnTo>
                  <a:lnTo>
                    <a:pt x="73" y="33"/>
                  </a:lnTo>
                  <a:lnTo>
                    <a:pt x="73" y="38"/>
                  </a:lnTo>
                  <a:lnTo>
                    <a:pt x="73" y="50"/>
                  </a:lnTo>
                  <a:lnTo>
                    <a:pt x="73" y="56"/>
                  </a:lnTo>
                  <a:lnTo>
                    <a:pt x="73" y="56"/>
                  </a:lnTo>
                  <a:lnTo>
                    <a:pt x="74" y="58"/>
                  </a:lnTo>
                  <a:lnTo>
                    <a:pt x="79" y="70"/>
                  </a:lnTo>
                  <a:lnTo>
                    <a:pt x="84" y="67"/>
                  </a:lnTo>
                  <a:lnTo>
                    <a:pt x="78" y="67"/>
                  </a:lnTo>
                  <a:lnTo>
                    <a:pt x="78" y="72"/>
                  </a:lnTo>
                  <a:lnTo>
                    <a:pt x="78" y="77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8" y="95"/>
                  </a:lnTo>
                  <a:lnTo>
                    <a:pt x="78" y="106"/>
                  </a:lnTo>
                  <a:lnTo>
                    <a:pt x="91" y="106"/>
                  </a:lnTo>
                  <a:lnTo>
                    <a:pt x="91" y="95"/>
                  </a:lnTo>
                  <a:lnTo>
                    <a:pt x="91" y="89"/>
                  </a:lnTo>
                  <a:lnTo>
                    <a:pt x="91" y="83"/>
                  </a:lnTo>
                  <a:lnTo>
                    <a:pt x="91" y="77"/>
                  </a:lnTo>
                  <a:lnTo>
                    <a:pt x="91" y="72"/>
                  </a:lnTo>
                  <a:lnTo>
                    <a:pt x="91" y="67"/>
                  </a:lnTo>
                  <a:lnTo>
                    <a:pt x="91" y="67"/>
                  </a:lnTo>
                  <a:lnTo>
                    <a:pt x="90" y="64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86" y="56"/>
                  </a:lnTo>
                  <a:lnTo>
                    <a:pt x="86" y="50"/>
                  </a:lnTo>
                  <a:lnTo>
                    <a:pt x="86" y="3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4" y="29"/>
                  </a:lnTo>
                  <a:lnTo>
                    <a:pt x="79" y="26"/>
                  </a:lnTo>
                  <a:lnTo>
                    <a:pt x="67" y="26"/>
                  </a:lnTo>
                  <a:lnTo>
                    <a:pt x="62" y="26"/>
                  </a:lnTo>
                  <a:lnTo>
                    <a:pt x="49" y="26"/>
                  </a:lnTo>
                  <a:lnTo>
                    <a:pt x="44" y="26"/>
                  </a:lnTo>
                  <a:lnTo>
                    <a:pt x="50" y="33"/>
                  </a:lnTo>
                  <a:lnTo>
                    <a:pt x="49" y="29"/>
                  </a:lnTo>
                  <a:lnTo>
                    <a:pt x="44" y="33"/>
                  </a:lnTo>
                  <a:lnTo>
                    <a:pt x="50" y="33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22"/>
                  </a:lnTo>
                  <a:lnTo>
                    <a:pt x="44" y="20"/>
                  </a:lnTo>
                  <a:lnTo>
                    <a:pt x="32" y="20"/>
                  </a:lnTo>
                  <a:lnTo>
                    <a:pt x="32" y="26"/>
                  </a:lnTo>
                  <a:lnTo>
                    <a:pt x="37" y="22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1" y="1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1" y="21"/>
                  </a:lnTo>
                  <a:lnTo>
                    <a:pt x="27" y="2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6" y="12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780000" y="3411360"/>
              <a:ext cx="115560" cy="290520"/>
            </a:xfrm>
            <a:custGeom>
              <a:avLst/>
              <a:gdLst/>
              <a:ahLst/>
              <a:rect l="l" t="t" r="r" b="b"/>
              <a:pathLst>
                <a:path w="93" h="216">
                  <a:moveTo>
                    <a:pt x="93" y="0"/>
                  </a:moveTo>
                  <a:lnTo>
                    <a:pt x="80" y="0"/>
                  </a:lnTo>
                  <a:lnTo>
                    <a:pt x="80" y="6"/>
                  </a:lnTo>
                  <a:lnTo>
                    <a:pt x="80" y="17"/>
                  </a:lnTo>
                  <a:lnTo>
                    <a:pt x="80" y="24"/>
                  </a:lnTo>
                  <a:lnTo>
                    <a:pt x="80" y="29"/>
                  </a:lnTo>
                  <a:lnTo>
                    <a:pt x="87" y="29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5" y="34"/>
                  </a:lnTo>
                  <a:lnTo>
                    <a:pt x="75" y="45"/>
                  </a:lnTo>
                  <a:lnTo>
                    <a:pt x="82" y="45"/>
                  </a:lnTo>
                  <a:lnTo>
                    <a:pt x="82" y="39"/>
                  </a:lnTo>
                  <a:lnTo>
                    <a:pt x="78" y="42"/>
                  </a:lnTo>
                  <a:lnTo>
                    <a:pt x="82" y="39"/>
                  </a:lnTo>
                  <a:lnTo>
                    <a:pt x="77" y="39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1" y="48"/>
                  </a:lnTo>
                  <a:lnTo>
                    <a:pt x="65" y="52"/>
                  </a:lnTo>
                  <a:lnTo>
                    <a:pt x="61" y="48"/>
                  </a:lnTo>
                  <a:lnTo>
                    <a:pt x="55" y="53"/>
                  </a:lnTo>
                  <a:lnTo>
                    <a:pt x="59" y="57"/>
                  </a:lnTo>
                  <a:lnTo>
                    <a:pt x="59" y="50"/>
                  </a:lnTo>
                  <a:lnTo>
                    <a:pt x="54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5" y="53"/>
                  </a:lnTo>
                  <a:lnTo>
                    <a:pt x="38" y="59"/>
                  </a:lnTo>
                  <a:lnTo>
                    <a:pt x="33" y="64"/>
                  </a:lnTo>
                  <a:lnTo>
                    <a:pt x="37" y="68"/>
                  </a:lnTo>
                  <a:lnTo>
                    <a:pt x="37" y="62"/>
                  </a:lnTo>
                  <a:lnTo>
                    <a:pt x="31" y="6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0" y="64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3" y="73"/>
                  </a:lnTo>
                  <a:lnTo>
                    <a:pt x="13" y="86"/>
                  </a:lnTo>
                  <a:lnTo>
                    <a:pt x="13" y="91"/>
                  </a:lnTo>
                  <a:lnTo>
                    <a:pt x="19" y="91"/>
                  </a:lnTo>
                  <a:lnTo>
                    <a:pt x="19" y="85"/>
                  </a:lnTo>
                  <a:lnTo>
                    <a:pt x="15" y="87"/>
                  </a:lnTo>
                  <a:lnTo>
                    <a:pt x="19" y="85"/>
                  </a:lnTo>
                  <a:lnTo>
                    <a:pt x="13" y="85"/>
                  </a:lnTo>
                  <a:lnTo>
                    <a:pt x="13" y="85"/>
                  </a:lnTo>
                  <a:lnTo>
                    <a:pt x="9" y="87"/>
                  </a:lnTo>
                  <a:lnTo>
                    <a:pt x="8" y="89"/>
                  </a:lnTo>
                  <a:lnTo>
                    <a:pt x="1" y="100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3" y="169"/>
                  </a:lnTo>
                  <a:lnTo>
                    <a:pt x="6" y="171"/>
                  </a:lnTo>
                  <a:lnTo>
                    <a:pt x="19" y="171"/>
                  </a:lnTo>
                  <a:lnTo>
                    <a:pt x="19" y="165"/>
                  </a:lnTo>
                  <a:lnTo>
                    <a:pt x="13" y="165"/>
                  </a:lnTo>
                  <a:lnTo>
                    <a:pt x="15" y="169"/>
                  </a:lnTo>
                  <a:lnTo>
                    <a:pt x="13" y="165"/>
                  </a:lnTo>
                  <a:lnTo>
                    <a:pt x="13" y="170"/>
                  </a:lnTo>
                  <a:lnTo>
                    <a:pt x="13" y="181"/>
                  </a:lnTo>
                  <a:lnTo>
                    <a:pt x="13" y="181"/>
                  </a:lnTo>
                  <a:lnTo>
                    <a:pt x="14" y="185"/>
                  </a:lnTo>
                  <a:lnTo>
                    <a:pt x="19" y="192"/>
                  </a:lnTo>
                  <a:lnTo>
                    <a:pt x="24" y="188"/>
                  </a:lnTo>
                  <a:lnTo>
                    <a:pt x="18" y="188"/>
                  </a:lnTo>
                  <a:lnTo>
                    <a:pt x="18" y="193"/>
                  </a:lnTo>
                  <a:lnTo>
                    <a:pt x="18" y="204"/>
                  </a:lnTo>
                  <a:lnTo>
                    <a:pt x="18" y="204"/>
                  </a:lnTo>
                  <a:lnTo>
                    <a:pt x="20" y="208"/>
                  </a:lnTo>
                  <a:lnTo>
                    <a:pt x="23" y="211"/>
                  </a:lnTo>
                  <a:lnTo>
                    <a:pt x="36" y="216"/>
                  </a:lnTo>
                  <a:lnTo>
                    <a:pt x="40" y="204"/>
                  </a:lnTo>
                  <a:lnTo>
                    <a:pt x="27" y="199"/>
                  </a:lnTo>
                  <a:lnTo>
                    <a:pt x="31" y="204"/>
                  </a:lnTo>
                  <a:lnTo>
                    <a:pt x="29" y="200"/>
                  </a:lnTo>
                  <a:lnTo>
                    <a:pt x="24" y="204"/>
                  </a:lnTo>
                  <a:lnTo>
                    <a:pt x="31" y="204"/>
                  </a:lnTo>
                  <a:lnTo>
                    <a:pt x="31" y="193"/>
                  </a:lnTo>
                  <a:lnTo>
                    <a:pt x="31" y="188"/>
                  </a:lnTo>
                  <a:lnTo>
                    <a:pt x="31" y="188"/>
                  </a:lnTo>
                  <a:lnTo>
                    <a:pt x="29" y="184"/>
                  </a:lnTo>
                  <a:lnTo>
                    <a:pt x="24" y="178"/>
                  </a:lnTo>
                  <a:lnTo>
                    <a:pt x="19" y="181"/>
                  </a:lnTo>
                  <a:lnTo>
                    <a:pt x="26" y="181"/>
                  </a:lnTo>
                  <a:lnTo>
                    <a:pt x="26" y="170"/>
                  </a:lnTo>
                  <a:lnTo>
                    <a:pt x="26" y="165"/>
                  </a:lnTo>
                  <a:lnTo>
                    <a:pt x="26" y="165"/>
                  </a:lnTo>
                  <a:lnTo>
                    <a:pt x="24" y="161"/>
                  </a:lnTo>
                  <a:lnTo>
                    <a:pt x="19" y="159"/>
                  </a:lnTo>
                  <a:lnTo>
                    <a:pt x="6" y="159"/>
                  </a:lnTo>
                  <a:lnTo>
                    <a:pt x="13" y="165"/>
                  </a:lnTo>
                  <a:lnTo>
                    <a:pt x="11" y="161"/>
                  </a:lnTo>
                  <a:lnTo>
                    <a:pt x="6" y="165"/>
                  </a:lnTo>
                  <a:lnTo>
                    <a:pt x="13" y="165"/>
                  </a:lnTo>
                  <a:lnTo>
                    <a:pt x="13" y="160"/>
                  </a:lnTo>
                  <a:lnTo>
                    <a:pt x="13" y="147"/>
                  </a:lnTo>
                  <a:lnTo>
                    <a:pt x="13" y="142"/>
                  </a:lnTo>
                  <a:lnTo>
                    <a:pt x="13" y="136"/>
                  </a:lnTo>
                  <a:lnTo>
                    <a:pt x="13" y="131"/>
                  </a:lnTo>
                  <a:lnTo>
                    <a:pt x="13" y="120"/>
                  </a:lnTo>
                  <a:lnTo>
                    <a:pt x="13" y="108"/>
                  </a:lnTo>
                  <a:lnTo>
                    <a:pt x="13" y="103"/>
                  </a:lnTo>
                  <a:lnTo>
                    <a:pt x="6" y="103"/>
                  </a:lnTo>
                  <a:lnTo>
                    <a:pt x="11" y="106"/>
                  </a:lnTo>
                  <a:lnTo>
                    <a:pt x="18" y="95"/>
                  </a:lnTo>
                  <a:lnTo>
                    <a:pt x="13" y="91"/>
                  </a:lnTo>
                  <a:lnTo>
                    <a:pt x="13" y="98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24" y="95"/>
                  </a:lnTo>
                  <a:lnTo>
                    <a:pt x="26" y="91"/>
                  </a:lnTo>
                  <a:lnTo>
                    <a:pt x="26" y="91"/>
                  </a:lnTo>
                  <a:lnTo>
                    <a:pt x="26" y="86"/>
                  </a:lnTo>
                  <a:lnTo>
                    <a:pt x="26" y="73"/>
                  </a:lnTo>
                  <a:lnTo>
                    <a:pt x="19" y="73"/>
                  </a:lnTo>
                  <a:lnTo>
                    <a:pt x="24" y="78"/>
                  </a:lnTo>
                  <a:lnTo>
                    <a:pt x="29" y="73"/>
                  </a:lnTo>
                  <a:lnTo>
                    <a:pt x="24" y="68"/>
                  </a:lnTo>
                  <a:lnTo>
                    <a:pt x="24" y="75"/>
                  </a:lnTo>
                  <a:lnTo>
                    <a:pt x="31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42" y="73"/>
                  </a:lnTo>
                  <a:lnTo>
                    <a:pt x="47" y="68"/>
                  </a:lnTo>
                  <a:lnTo>
                    <a:pt x="54" y="62"/>
                  </a:lnTo>
                  <a:lnTo>
                    <a:pt x="48" y="57"/>
                  </a:lnTo>
                  <a:lnTo>
                    <a:pt x="48" y="63"/>
                  </a:lnTo>
                  <a:lnTo>
                    <a:pt x="54" y="6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3" y="62"/>
                  </a:lnTo>
                  <a:lnTo>
                    <a:pt x="69" y="57"/>
                  </a:lnTo>
                  <a:lnTo>
                    <a:pt x="70" y="56"/>
                  </a:lnTo>
                  <a:lnTo>
                    <a:pt x="75" y="49"/>
                  </a:lnTo>
                  <a:lnTo>
                    <a:pt x="70" y="45"/>
                  </a:lnTo>
                  <a:lnTo>
                    <a:pt x="70" y="52"/>
                  </a:lnTo>
                  <a:lnTo>
                    <a:pt x="77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7" y="49"/>
                  </a:lnTo>
                  <a:lnTo>
                    <a:pt x="88" y="45"/>
                  </a:lnTo>
                  <a:lnTo>
                    <a:pt x="88" y="45"/>
                  </a:lnTo>
                  <a:lnTo>
                    <a:pt x="88" y="34"/>
                  </a:lnTo>
                  <a:lnTo>
                    <a:pt x="82" y="34"/>
                  </a:lnTo>
                  <a:lnTo>
                    <a:pt x="87" y="39"/>
                  </a:lnTo>
                  <a:lnTo>
                    <a:pt x="92" y="34"/>
                  </a:lnTo>
                  <a:lnTo>
                    <a:pt x="92" y="33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4"/>
                  </a:lnTo>
                  <a:lnTo>
                    <a:pt x="93" y="17"/>
                  </a:lnTo>
                  <a:lnTo>
                    <a:pt x="93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149720" y="3357720"/>
              <a:ext cx="331920" cy="85680"/>
            </a:xfrm>
            <a:custGeom>
              <a:avLst/>
              <a:gdLst/>
              <a:ahLst/>
              <a:rect l="l" t="t" r="r" b="b"/>
              <a:pathLst>
                <a:path w="265" h="64">
                  <a:moveTo>
                    <a:pt x="12" y="12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6" y="23"/>
                  </a:lnTo>
                  <a:lnTo>
                    <a:pt x="12" y="23"/>
                  </a:lnTo>
                  <a:lnTo>
                    <a:pt x="12" y="17"/>
                  </a:lnTo>
                  <a:lnTo>
                    <a:pt x="7" y="21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7" y="29"/>
                  </a:lnTo>
                  <a:lnTo>
                    <a:pt x="22" y="29"/>
                  </a:lnTo>
                  <a:lnTo>
                    <a:pt x="22" y="23"/>
                  </a:lnTo>
                  <a:lnTo>
                    <a:pt x="19" y="28"/>
                  </a:lnTo>
                  <a:lnTo>
                    <a:pt x="25" y="35"/>
                  </a:lnTo>
                  <a:lnTo>
                    <a:pt x="25" y="33"/>
                  </a:lnTo>
                  <a:lnTo>
                    <a:pt x="29" y="36"/>
                  </a:lnTo>
                  <a:lnTo>
                    <a:pt x="34" y="35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45" y="21"/>
                  </a:lnTo>
                  <a:lnTo>
                    <a:pt x="40" y="17"/>
                  </a:lnTo>
                  <a:lnTo>
                    <a:pt x="44" y="22"/>
                  </a:lnTo>
                  <a:lnTo>
                    <a:pt x="51" y="17"/>
                  </a:lnTo>
                  <a:lnTo>
                    <a:pt x="47" y="12"/>
                  </a:lnTo>
                  <a:lnTo>
                    <a:pt x="47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6" y="17"/>
                  </a:lnTo>
                  <a:lnTo>
                    <a:pt x="62" y="12"/>
                  </a:lnTo>
                  <a:lnTo>
                    <a:pt x="58" y="7"/>
                  </a:lnTo>
                  <a:lnTo>
                    <a:pt x="58" y="13"/>
                  </a:lnTo>
                  <a:lnTo>
                    <a:pt x="63" y="13"/>
                  </a:lnTo>
                  <a:lnTo>
                    <a:pt x="70" y="13"/>
                  </a:lnTo>
                  <a:lnTo>
                    <a:pt x="75" y="13"/>
                  </a:lnTo>
                  <a:lnTo>
                    <a:pt x="80" y="13"/>
                  </a:lnTo>
                  <a:lnTo>
                    <a:pt x="80" y="7"/>
                  </a:lnTo>
                  <a:lnTo>
                    <a:pt x="74" y="7"/>
                  </a:lnTo>
                  <a:lnTo>
                    <a:pt x="76" y="10"/>
                  </a:lnTo>
                  <a:lnTo>
                    <a:pt x="74" y="7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6" y="15"/>
                  </a:lnTo>
                  <a:lnTo>
                    <a:pt x="80" y="18"/>
                  </a:lnTo>
                  <a:lnTo>
                    <a:pt x="86" y="18"/>
                  </a:lnTo>
                  <a:lnTo>
                    <a:pt x="86" y="12"/>
                  </a:lnTo>
                  <a:lnTo>
                    <a:pt x="82" y="17"/>
                  </a:lnTo>
                  <a:lnTo>
                    <a:pt x="89" y="22"/>
                  </a:lnTo>
                  <a:lnTo>
                    <a:pt x="93" y="23"/>
                  </a:lnTo>
                  <a:lnTo>
                    <a:pt x="98" y="23"/>
                  </a:lnTo>
                  <a:lnTo>
                    <a:pt x="98" y="17"/>
                  </a:lnTo>
                  <a:lnTo>
                    <a:pt x="91" y="17"/>
                  </a:lnTo>
                  <a:lnTo>
                    <a:pt x="94" y="21"/>
                  </a:lnTo>
                  <a:lnTo>
                    <a:pt x="91" y="17"/>
                  </a:lnTo>
                  <a:lnTo>
                    <a:pt x="91" y="23"/>
                  </a:lnTo>
                  <a:lnTo>
                    <a:pt x="91" y="23"/>
                  </a:lnTo>
                  <a:lnTo>
                    <a:pt x="94" y="27"/>
                  </a:lnTo>
                  <a:lnTo>
                    <a:pt x="98" y="29"/>
                  </a:lnTo>
                  <a:lnTo>
                    <a:pt x="103" y="29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14" y="27"/>
                  </a:lnTo>
                  <a:lnTo>
                    <a:pt x="116" y="23"/>
                  </a:lnTo>
                  <a:lnTo>
                    <a:pt x="116" y="17"/>
                  </a:lnTo>
                  <a:lnTo>
                    <a:pt x="109" y="17"/>
                  </a:lnTo>
                  <a:lnTo>
                    <a:pt x="109" y="23"/>
                  </a:lnTo>
                  <a:lnTo>
                    <a:pt x="114" y="21"/>
                  </a:lnTo>
                  <a:lnTo>
                    <a:pt x="109" y="23"/>
                  </a:lnTo>
                  <a:lnTo>
                    <a:pt x="116" y="23"/>
                  </a:lnTo>
                  <a:lnTo>
                    <a:pt x="116" y="23"/>
                  </a:lnTo>
                  <a:lnTo>
                    <a:pt x="121" y="21"/>
                  </a:lnTo>
                  <a:lnTo>
                    <a:pt x="122" y="17"/>
                  </a:lnTo>
                  <a:lnTo>
                    <a:pt x="122" y="12"/>
                  </a:lnTo>
                  <a:lnTo>
                    <a:pt x="116" y="12"/>
                  </a:lnTo>
                  <a:lnTo>
                    <a:pt x="116" y="18"/>
                  </a:lnTo>
                  <a:lnTo>
                    <a:pt x="121" y="15"/>
                  </a:lnTo>
                  <a:lnTo>
                    <a:pt x="116" y="18"/>
                  </a:lnTo>
                  <a:lnTo>
                    <a:pt x="121" y="18"/>
                  </a:lnTo>
                  <a:lnTo>
                    <a:pt x="127" y="18"/>
                  </a:lnTo>
                  <a:lnTo>
                    <a:pt x="132" y="18"/>
                  </a:lnTo>
                  <a:lnTo>
                    <a:pt x="139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5" y="18"/>
                  </a:lnTo>
                  <a:lnTo>
                    <a:pt x="160" y="18"/>
                  </a:lnTo>
                  <a:lnTo>
                    <a:pt x="167" y="18"/>
                  </a:lnTo>
                  <a:lnTo>
                    <a:pt x="167" y="12"/>
                  </a:lnTo>
                  <a:lnTo>
                    <a:pt x="163" y="17"/>
                  </a:lnTo>
                  <a:lnTo>
                    <a:pt x="169" y="22"/>
                  </a:lnTo>
                  <a:lnTo>
                    <a:pt x="173" y="17"/>
                  </a:lnTo>
                  <a:lnTo>
                    <a:pt x="167" y="17"/>
                  </a:lnTo>
                  <a:lnTo>
                    <a:pt x="167" y="23"/>
                  </a:lnTo>
                  <a:lnTo>
                    <a:pt x="167" y="23"/>
                  </a:lnTo>
                  <a:lnTo>
                    <a:pt x="169" y="27"/>
                  </a:lnTo>
                  <a:lnTo>
                    <a:pt x="173" y="29"/>
                  </a:lnTo>
                  <a:lnTo>
                    <a:pt x="178" y="29"/>
                  </a:lnTo>
                  <a:lnTo>
                    <a:pt x="178" y="23"/>
                  </a:lnTo>
                  <a:lnTo>
                    <a:pt x="173" y="27"/>
                  </a:lnTo>
                  <a:lnTo>
                    <a:pt x="178" y="33"/>
                  </a:lnTo>
                  <a:lnTo>
                    <a:pt x="181" y="35"/>
                  </a:lnTo>
                  <a:lnTo>
                    <a:pt x="188" y="40"/>
                  </a:lnTo>
                  <a:lnTo>
                    <a:pt x="191" y="41"/>
                  </a:lnTo>
                  <a:lnTo>
                    <a:pt x="196" y="41"/>
                  </a:lnTo>
                  <a:lnTo>
                    <a:pt x="196" y="35"/>
                  </a:lnTo>
                  <a:lnTo>
                    <a:pt x="192" y="40"/>
                  </a:lnTo>
                  <a:lnTo>
                    <a:pt x="197" y="45"/>
                  </a:lnTo>
                  <a:lnTo>
                    <a:pt x="197" y="43"/>
                  </a:lnTo>
                  <a:lnTo>
                    <a:pt x="201" y="46"/>
                  </a:lnTo>
                  <a:lnTo>
                    <a:pt x="208" y="46"/>
                  </a:lnTo>
                  <a:lnTo>
                    <a:pt x="208" y="40"/>
                  </a:lnTo>
                  <a:lnTo>
                    <a:pt x="202" y="43"/>
                  </a:lnTo>
                  <a:lnTo>
                    <a:pt x="208" y="50"/>
                  </a:lnTo>
                  <a:lnTo>
                    <a:pt x="209" y="51"/>
                  </a:lnTo>
                  <a:lnTo>
                    <a:pt x="215" y="56"/>
                  </a:lnTo>
                  <a:lnTo>
                    <a:pt x="219" y="51"/>
                  </a:lnTo>
                  <a:lnTo>
                    <a:pt x="214" y="55"/>
                  </a:lnTo>
                  <a:lnTo>
                    <a:pt x="219" y="61"/>
                  </a:lnTo>
                  <a:lnTo>
                    <a:pt x="220" y="61"/>
                  </a:lnTo>
                  <a:lnTo>
                    <a:pt x="224" y="64"/>
                  </a:lnTo>
                  <a:lnTo>
                    <a:pt x="229" y="64"/>
                  </a:lnTo>
                  <a:lnTo>
                    <a:pt x="236" y="64"/>
                  </a:lnTo>
                  <a:lnTo>
                    <a:pt x="236" y="64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6" y="55"/>
                  </a:lnTo>
                  <a:lnTo>
                    <a:pt x="241" y="51"/>
                  </a:lnTo>
                  <a:lnTo>
                    <a:pt x="241" y="57"/>
                  </a:lnTo>
                  <a:lnTo>
                    <a:pt x="247" y="57"/>
                  </a:lnTo>
                  <a:lnTo>
                    <a:pt x="253" y="57"/>
                  </a:lnTo>
                  <a:lnTo>
                    <a:pt x="265" y="57"/>
                  </a:lnTo>
                  <a:lnTo>
                    <a:pt x="265" y="45"/>
                  </a:lnTo>
                  <a:lnTo>
                    <a:pt x="253" y="45"/>
                  </a:lnTo>
                  <a:lnTo>
                    <a:pt x="247" y="45"/>
                  </a:lnTo>
                  <a:lnTo>
                    <a:pt x="241" y="45"/>
                  </a:lnTo>
                  <a:lnTo>
                    <a:pt x="241" y="45"/>
                  </a:lnTo>
                  <a:lnTo>
                    <a:pt x="237" y="47"/>
                  </a:lnTo>
                  <a:lnTo>
                    <a:pt x="237" y="47"/>
                  </a:lnTo>
                  <a:lnTo>
                    <a:pt x="232" y="54"/>
                  </a:lnTo>
                  <a:lnTo>
                    <a:pt x="236" y="57"/>
                  </a:lnTo>
                  <a:lnTo>
                    <a:pt x="236" y="51"/>
                  </a:lnTo>
                  <a:lnTo>
                    <a:pt x="229" y="51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9" y="54"/>
                  </a:lnTo>
                  <a:lnTo>
                    <a:pt x="224" y="47"/>
                  </a:lnTo>
                  <a:lnTo>
                    <a:pt x="223" y="47"/>
                  </a:lnTo>
                  <a:lnTo>
                    <a:pt x="216" y="42"/>
                  </a:lnTo>
                  <a:lnTo>
                    <a:pt x="213" y="46"/>
                  </a:lnTo>
                  <a:lnTo>
                    <a:pt x="218" y="42"/>
                  </a:lnTo>
                  <a:lnTo>
                    <a:pt x="213" y="36"/>
                  </a:lnTo>
                  <a:lnTo>
                    <a:pt x="213" y="36"/>
                  </a:lnTo>
                  <a:lnTo>
                    <a:pt x="208" y="33"/>
                  </a:lnTo>
                  <a:lnTo>
                    <a:pt x="201" y="33"/>
                  </a:lnTo>
                  <a:lnTo>
                    <a:pt x="201" y="40"/>
                  </a:lnTo>
                  <a:lnTo>
                    <a:pt x="206" y="36"/>
                  </a:lnTo>
                  <a:lnTo>
                    <a:pt x="201" y="31"/>
                  </a:lnTo>
                  <a:lnTo>
                    <a:pt x="201" y="31"/>
                  </a:lnTo>
                  <a:lnTo>
                    <a:pt x="196" y="28"/>
                  </a:lnTo>
                  <a:lnTo>
                    <a:pt x="191" y="28"/>
                  </a:lnTo>
                  <a:lnTo>
                    <a:pt x="191" y="35"/>
                  </a:lnTo>
                  <a:lnTo>
                    <a:pt x="195" y="29"/>
                  </a:lnTo>
                  <a:lnTo>
                    <a:pt x="187" y="24"/>
                  </a:lnTo>
                  <a:lnTo>
                    <a:pt x="183" y="29"/>
                  </a:lnTo>
                  <a:lnTo>
                    <a:pt x="188" y="26"/>
                  </a:lnTo>
                  <a:lnTo>
                    <a:pt x="183" y="19"/>
                  </a:lnTo>
                  <a:lnTo>
                    <a:pt x="183" y="19"/>
                  </a:lnTo>
                  <a:lnTo>
                    <a:pt x="178" y="17"/>
                  </a:lnTo>
                  <a:lnTo>
                    <a:pt x="173" y="17"/>
                  </a:lnTo>
                  <a:lnTo>
                    <a:pt x="179" y="23"/>
                  </a:lnTo>
                  <a:lnTo>
                    <a:pt x="178" y="19"/>
                  </a:lnTo>
                  <a:lnTo>
                    <a:pt x="173" y="23"/>
                  </a:lnTo>
                  <a:lnTo>
                    <a:pt x="179" y="23"/>
                  </a:lnTo>
                  <a:lnTo>
                    <a:pt x="179" y="17"/>
                  </a:lnTo>
                  <a:lnTo>
                    <a:pt x="179" y="17"/>
                  </a:lnTo>
                  <a:lnTo>
                    <a:pt x="178" y="13"/>
                  </a:lnTo>
                  <a:lnTo>
                    <a:pt x="177" y="13"/>
                  </a:lnTo>
                  <a:lnTo>
                    <a:pt x="171" y="8"/>
                  </a:lnTo>
                  <a:lnTo>
                    <a:pt x="167" y="5"/>
                  </a:lnTo>
                  <a:lnTo>
                    <a:pt x="160" y="5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39" y="5"/>
                  </a:lnTo>
                  <a:lnTo>
                    <a:pt x="132" y="5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2" y="8"/>
                  </a:lnTo>
                  <a:lnTo>
                    <a:pt x="109" y="12"/>
                  </a:lnTo>
                  <a:lnTo>
                    <a:pt x="109" y="12"/>
                  </a:lnTo>
                  <a:lnTo>
                    <a:pt x="109" y="17"/>
                  </a:lnTo>
                  <a:lnTo>
                    <a:pt x="116" y="10"/>
                  </a:lnTo>
                  <a:lnTo>
                    <a:pt x="112" y="13"/>
                  </a:lnTo>
                  <a:lnTo>
                    <a:pt x="109" y="17"/>
                  </a:lnTo>
                  <a:lnTo>
                    <a:pt x="116" y="17"/>
                  </a:lnTo>
                  <a:lnTo>
                    <a:pt x="116" y="10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5" y="13"/>
                  </a:lnTo>
                  <a:lnTo>
                    <a:pt x="103" y="17"/>
                  </a:lnTo>
                  <a:lnTo>
                    <a:pt x="103" y="17"/>
                  </a:lnTo>
                  <a:lnTo>
                    <a:pt x="103" y="23"/>
                  </a:lnTo>
                  <a:lnTo>
                    <a:pt x="109" y="17"/>
                  </a:lnTo>
                  <a:lnTo>
                    <a:pt x="105" y="19"/>
                  </a:lnTo>
                  <a:lnTo>
                    <a:pt x="103" y="23"/>
                  </a:lnTo>
                  <a:lnTo>
                    <a:pt x="109" y="23"/>
                  </a:lnTo>
                  <a:lnTo>
                    <a:pt x="109" y="17"/>
                  </a:lnTo>
                  <a:lnTo>
                    <a:pt x="103" y="17"/>
                  </a:lnTo>
                  <a:lnTo>
                    <a:pt x="98" y="17"/>
                  </a:lnTo>
                  <a:lnTo>
                    <a:pt x="104" y="23"/>
                  </a:lnTo>
                  <a:lnTo>
                    <a:pt x="103" y="19"/>
                  </a:lnTo>
                  <a:lnTo>
                    <a:pt x="98" y="23"/>
                  </a:lnTo>
                  <a:lnTo>
                    <a:pt x="104" y="23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103" y="13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93" y="17"/>
                  </a:lnTo>
                  <a:lnTo>
                    <a:pt x="96" y="13"/>
                  </a:lnTo>
                  <a:lnTo>
                    <a:pt x="90" y="8"/>
                  </a:lnTo>
                  <a:lnTo>
                    <a:pt x="86" y="5"/>
                  </a:lnTo>
                  <a:lnTo>
                    <a:pt x="80" y="5"/>
                  </a:lnTo>
                  <a:lnTo>
                    <a:pt x="86" y="12"/>
                  </a:lnTo>
                  <a:lnTo>
                    <a:pt x="85" y="8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86" y="7"/>
                  </a:lnTo>
                  <a:lnTo>
                    <a:pt x="86" y="7"/>
                  </a:lnTo>
                  <a:lnTo>
                    <a:pt x="85" y="3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4" y="3"/>
                  </a:lnTo>
                  <a:lnTo>
                    <a:pt x="48" y="8"/>
                  </a:lnTo>
                  <a:lnTo>
                    <a:pt x="52" y="12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3" y="8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1" y="19"/>
                  </a:lnTo>
                  <a:lnTo>
                    <a:pt x="35" y="23"/>
                  </a:lnTo>
                  <a:lnTo>
                    <a:pt x="31" y="19"/>
                  </a:lnTo>
                  <a:lnTo>
                    <a:pt x="25" y="26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9" y="29"/>
                  </a:lnTo>
                  <a:lnTo>
                    <a:pt x="34" y="26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23"/>
                  </a:lnTo>
                  <a:lnTo>
                    <a:pt x="22" y="19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2" y="10"/>
                  </a:lnTo>
                  <a:lnTo>
                    <a:pt x="6" y="10"/>
                  </a:lnTo>
                  <a:lnTo>
                    <a:pt x="12" y="17"/>
                  </a:lnTo>
                  <a:lnTo>
                    <a:pt x="11" y="13"/>
                  </a:lnTo>
                  <a:lnTo>
                    <a:pt x="6" y="17"/>
                  </a:lnTo>
                  <a:lnTo>
                    <a:pt x="12" y="17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173560" y="5014800"/>
              <a:ext cx="138240" cy="540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40"/>
                  </a:moveTo>
                  <a:lnTo>
                    <a:pt x="13" y="40"/>
                  </a:lnTo>
                  <a:lnTo>
                    <a:pt x="13" y="35"/>
                  </a:lnTo>
                  <a:lnTo>
                    <a:pt x="6" y="35"/>
                  </a:lnTo>
                  <a:lnTo>
                    <a:pt x="11" y="39"/>
                  </a:lnTo>
                  <a:lnTo>
                    <a:pt x="11" y="40"/>
                  </a:lnTo>
                  <a:lnTo>
                    <a:pt x="17" y="35"/>
                  </a:lnTo>
                  <a:lnTo>
                    <a:pt x="23" y="29"/>
                  </a:lnTo>
                  <a:lnTo>
                    <a:pt x="28" y="24"/>
                  </a:lnTo>
                  <a:lnTo>
                    <a:pt x="23" y="19"/>
                  </a:lnTo>
                  <a:lnTo>
                    <a:pt x="23" y="25"/>
                  </a:lnTo>
                  <a:lnTo>
                    <a:pt x="29" y="25"/>
                  </a:lnTo>
                  <a:lnTo>
                    <a:pt x="36" y="25"/>
                  </a:lnTo>
                  <a:lnTo>
                    <a:pt x="41" y="25"/>
                  </a:lnTo>
                  <a:lnTo>
                    <a:pt x="46" y="25"/>
                  </a:lnTo>
                  <a:lnTo>
                    <a:pt x="52" y="25"/>
                  </a:lnTo>
                  <a:lnTo>
                    <a:pt x="57" y="25"/>
                  </a:lnTo>
                  <a:lnTo>
                    <a:pt x="64" y="25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3"/>
                  </a:lnTo>
                  <a:lnTo>
                    <a:pt x="82" y="19"/>
                  </a:lnTo>
                  <a:lnTo>
                    <a:pt x="82" y="12"/>
                  </a:lnTo>
                  <a:lnTo>
                    <a:pt x="75" y="12"/>
                  </a:lnTo>
                  <a:lnTo>
                    <a:pt x="80" y="16"/>
                  </a:lnTo>
                  <a:lnTo>
                    <a:pt x="85" y="10"/>
                  </a:lnTo>
                  <a:lnTo>
                    <a:pt x="80" y="6"/>
                  </a:lnTo>
                  <a:lnTo>
                    <a:pt x="77" y="10"/>
                  </a:lnTo>
                  <a:lnTo>
                    <a:pt x="80" y="12"/>
                  </a:lnTo>
                  <a:lnTo>
                    <a:pt x="85" y="10"/>
                  </a:lnTo>
                  <a:lnTo>
                    <a:pt x="77" y="11"/>
                  </a:lnTo>
                  <a:lnTo>
                    <a:pt x="83" y="17"/>
                  </a:lnTo>
                  <a:lnTo>
                    <a:pt x="83" y="16"/>
                  </a:lnTo>
                  <a:lnTo>
                    <a:pt x="87" y="19"/>
                  </a:lnTo>
                  <a:lnTo>
                    <a:pt x="92" y="19"/>
                  </a:lnTo>
                  <a:lnTo>
                    <a:pt x="98" y="19"/>
                  </a:lnTo>
                  <a:lnTo>
                    <a:pt x="103" y="19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100" y="16"/>
                  </a:lnTo>
                  <a:lnTo>
                    <a:pt x="100" y="9"/>
                  </a:lnTo>
                  <a:lnTo>
                    <a:pt x="94" y="15"/>
                  </a:lnTo>
                  <a:lnTo>
                    <a:pt x="103" y="23"/>
                  </a:lnTo>
                  <a:lnTo>
                    <a:pt x="108" y="16"/>
                  </a:lnTo>
                  <a:lnTo>
                    <a:pt x="110" y="12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8" y="6"/>
                  </a:lnTo>
                  <a:lnTo>
                    <a:pt x="92" y="6"/>
                  </a:lnTo>
                  <a:lnTo>
                    <a:pt x="87" y="6"/>
                  </a:lnTo>
                  <a:lnTo>
                    <a:pt x="87" y="12"/>
                  </a:lnTo>
                  <a:lnTo>
                    <a:pt x="92" y="9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1" y="9"/>
                  </a:lnTo>
                  <a:lnTo>
                    <a:pt x="69" y="12"/>
                  </a:lnTo>
                  <a:lnTo>
                    <a:pt x="69" y="12"/>
                  </a:lnTo>
                  <a:lnTo>
                    <a:pt x="69" y="19"/>
                  </a:lnTo>
                  <a:lnTo>
                    <a:pt x="75" y="12"/>
                  </a:lnTo>
                  <a:lnTo>
                    <a:pt x="71" y="15"/>
                  </a:lnTo>
                  <a:lnTo>
                    <a:pt x="69" y="19"/>
                  </a:lnTo>
                  <a:lnTo>
                    <a:pt x="75" y="19"/>
                  </a:lnTo>
                  <a:lnTo>
                    <a:pt x="75" y="12"/>
                  </a:lnTo>
                  <a:lnTo>
                    <a:pt x="69" y="12"/>
                  </a:lnTo>
                  <a:lnTo>
                    <a:pt x="64" y="12"/>
                  </a:lnTo>
                  <a:lnTo>
                    <a:pt x="57" y="12"/>
                  </a:lnTo>
                  <a:lnTo>
                    <a:pt x="52" y="12"/>
                  </a:lnTo>
                  <a:lnTo>
                    <a:pt x="46" y="12"/>
                  </a:lnTo>
                  <a:lnTo>
                    <a:pt x="41" y="12"/>
                  </a:lnTo>
                  <a:lnTo>
                    <a:pt x="36" y="12"/>
                  </a:lnTo>
                  <a:lnTo>
                    <a:pt x="29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4" y="20"/>
                  </a:lnTo>
                  <a:lnTo>
                    <a:pt x="8" y="26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86400" y="4843440"/>
              <a:ext cx="88920" cy="149400"/>
            </a:xfrm>
            <a:custGeom>
              <a:avLst/>
              <a:gdLst/>
              <a:ahLst/>
              <a:rect l="l" t="t" r="r" b="b"/>
              <a:pathLst>
                <a:path w="71" h="111">
                  <a:moveTo>
                    <a:pt x="8" y="96"/>
                  </a:moveTo>
                  <a:lnTo>
                    <a:pt x="0" y="105"/>
                  </a:lnTo>
                  <a:lnTo>
                    <a:pt x="6" y="110"/>
                  </a:lnTo>
                  <a:lnTo>
                    <a:pt x="10" y="111"/>
                  </a:lnTo>
                  <a:lnTo>
                    <a:pt x="15" y="111"/>
                  </a:lnTo>
                  <a:lnTo>
                    <a:pt x="15" y="111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27" y="97"/>
                  </a:lnTo>
                  <a:lnTo>
                    <a:pt x="22" y="94"/>
                  </a:lnTo>
                  <a:lnTo>
                    <a:pt x="27" y="99"/>
                  </a:lnTo>
                  <a:lnTo>
                    <a:pt x="32" y="94"/>
                  </a:lnTo>
                  <a:lnTo>
                    <a:pt x="27" y="89"/>
                  </a:lnTo>
                  <a:lnTo>
                    <a:pt x="30" y="94"/>
                  </a:lnTo>
                  <a:lnTo>
                    <a:pt x="37" y="89"/>
                  </a:lnTo>
                  <a:lnTo>
                    <a:pt x="38" y="87"/>
                  </a:lnTo>
                  <a:lnTo>
                    <a:pt x="39" y="83"/>
                  </a:lnTo>
                  <a:lnTo>
                    <a:pt x="39" y="71"/>
                  </a:lnTo>
                  <a:lnTo>
                    <a:pt x="39" y="66"/>
                  </a:lnTo>
                  <a:lnTo>
                    <a:pt x="33" y="66"/>
                  </a:lnTo>
                  <a:lnTo>
                    <a:pt x="38" y="68"/>
                  </a:lnTo>
                  <a:lnTo>
                    <a:pt x="43" y="57"/>
                  </a:lnTo>
                  <a:lnTo>
                    <a:pt x="38" y="54"/>
                  </a:lnTo>
                  <a:lnTo>
                    <a:pt x="43" y="59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55" y="39"/>
                  </a:lnTo>
                  <a:lnTo>
                    <a:pt x="56" y="36"/>
                  </a:lnTo>
                  <a:lnTo>
                    <a:pt x="56" y="26"/>
                  </a:lnTo>
                  <a:lnTo>
                    <a:pt x="50" y="26"/>
                  </a:lnTo>
                  <a:lnTo>
                    <a:pt x="55" y="30"/>
                  </a:lnTo>
                  <a:lnTo>
                    <a:pt x="55" y="31"/>
                  </a:lnTo>
                  <a:lnTo>
                    <a:pt x="61" y="25"/>
                  </a:lnTo>
                  <a:lnTo>
                    <a:pt x="61" y="22"/>
                  </a:lnTo>
                  <a:lnTo>
                    <a:pt x="66" y="12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1" y="7"/>
                  </a:lnTo>
                  <a:lnTo>
                    <a:pt x="62" y="0"/>
                  </a:lnTo>
                  <a:lnTo>
                    <a:pt x="57" y="6"/>
                  </a:lnTo>
                  <a:lnTo>
                    <a:pt x="56" y="7"/>
                  </a:lnTo>
                  <a:lnTo>
                    <a:pt x="51" y="17"/>
                  </a:lnTo>
                  <a:lnTo>
                    <a:pt x="56" y="20"/>
                  </a:lnTo>
                  <a:lnTo>
                    <a:pt x="52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3" y="36"/>
                  </a:lnTo>
                  <a:lnTo>
                    <a:pt x="50" y="36"/>
                  </a:lnTo>
                  <a:lnTo>
                    <a:pt x="45" y="34"/>
                  </a:lnTo>
                  <a:lnTo>
                    <a:pt x="38" y="47"/>
                  </a:lnTo>
                  <a:lnTo>
                    <a:pt x="43" y="49"/>
                  </a:lnTo>
                  <a:lnTo>
                    <a:pt x="39" y="45"/>
                  </a:lnTo>
                  <a:lnTo>
                    <a:pt x="34" y="50"/>
                  </a:lnTo>
                  <a:lnTo>
                    <a:pt x="33" y="52"/>
                  </a:lnTo>
                  <a:lnTo>
                    <a:pt x="28" y="63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71"/>
                  </a:lnTo>
                  <a:lnTo>
                    <a:pt x="27" y="83"/>
                  </a:lnTo>
                  <a:lnTo>
                    <a:pt x="33" y="83"/>
                  </a:lnTo>
                  <a:lnTo>
                    <a:pt x="29" y="80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18" y="90"/>
                  </a:lnTo>
                  <a:lnTo>
                    <a:pt x="16" y="91"/>
                  </a:lnTo>
                  <a:lnTo>
                    <a:pt x="10" y="102"/>
                  </a:lnTo>
                  <a:lnTo>
                    <a:pt x="15" y="105"/>
                  </a:lnTo>
                  <a:lnTo>
                    <a:pt x="15" y="99"/>
                  </a:lnTo>
                  <a:lnTo>
                    <a:pt x="10" y="99"/>
                  </a:lnTo>
                  <a:lnTo>
                    <a:pt x="10" y="105"/>
                  </a:lnTo>
                  <a:lnTo>
                    <a:pt x="14" y="101"/>
                  </a:lnTo>
                  <a:lnTo>
                    <a:pt x="8" y="96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978360" y="4998960"/>
              <a:ext cx="185760" cy="55800"/>
            </a:xfrm>
            <a:custGeom>
              <a:avLst/>
              <a:gdLst/>
              <a:ahLst/>
              <a:rect l="l" t="t" r="r" b="b"/>
              <a:pathLst>
                <a:path w="148" h="41">
                  <a:moveTo>
                    <a:pt x="9" y="2"/>
                  </a:moveTo>
                  <a:lnTo>
                    <a:pt x="0" y="11"/>
                  </a:lnTo>
                  <a:lnTo>
                    <a:pt x="7" y="17"/>
                  </a:lnTo>
                  <a:lnTo>
                    <a:pt x="12" y="22"/>
                  </a:lnTo>
                  <a:lnTo>
                    <a:pt x="16" y="17"/>
                  </a:lnTo>
                  <a:lnTo>
                    <a:pt x="9" y="1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2" y="27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22" y="23"/>
                  </a:lnTo>
                  <a:lnTo>
                    <a:pt x="17" y="27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3" y="36"/>
                  </a:lnTo>
                  <a:lnTo>
                    <a:pt x="33" y="30"/>
                  </a:lnTo>
                  <a:lnTo>
                    <a:pt x="30" y="35"/>
                  </a:lnTo>
                  <a:lnTo>
                    <a:pt x="36" y="40"/>
                  </a:lnTo>
                  <a:lnTo>
                    <a:pt x="40" y="41"/>
                  </a:lnTo>
                  <a:lnTo>
                    <a:pt x="45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1" y="30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8" y="27"/>
                  </a:lnTo>
                  <a:lnTo>
                    <a:pt x="73" y="23"/>
                  </a:lnTo>
                  <a:lnTo>
                    <a:pt x="73" y="30"/>
                  </a:lnTo>
                  <a:lnTo>
                    <a:pt x="78" y="30"/>
                  </a:lnTo>
                  <a:lnTo>
                    <a:pt x="91" y="30"/>
                  </a:lnTo>
                  <a:lnTo>
                    <a:pt x="91" y="23"/>
                  </a:lnTo>
                  <a:lnTo>
                    <a:pt x="88" y="28"/>
                  </a:lnTo>
                  <a:lnTo>
                    <a:pt x="100" y="35"/>
                  </a:lnTo>
                  <a:lnTo>
                    <a:pt x="102" y="36"/>
                  </a:lnTo>
                  <a:lnTo>
                    <a:pt x="107" y="36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5" y="36"/>
                  </a:lnTo>
                  <a:lnTo>
                    <a:pt x="125" y="36"/>
                  </a:lnTo>
                  <a:lnTo>
                    <a:pt x="130" y="34"/>
                  </a:lnTo>
                  <a:lnTo>
                    <a:pt x="132" y="30"/>
                  </a:lnTo>
                  <a:lnTo>
                    <a:pt x="132" y="23"/>
                  </a:lnTo>
                  <a:lnTo>
                    <a:pt x="125" y="23"/>
                  </a:lnTo>
                  <a:lnTo>
                    <a:pt x="130" y="27"/>
                  </a:lnTo>
                  <a:lnTo>
                    <a:pt x="136" y="21"/>
                  </a:lnTo>
                  <a:lnTo>
                    <a:pt x="130" y="17"/>
                  </a:lnTo>
                  <a:lnTo>
                    <a:pt x="136" y="22"/>
                  </a:lnTo>
                  <a:lnTo>
                    <a:pt x="141" y="17"/>
                  </a:lnTo>
                  <a:lnTo>
                    <a:pt x="147" y="11"/>
                  </a:lnTo>
                  <a:lnTo>
                    <a:pt x="147" y="9"/>
                  </a:lnTo>
                  <a:lnTo>
                    <a:pt x="148" y="6"/>
                  </a:lnTo>
                  <a:lnTo>
                    <a:pt x="148" y="0"/>
                  </a:lnTo>
                  <a:lnTo>
                    <a:pt x="136" y="0"/>
                  </a:lnTo>
                  <a:lnTo>
                    <a:pt x="136" y="6"/>
                  </a:lnTo>
                  <a:lnTo>
                    <a:pt x="142" y="6"/>
                  </a:lnTo>
                  <a:lnTo>
                    <a:pt x="138" y="2"/>
                  </a:lnTo>
                  <a:lnTo>
                    <a:pt x="132" y="8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1" y="20"/>
                  </a:lnTo>
                  <a:lnTo>
                    <a:pt x="119" y="23"/>
                  </a:lnTo>
                  <a:lnTo>
                    <a:pt x="119" y="23"/>
                  </a:lnTo>
                  <a:lnTo>
                    <a:pt x="119" y="30"/>
                  </a:lnTo>
                  <a:lnTo>
                    <a:pt x="125" y="23"/>
                  </a:lnTo>
                  <a:lnTo>
                    <a:pt x="121" y="26"/>
                  </a:lnTo>
                  <a:lnTo>
                    <a:pt x="119" y="30"/>
                  </a:lnTo>
                  <a:lnTo>
                    <a:pt x="125" y="30"/>
                  </a:lnTo>
                  <a:lnTo>
                    <a:pt x="125" y="23"/>
                  </a:lnTo>
                  <a:lnTo>
                    <a:pt x="120" y="23"/>
                  </a:lnTo>
                  <a:lnTo>
                    <a:pt x="114" y="23"/>
                  </a:lnTo>
                  <a:lnTo>
                    <a:pt x="107" y="23"/>
                  </a:lnTo>
                  <a:lnTo>
                    <a:pt x="102" y="23"/>
                  </a:lnTo>
                  <a:lnTo>
                    <a:pt x="102" y="30"/>
                  </a:lnTo>
                  <a:lnTo>
                    <a:pt x="106" y="25"/>
                  </a:lnTo>
                  <a:lnTo>
                    <a:pt x="95" y="18"/>
                  </a:lnTo>
                  <a:lnTo>
                    <a:pt x="91" y="17"/>
                  </a:lnTo>
                  <a:lnTo>
                    <a:pt x="78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4" y="26"/>
                  </a:lnTo>
                  <a:lnTo>
                    <a:pt x="68" y="30"/>
                  </a:lnTo>
                  <a:lnTo>
                    <a:pt x="68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59" y="25"/>
                  </a:lnTo>
                  <a:lnTo>
                    <a:pt x="47" y="30"/>
                  </a:lnTo>
                  <a:lnTo>
                    <a:pt x="50" y="35"/>
                  </a:lnTo>
                  <a:lnTo>
                    <a:pt x="50" y="28"/>
                  </a:lnTo>
                  <a:lnTo>
                    <a:pt x="45" y="28"/>
                  </a:lnTo>
                  <a:lnTo>
                    <a:pt x="40" y="28"/>
                  </a:lnTo>
                  <a:lnTo>
                    <a:pt x="40" y="35"/>
                  </a:lnTo>
                  <a:lnTo>
                    <a:pt x="44" y="31"/>
                  </a:lnTo>
                  <a:lnTo>
                    <a:pt x="37" y="26"/>
                  </a:lnTo>
                  <a:lnTo>
                    <a:pt x="33" y="23"/>
                  </a:lnTo>
                  <a:lnTo>
                    <a:pt x="27" y="23"/>
                  </a:lnTo>
                  <a:lnTo>
                    <a:pt x="27" y="30"/>
                  </a:lnTo>
                  <a:lnTo>
                    <a:pt x="32" y="26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22" y="23"/>
                  </a:lnTo>
                  <a:lnTo>
                    <a:pt x="21" y="20"/>
                  </a:lnTo>
                  <a:lnTo>
                    <a:pt x="16" y="23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6" y="8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817800" y="4890960"/>
              <a:ext cx="211320" cy="163800"/>
            </a:xfrm>
            <a:custGeom>
              <a:avLst/>
              <a:gdLst/>
              <a:ahLst/>
              <a:rect l="l" t="t" r="r" b="b"/>
              <a:pathLst>
                <a:path w="167" h="121">
                  <a:moveTo>
                    <a:pt x="12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1" y="37"/>
                  </a:lnTo>
                  <a:lnTo>
                    <a:pt x="6" y="50"/>
                  </a:lnTo>
                  <a:lnTo>
                    <a:pt x="11" y="47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5" y="58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6" y="68"/>
                  </a:lnTo>
                  <a:lnTo>
                    <a:pt x="12" y="79"/>
                  </a:lnTo>
                  <a:lnTo>
                    <a:pt x="17" y="75"/>
                  </a:lnTo>
                  <a:lnTo>
                    <a:pt x="11" y="75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4" y="86"/>
                  </a:lnTo>
                  <a:lnTo>
                    <a:pt x="19" y="91"/>
                  </a:lnTo>
                  <a:lnTo>
                    <a:pt x="23" y="86"/>
                  </a:lnTo>
                  <a:lnTo>
                    <a:pt x="17" y="88"/>
                  </a:lnTo>
                  <a:lnTo>
                    <a:pt x="23" y="100"/>
                  </a:lnTo>
                  <a:lnTo>
                    <a:pt x="29" y="112"/>
                  </a:lnTo>
                  <a:lnTo>
                    <a:pt x="30" y="115"/>
                  </a:lnTo>
                  <a:lnTo>
                    <a:pt x="35" y="120"/>
                  </a:lnTo>
                  <a:lnTo>
                    <a:pt x="35" y="119"/>
                  </a:lnTo>
                  <a:lnTo>
                    <a:pt x="39" y="121"/>
                  </a:lnTo>
                  <a:lnTo>
                    <a:pt x="46" y="121"/>
                  </a:lnTo>
                  <a:lnTo>
                    <a:pt x="51" y="121"/>
                  </a:lnTo>
                  <a:lnTo>
                    <a:pt x="51" y="121"/>
                  </a:lnTo>
                  <a:lnTo>
                    <a:pt x="56" y="120"/>
                  </a:lnTo>
                  <a:lnTo>
                    <a:pt x="61" y="115"/>
                  </a:lnTo>
                  <a:lnTo>
                    <a:pt x="56" y="110"/>
                  </a:lnTo>
                  <a:lnTo>
                    <a:pt x="56" y="116"/>
                  </a:lnTo>
                  <a:lnTo>
                    <a:pt x="62" y="116"/>
                  </a:lnTo>
                  <a:lnTo>
                    <a:pt x="69" y="116"/>
                  </a:lnTo>
                  <a:lnTo>
                    <a:pt x="69" y="116"/>
                  </a:lnTo>
                  <a:lnTo>
                    <a:pt x="74" y="114"/>
                  </a:lnTo>
                  <a:lnTo>
                    <a:pt x="74" y="114"/>
                  </a:lnTo>
                  <a:lnTo>
                    <a:pt x="79" y="107"/>
                  </a:lnTo>
                  <a:lnTo>
                    <a:pt x="74" y="103"/>
                  </a:lnTo>
                  <a:lnTo>
                    <a:pt x="79" y="108"/>
                  </a:lnTo>
                  <a:lnTo>
                    <a:pt x="85" y="102"/>
                  </a:lnTo>
                  <a:lnTo>
                    <a:pt x="80" y="97"/>
                  </a:lnTo>
                  <a:lnTo>
                    <a:pt x="84" y="102"/>
                  </a:lnTo>
                  <a:lnTo>
                    <a:pt x="90" y="97"/>
                  </a:lnTo>
                  <a:lnTo>
                    <a:pt x="91" y="96"/>
                  </a:lnTo>
                  <a:lnTo>
                    <a:pt x="93" y="92"/>
                  </a:lnTo>
                  <a:lnTo>
                    <a:pt x="93" y="86"/>
                  </a:lnTo>
                  <a:lnTo>
                    <a:pt x="86" y="86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7" y="86"/>
                  </a:lnTo>
                  <a:lnTo>
                    <a:pt x="91" y="80"/>
                  </a:lnTo>
                  <a:lnTo>
                    <a:pt x="91" y="87"/>
                  </a:lnTo>
                  <a:lnTo>
                    <a:pt x="97" y="87"/>
                  </a:lnTo>
                  <a:lnTo>
                    <a:pt x="103" y="87"/>
                  </a:lnTo>
                  <a:lnTo>
                    <a:pt x="108" y="87"/>
                  </a:lnTo>
                  <a:lnTo>
                    <a:pt x="114" y="87"/>
                  </a:lnTo>
                  <a:lnTo>
                    <a:pt x="120" y="87"/>
                  </a:lnTo>
                  <a:lnTo>
                    <a:pt x="126" y="87"/>
                  </a:lnTo>
                  <a:lnTo>
                    <a:pt x="126" y="80"/>
                  </a:lnTo>
                  <a:lnTo>
                    <a:pt x="122" y="86"/>
                  </a:lnTo>
                  <a:lnTo>
                    <a:pt x="127" y="91"/>
                  </a:lnTo>
                  <a:lnTo>
                    <a:pt x="127" y="89"/>
                  </a:lnTo>
                  <a:lnTo>
                    <a:pt x="131" y="92"/>
                  </a:lnTo>
                  <a:lnTo>
                    <a:pt x="137" y="92"/>
                  </a:lnTo>
                  <a:lnTo>
                    <a:pt x="137" y="86"/>
                  </a:lnTo>
                  <a:lnTo>
                    <a:pt x="132" y="88"/>
                  </a:lnTo>
                  <a:lnTo>
                    <a:pt x="137" y="100"/>
                  </a:lnTo>
                  <a:lnTo>
                    <a:pt x="139" y="102"/>
                  </a:lnTo>
                  <a:lnTo>
                    <a:pt x="145" y="108"/>
                  </a:lnTo>
                  <a:lnTo>
                    <a:pt x="145" y="107"/>
                  </a:lnTo>
                  <a:lnTo>
                    <a:pt x="149" y="110"/>
                  </a:lnTo>
                  <a:lnTo>
                    <a:pt x="154" y="110"/>
                  </a:lnTo>
                  <a:lnTo>
                    <a:pt x="154" y="103"/>
                  </a:lnTo>
                  <a:lnTo>
                    <a:pt x="150" y="108"/>
                  </a:lnTo>
                  <a:lnTo>
                    <a:pt x="157" y="115"/>
                  </a:lnTo>
                  <a:lnTo>
                    <a:pt x="157" y="114"/>
                  </a:lnTo>
                  <a:lnTo>
                    <a:pt x="160" y="116"/>
                  </a:lnTo>
                  <a:lnTo>
                    <a:pt x="167" y="116"/>
                  </a:lnTo>
                  <a:lnTo>
                    <a:pt x="167" y="103"/>
                  </a:lnTo>
                  <a:lnTo>
                    <a:pt x="160" y="103"/>
                  </a:lnTo>
                  <a:lnTo>
                    <a:pt x="160" y="110"/>
                  </a:lnTo>
                  <a:lnTo>
                    <a:pt x="166" y="106"/>
                  </a:lnTo>
                  <a:lnTo>
                    <a:pt x="159" y="100"/>
                  </a:lnTo>
                  <a:lnTo>
                    <a:pt x="159" y="100"/>
                  </a:lnTo>
                  <a:lnTo>
                    <a:pt x="154" y="97"/>
                  </a:lnTo>
                  <a:lnTo>
                    <a:pt x="149" y="97"/>
                  </a:lnTo>
                  <a:lnTo>
                    <a:pt x="149" y="103"/>
                  </a:lnTo>
                  <a:lnTo>
                    <a:pt x="154" y="100"/>
                  </a:lnTo>
                  <a:lnTo>
                    <a:pt x="148" y="93"/>
                  </a:lnTo>
                  <a:lnTo>
                    <a:pt x="143" y="97"/>
                  </a:lnTo>
                  <a:lnTo>
                    <a:pt x="148" y="94"/>
                  </a:lnTo>
                  <a:lnTo>
                    <a:pt x="143" y="83"/>
                  </a:lnTo>
                  <a:lnTo>
                    <a:pt x="143" y="82"/>
                  </a:lnTo>
                  <a:lnTo>
                    <a:pt x="137" y="79"/>
                  </a:lnTo>
                  <a:lnTo>
                    <a:pt x="131" y="79"/>
                  </a:lnTo>
                  <a:lnTo>
                    <a:pt x="131" y="86"/>
                  </a:lnTo>
                  <a:lnTo>
                    <a:pt x="136" y="82"/>
                  </a:lnTo>
                  <a:lnTo>
                    <a:pt x="131" y="77"/>
                  </a:lnTo>
                  <a:lnTo>
                    <a:pt x="131" y="77"/>
                  </a:lnTo>
                  <a:lnTo>
                    <a:pt x="126" y="74"/>
                  </a:lnTo>
                  <a:lnTo>
                    <a:pt x="120" y="74"/>
                  </a:lnTo>
                  <a:lnTo>
                    <a:pt x="114" y="74"/>
                  </a:lnTo>
                  <a:lnTo>
                    <a:pt x="108" y="74"/>
                  </a:lnTo>
                  <a:lnTo>
                    <a:pt x="103" y="74"/>
                  </a:lnTo>
                  <a:lnTo>
                    <a:pt x="97" y="74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88" y="77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80" y="92"/>
                  </a:lnTo>
                  <a:lnTo>
                    <a:pt x="86" y="92"/>
                  </a:lnTo>
                  <a:lnTo>
                    <a:pt x="83" y="88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65" y="106"/>
                  </a:lnTo>
                  <a:lnTo>
                    <a:pt x="69" y="110"/>
                  </a:lnTo>
                  <a:lnTo>
                    <a:pt x="69" y="103"/>
                  </a:lnTo>
                  <a:lnTo>
                    <a:pt x="62" y="103"/>
                  </a:lnTo>
                  <a:lnTo>
                    <a:pt x="56" y="103"/>
                  </a:lnTo>
                  <a:lnTo>
                    <a:pt x="56" y="103"/>
                  </a:lnTo>
                  <a:lnTo>
                    <a:pt x="52" y="106"/>
                  </a:lnTo>
                  <a:lnTo>
                    <a:pt x="47" y="111"/>
                  </a:lnTo>
                  <a:lnTo>
                    <a:pt x="51" y="115"/>
                  </a:lnTo>
                  <a:lnTo>
                    <a:pt x="51" y="108"/>
                  </a:lnTo>
                  <a:lnTo>
                    <a:pt x="46" y="108"/>
                  </a:lnTo>
                  <a:lnTo>
                    <a:pt x="39" y="108"/>
                  </a:lnTo>
                  <a:lnTo>
                    <a:pt x="39" y="115"/>
                  </a:lnTo>
                  <a:lnTo>
                    <a:pt x="44" y="111"/>
                  </a:lnTo>
                  <a:lnTo>
                    <a:pt x="39" y="106"/>
                  </a:lnTo>
                  <a:lnTo>
                    <a:pt x="34" y="110"/>
                  </a:lnTo>
                  <a:lnTo>
                    <a:pt x="39" y="107"/>
                  </a:lnTo>
                  <a:lnTo>
                    <a:pt x="33" y="94"/>
                  </a:lnTo>
                  <a:lnTo>
                    <a:pt x="28" y="83"/>
                  </a:lnTo>
                  <a:lnTo>
                    <a:pt x="28" y="82"/>
                  </a:lnTo>
                  <a:lnTo>
                    <a:pt x="23" y="77"/>
                  </a:lnTo>
                  <a:lnTo>
                    <a:pt x="17" y="80"/>
                  </a:lnTo>
                  <a:lnTo>
                    <a:pt x="24" y="80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3" y="73"/>
                  </a:lnTo>
                  <a:lnTo>
                    <a:pt x="16" y="61"/>
                  </a:lnTo>
                  <a:lnTo>
                    <a:pt x="11" y="64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2" y="33"/>
                  </a:lnTo>
                  <a:lnTo>
                    <a:pt x="6" y="35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919680" y="3379680"/>
              <a:ext cx="223560" cy="39960"/>
            </a:xfrm>
            <a:custGeom>
              <a:avLst/>
              <a:gdLst/>
              <a:ahLst/>
              <a:rect l="l" t="t" r="r" b="b"/>
              <a:pathLst>
                <a:path w="179" h="29">
                  <a:moveTo>
                    <a:pt x="0" y="16"/>
                  </a:moveTo>
                  <a:lnTo>
                    <a:pt x="0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6" y="24"/>
                  </a:lnTo>
                  <a:lnTo>
                    <a:pt x="11" y="24"/>
                  </a:lnTo>
                  <a:lnTo>
                    <a:pt x="17" y="24"/>
                  </a:lnTo>
                  <a:lnTo>
                    <a:pt x="23" y="24"/>
                  </a:lnTo>
                  <a:lnTo>
                    <a:pt x="28" y="2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51" y="24"/>
                  </a:lnTo>
                  <a:lnTo>
                    <a:pt x="57" y="24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80" y="24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97" y="24"/>
                  </a:lnTo>
                  <a:lnTo>
                    <a:pt x="103" y="24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5" y="23"/>
                  </a:lnTo>
                  <a:lnTo>
                    <a:pt x="111" y="28"/>
                  </a:lnTo>
                  <a:lnTo>
                    <a:pt x="115" y="29"/>
                  </a:lnTo>
                  <a:lnTo>
                    <a:pt x="120" y="29"/>
                  </a:lnTo>
                  <a:lnTo>
                    <a:pt x="120" y="29"/>
                  </a:lnTo>
                  <a:lnTo>
                    <a:pt x="125" y="28"/>
                  </a:lnTo>
                  <a:lnTo>
                    <a:pt x="130" y="23"/>
                  </a:lnTo>
                  <a:lnTo>
                    <a:pt x="125" y="18"/>
                  </a:lnTo>
                  <a:lnTo>
                    <a:pt x="125" y="24"/>
                  </a:lnTo>
                  <a:lnTo>
                    <a:pt x="131" y="24"/>
                  </a:lnTo>
                  <a:lnTo>
                    <a:pt x="138" y="24"/>
                  </a:lnTo>
                  <a:lnTo>
                    <a:pt x="143" y="24"/>
                  </a:lnTo>
                  <a:lnTo>
                    <a:pt x="149" y="24"/>
                  </a:lnTo>
                  <a:lnTo>
                    <a:pt x="154" y="24"/>
                  </a:lnTo>
                  <a:lnTo>
                    <a:pt x="154" y="24"/>
                  </a:lnTo>
                  <a:lnTo>
                    <a:pt x="158" y="23"/>
                  </a:lnTo>
                  <a:lnTo>
                    <a:pt x="165" y="18"/>
                  </a:lnTo>
                  <a:lnTo>
                    <a:pt x="161" y="12"/>
                  </a:lnTo>
                  <a:lnTo>
                    <a:pt x="161" y="19"/>
                  </a:lnTo>
                  <a:lnTo>
                    <a:pt x="167" y="19"/>
                  </a:lnTo>
                  <a:lnTo>
                    <a:pt x="167" y="19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7" y="10"/>
                  </a:lnTo>
                  <a:lnTo>
                    <a:pt x="179" y="6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6" y="6"/>
                  </a:lnTo>
                  <a:lnTo>
                    <a:pt x="172" y="6"/>
                  </a:lnTo>
                  <a:lnTo>
                    <a:pt x="168" y="2"/>
                  </a:lnTo>
                  <a:lnTo>
                    <a:pt x="163" y="9"/>
                  </a:lnTo>
                  <a:lnTo>
                    <a:pt x="167" y="12"/>
                  </a:lnTo>
                  <a:lnTo>
                    <a:pt x="167" y="6"/>
                  </a:lnTo>
                  <a:lnTo>
                    <a:pt x="161" y="6"/>
                  </a:lnTo>
                  <a:lnTo>
                    <a:pt x="161" y="6"/>
                  </a:lnTo>
                  <a:lnTo>
                    <a:pt x="157" y="9"/>
                  </a:lnTo>
                  <a:lnTo>
                    <a:pt x="151" y="14"/>
                  </a:lnTo>
                  <a:lnTo>
                    <a:pt x="154" y="18"/>
                  </a:lnTo>
                  <a:lnTo>
                    <a:pt x="154" y="11"/>
                  </a:lnTo>
                  <a:lnTo>
                    <a:pt x="149" y="11"/>
                  </a:lnTo>
                  <a:lnTo>
                    <a:pt x="143" y="11"/>
                  </a:lnTo>
                  <a:lnTo>
                    <a:pt x="138" y="11"/>
                  </a:lnTo>
                  <a:lnTo>
                    <a:pt x="131" y="11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21" y="14"/>
                  </a:lnTo>
                  <a:lnTo>
                    <a:pt x="116" y="19"/>
                  </a:lnTo>
                  <a:lnTo>
                    <a:pt x="120" y="23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5" y="23"/>
                  </a:lnTo>
                  <a:lnTo>
                    <a:pt x="119" y="19"/>
                  </a:lnTo>
                  <a:lnTo>
                    <a:pt x="112" y="14"/>
                  </a:lnTo>
                  <a:lnTo>
                    <a:pt x="108" y="11"/>
                  </a:lnTo>
                  <a:lnTo>
                    <a:pt x="103" y="11"/>
                  </a:lnTo>
                  <a:lnTo>
                    <a:pt x="97" y="11"/>
                  </a:lnTo>
                  <a:lnTo>
                    <a:pt x="92" y="11"/>
                  </a:lnTo>
                  <a:lnTo>
                    <a:pt x="87" y="11"/>
                  </a:lnTo>
                  <a:lnTo>
                    <a:pt x="80" y="11"/>
                  </a:lnTo>
                  <a:lnTo>
                    <a:pt x="69" y="11"/>
                  </a:lnTo>
                  <a:lnTo>
                    <a:pt x="63" y="11"/>
                  </a:lnTo>
                  <a:lnTo>
                    <a:pt x="57" y="11"/>
                  </a:lnTo>
                  <a:lnTo>
                    <a:pt x="51" y="11"/>
                  </a:lnTo>
                  <a:lnTo>
                    <a:pt x="46" y="11"/>
                  </a:lnTo>
                  <a:lnTo>
                    <a:pt x="40" y="11"/>
                  </a:lnTo>
                  <a:lnTo>
                    <a:pt x="34" y="11"/>
                  </a:lnTo>
                  <a:lnTo>
                    <a:pt x="28" y="11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6" y="16"/>
                  </a:lnTo>
                  <a:lnTo>
                    <a:pt x="3" y="19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6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944960" y="4991040"/>
              <a:ext cx="187560" cy="87480"/>
            </a:xfrm>
            <a:custGeom>
              <a:avLst/>
              <a:gdLst/>
              <a:ahLst/>
              <a:rect l="l" t="t" r="r" b="b"/>
              <a:pathLst>
                <a:path w="148" h="64">
                  <a:moveTo>
                    <a:pt x="148" y="64"/>
                  </a:moveTo>
                  <a:lnTo>
                    <a:pt x="148" y="51"/>
                  </a:lnTo>
                  <a:lnTo>
                    <a:pt x="136" y="51"/>
                  </a:lnTo>
                  <a:lnTo>
                    <a:pt x="130" y="51"/>
                  </a:lnTo>
                  <a:lnTo>
                    <a:pt x="124" y="51"/>
                  </a:lnTo>
                  <a:lnTo>
                    <a:pt x="112" y="51"/>
                  </a:lnTo>
                  <a:lnTo>
                    <a:pt x="112" y="57"/>
                  </a:lnTo>
                  <a:lnTo>
                    <a:pt x="118" y="57"/>
                  </a:lnTo>
                  <a:lnTo>
                    <a:pt x="117" y="54"/>
                  </a:lnTo>
                  <a:lnTo>
                    <a:pt x="118" y="57"/>
                  </a:lnTo>
                  <a:lnTo>
                    <a:pt x="118" y="36"/>
                  </a:lnTo>
                  <a:lnTo>
                    <a:pt x="118" y="36"/>
                  </a:lnTo>
                  <a:lnTo>
                    <a:pt x="117" y="33"/>
                  </a:lnTo>
                  <a:lnTo>
                    <a:pt x="111" y="20"/>
                  </a:lnTo>
                  <a:lnTo>
                    <a:pt x="106" y="23"/>
                  </a:lnTo>
                  <a:lnTo>
                    <a:pt x="112" y="23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1" y="3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2" y="3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5" y="10"/>
                  </a:lnTo>
                  <a:lnTo>
                    <a:pt x="79" y="28"/>
                  </a:lnTo>
                  <a:lnTo>
                    <a:pt x="78" y="29"/>
                  </a:lnTo>
                  <a:lnTo>
                    <a:pt x="78" y="41"/>
                  </a:lnTo>
                  <a:lnTo>
                    <a:pt x="84" y="41"/>
                  </a:lnTo>
                  <a:lnTo>
                    <a:pt x="84" y="34"/>
                  </a:lnTo>
                  <a:lnTo>
                    <a:pt x="80" y="37"/>
                  </a:lnTo>
                  <a:lnTo>
                    <a:pt x="84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6" y="41"/>
                  </a:lnTo>
                  <a:lnTo>
                    <a:pt x="66" y="52"/>
                  </a:lnTo>
                  <a:lnTo>
                    <a:pt x="73" y="52"/>
                  </a:lnTo>
                  <a:lnTo>
                    <a:pt x="73" y="46"/>
                  </a:lnTo>
                  <a:lnTo>
                    <a:pt x="69" y="48"/>
                  </a:lnTo>
                  <a:lnTo>
                    <a:pt x="73" y="46"/>
                  </a:lnTo>
                  <a:lnTo>
                    <a:pt x="61" y="46"/>
                  </a:lnTo>
                  <a:lnTo>
                    <a:pt x="56" y="46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4" y="48"/>
                  </a:lnTo>
                  <a:lnTo>
                    <a:pt x="29" y="54"/>
                  </a:lnTo>
                  <a:lnTo>
                    <a:pt x="33" y="57"/>
                  </a:lnTo>
                  <a:lnTo>
                    <a:pt x="39" y="57"/>
                  </a:lnTo>
                  <a:lnTo>
                    <a:pt x="38" y="54"/>
                  </a:lnTo>
                  <a:lnTo>
                    <a:pt x="33" y="51"/>
                  </a:lnTo>
                  <a:lnTo>
                    <a:pt x="39" y="57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8" y="32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0" y="37"/>
                  </a:lnTo>
                  <a:lnTo>
                    <a:pt x="7" y="46"/>
                  </a:lnTo>
                  <a:lnTo>
                    <a:pt x="14" y="41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20" y="42"/>
                  </a:lnTo>
                  <a:lnTo>
                    <a:pt x="27" y="42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9" y="40"/>
                  </a:lnTo>
                  <a:lnTo>
                    <a:pt x="33" y="36"/>
                  </a:lnTo>
                  <a:lnTo>
                    <a:pt x="27" y="36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9" y="61"/>
                  </a:lnTo>
                  <a:lnTo>
                    <a:pt x="33" y="64"/>
                  </a:lnTo>
                  <a:lnTo>
                    <a:pt x="38" y="62"/>
                  </a:lnTo>
                  <a:lnTo>
                    <a:pt x="43" y="57"/>
                  </a:lnTo>
                  <a:lnTo>
                    <a:pt x="38" y="52"/>
                  </a:lnTo>
                  <a:lnTo>
                    <a:pt x="38" y="59"/>
                  </a:lnTo>
                  <a:lnTo>
                    <a:pt x="50" y="59"/>
                  </a:lnTo>
                  <a:lnTo>
                    <a:pt x="56" y="59"/>
                  </a:lnTo>
                  <a:lnTo>
                    <a:pt x="61" y="59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78" y="56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79" y="41"/>
                  </a:lnTo>
                  <a:lnTo>
                    <a:pt x="73" y="47"/>
                  </a:lnTo>
                  <a:lnTo>
                    <a:pt x="78" y="45"/>
                  </a:lnTo>
                  <a:lnTo>
                    <a:pt x="79" y="41"/>
                  </a:lnTo>
                  <a:lnTo>
                    <a:pt x="73" y="41"/>
                  </a:lnTo>
                  <a:lnTo>
                    <a:pt x="73" y="47"/>
                  </a:lnTo>
                  <a:lnTo>
                    <a:pt x="84" y="47"/>
                  </a:lnTo>
                  <a:lnTo>
                    <a:pt x="84" y="47"/>
                  </a:lnTo>
                  <a:lnTo>
                    <a:pt x="89" y="45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29"/>
                  </a:lnTo>
                  <a:lnTo>
                    <a:pt x="84" y="29"/>
                  </a:lnTo>
                  <a:lnTo>
                    <a:pt x="90" y="32"/>
                  </a:lnTo>
                  <a:lnTo>
                    <a:pt x="97" y="14"/>
                  </a:lnTo>
                  <a:lnTo>
                    <a:pt x="90" y="12"/>
                  </a:lnTo>
                  <a:lnTo>
                    <a:pt x="95" y="17"/>
                  </a:lnTo>
                  <a:lnTo>
                    <a:pt x="101" y="12"/>
                  </a:lnTo>
                  <a:lnTo>
                    <a:pt x="95" y="6"/>
                  </a:lnTo>
                  <a:lnTo>
                    <a:pt x="95" y="13"/>
                  </a:lnTo>
                  <a:lnTo>
                    <a:pt x="106" y="13"/>
                  </a:lnTo>
                  <a:lnTo>
                    <a:pt x="99" y="6"/>
                  </a:lnTo>
                  <a:lnTo>
                    <a:pt x="102" y="10"/>
                  </a:lnTo>
                  <a:lnTo>
                    <a:pt x="106" y="6"/>
                  </a:lnTo>
                  <a:lnTo>
                    <a:pt x="99" y="6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101" y="26"/>
                  </a:lnTo>
                  <a:lnTo>
                    <a:pt x="107" y="38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106" y="57"/>
                  </a:lnTo>
                  <a:lnTo>
                    <a:pt x="106" y="57"/>
                  </a:lnTo>
                  <a:lnTo>
                    <a:pt x="108" y="61"/>
                  </a:lnTo>
                  <a:lnTo>
                    <a:pt x="112" y="64"/>
                  </a:lnTo>
                  <a:lnTo>
                    <a:pt x="124" y="64"/>
                  </a:lnTo>
                  <a:lnTo>
                    <a:pt x="130" y="64"/>
                  </a:lnTo>
                  <a:lnTo>
                    <a:pt x="136" y="64"/>
                  </a:lnTo>
                  <a:lnTo>
                    <a:pt x="148" y="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30880" y="4991040"/>
              <a:ext cx="108000" cy="4932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18" y="36"/>
                  </a:moveTo>
                  <a:lnTo>
                    <a:pt x="18" y="23"/>
                  </a:lnTo>
                  <a:lnTo>
                    <a:pt x="7" y="23"/>
                  </a:lnTo>
                  <a:lnTo>
                    <a:pt x="7" y="29"/>
                  </a:lnTo>
                  <a:lnTo>
                    <a:pt x="12" y="33"/>
                  </a:lnTo>
                  <a:lnTo>
                    <a:pt x="13" y="29"/>
                  </a:lnTo>
                  <a:lnTo>
                    <a:pt x="12" y="26"/>
                  </a:lnTo>
                  <a:lnTo>
                    <a:pt x="12" y="34"/>
                  </a:lnTo>
                  <a:lnTo>
                    <a:pt x="23" y="23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50" y="12"/>
                  </a:lnTo>
                  <a:lnTo>
                    <a:pt x="46" y="6"/>
                  </a:lnTo>
                  <a:lnTo>
                    <a:pt x="46" y="13"/>
                  </a:lnTo>
                  <a:lnTo>
                    <a:pt x="64" y="13"/>
                  </a:lnTo>
                  <a:lnTo>
                    <a:pt x="76" y="13"/>
                  </a:lnTo>
                  <a:lnTo>
                    <a:pt x="86" y="13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26" y="13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800520" y="2543040"/>
              <a:ext cx="469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388120" y="2948040"/>
              <a:ext cx="3585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46800" y="2979720"/>
              <a:ext cx="2505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46800" y="2990880"/>
              <a:ext cx="239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46800" y="2990880"/>
              <a:ext cx="1094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46440" y="299736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cc"/>
                  </a:solidFill>
                  <a:latin typeface="Times New Roman"/>
                </a:rPr>
                <a:t>Mc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535360" y="2935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37160" y="2990880"/>
              <a:ext cx="1792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33920" y="29973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ffffcc"/>
                  </a:solidFill>
                  <a:latin typeface="Times New Roman"/>
                </a:rPr>
                <a:t>Allen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700600" y="2935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567400" y="3162240"/>
              <a:ext cx="399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616720" y="3205080"/>
              <a:ext cx="3283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925960" y="3149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89400" y="3270240"/>
              <a:ext cx="2905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348080" y="3300480"/>
              <a:ext cx="1922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348080" y="3300480"/>
              <a:ext cx="1922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348080" y="3313080"/>
              <a:ext cx="211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238280" y="325440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Saltillo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545000" y="3249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156280" y="3300480"/>
              <a:ext cx="3315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218200" y="3333600"/>
              <a:ext cx="22068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218200" y="3344760"/>
              <a:ext cx="22068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218200" y="3344760"/>
              <a:ext cx="2491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338720" y="4062240"/>
              <a:ext cx="3301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632120" y="4044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460680" y="3762360"/>
              <a:ext cx="5097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511440" y="3794040"/>
              <a:ext cx="4190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11440" y="3805200"/>
              <a:ext cx="4003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511440" y="3805200"/>
              <a:ext cx="11916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611520" y="37465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611520" y="3805200"/>
              <a:ext cx="338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925800" y="37465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630600" y="3967200"/>
              <a:ext cx="35892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691080" y="3998880"/>
              <a:ext cx="2584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691080" y="3998880"/>
              <a:ext cx="24912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691080" y="4008600"/>
              <a:ext cx="2793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619800" y="401652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Zacatecas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949560" y="3944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540240" y="4265640"/>
              <a:ext cx="5000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600360" y="4286160"/>
              <a:ext cx="41112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600360" y="4297320"/>
              <a:ext cx="3891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600360" y="4308480"/>
              <a:ext cx="4190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440160" y="4305240"/>
              <a:ext cx="56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Aguascalientes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006800" y="4243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720960" y="4403880"/>
              <a:ext cx="408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770280" y="4437000"/>
              <a:ext cx="3207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770280" y="4446720"/>
              <a:ext cx="3002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770280" y="4446720"/>
              <a:ext cx="3301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087800" y="438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630600" y="4554360"/>
              <a:ext cx="37008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691080" y="4575240"/>
              <a:ext cx="2696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91080" y="4586400"/>
              <a:ext cx="2584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91080" y="4597560"/>
              <a:ext cx="2793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959280" y="453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232080" y="4800600"/>
              <a:ext cx="6177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292560" y="4832280"/>
              <a:ext cx="5871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292560" y="4843440"/>
              <a:ext cx="4888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292560" y="4843440"/>
              <a:ext cx="538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31920" y="4846680"/>
              <a:ext cx="68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GUADALAJARA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06640" y="4786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89200" y="5003640"/>
              <a:ext cx="311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39960" y="5035680"/>
              <a:ext cx="2098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639960" y="5035680"/>
              <a:ext cx="20016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39960" y="5046840"/>
              <a:ext cx="231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59200" y="4983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998960" y="4361040"/>
              <a:ext cx="378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567400" y="4746600"/>
              <a:ext cx="3682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16720" y="4778280"/>
              <a:ext cx="2696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578560" y="4778280"/>
              <a:ext cx="258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578560" y="4789440"/>
              <a:ext cx="1476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442840" y="465300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Poz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08520" y="4724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07080" y="4789440"/>
              <a:ext cx="1587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36880" y="4653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Ric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844960" y="4724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048280" y="4897440"/>
              <a:ext cx="390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097600" y="4927680"/>
              <a:ext cx="2998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097600" y="4940280"/>
              <a:ext cx="2905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097600" y="4951440"/>
              <a:ext cx="3096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46560" y="5118120"/>
              <a:ext cx="70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ffffcc"/>
                  </a:solidFill>
                  <a:latin typeface="Times New Roman"/>
                </a:rPr>
                <a:t>Tulancingo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127480" y="5046840"/>
              <a:ext cx="31932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178600" y="507852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178600" y="5089680"/>
              <a:ext cx="2095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178600" y="5089680"/>
              <a:ext cx="24912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182560" y="4835520"/>
              <a:ext cx="37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Pachuc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405400" y="5030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276880" y="5303880"/>
              <a:ext cx="2286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276880" y="5303880"/>
              <a:ext cx="220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276880" y="5313240"/>
              <a:ext cx="2509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510160" y="5251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407200" y="5475240"/>
              <a:ext cx="328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457960" y="5506920"/>
              <a:ext cx="239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457960" y="5516640"/>
              <a:ext cx="2188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57960" y="5516640"/>
              <a:ext cx="2491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692680" y="545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579920" y="5613480"/>
              <a:ext cx="2793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29240" y="5646600"/>
              <a:ext cx="17928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811760" y="5602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468680" y="5421240"/>
              <a:ext cx="3398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410000" y="5540400"/>
              <a:ext cx="41904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410000" y="5549760"/>
              <a:ext cx="39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930480" y="5527800"/>
              <a:ext cx="9288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403160" y="5527800"/>
              <a:ext cx="61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         </a:t>
              </a: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TRIUNFO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67200" y="5468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599000" y="5197320"/>
              <a:ext cx="369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57680" y="5238720"/>
              <a:ext cx="2700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57680" y="5249880"/>
              <a:ext cx="260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657680" y="5249880"/>
              <a:ext cx="2905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35240" y="5191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900600" y="5046840"/>
              <a:ext cx="36972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949560" y="5078520"/>
              <a:ext cx="2700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49560" y="5089680"/>
              <a:ext cx="2606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949560" y="5089680"/>
              <a:ext cx="9072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024080" y="5030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019400" y="5089680"/>
              <a:ext cx="22068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258440" y="46180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Guanajuato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564080" y="45561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025880" y="472932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León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221000" y="4657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159080" y="4897440"/>
              <a:ext cx="370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210200" y="4927680"/>
              <a:ext cx="2286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210200" y="4940280"/>
              <a:ext cx="2188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210200" y="4951440"/>
              <a:ext cx="24912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437000" y="4884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468680" y="4800600"/>
              <a:ext cx="2905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529160" y="4832280"/>
              <a:ext cx="17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529160" y="4843440"/>
              <a:ext cx="1681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529160" y="4843440"/>
              <a:ext cx="1983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523040" y="48369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Celaya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708440" y="4786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818240" y="4897440"/>
              <a:ext cx="2203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878360" y="4927680"/>
              <a:ext cx="1094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878360" y="4940280"/>
              <a:ext cx="1094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878360" y="4951440"/>
              <a:ext cx="13968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953960" y="488952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Tul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00400" y="4884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495680" y="5045040"/>
              <a:ext cx="39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Querétaro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790880" y="4954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487840" y="3408480"/>
              <a:ext cx="4572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537160" y="3441600"/>
              <a:ext cx="4190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070520" y="3184560"/>
              <a:ext cx="1490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770280" y="4606920"/>
              <a:ext cx="1602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60680" y="3613320"/>
              <a:ext cx="370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511440" y="3645000"/>
              <a:ext cx="27936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511440" y="3656160"/>
              <a:ext cx="27000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511440" y="3656160"/>
              <a:ext cx="2984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797280" y="359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559400" y="3367080"/>
              <a:ext cx="5382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08360" y="3398760"/>
              <a:ext cx="5000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608360" y="3408480"/>
              <a:ext cx="4208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608360" y="3408480"/>
              <a:ext cx="4701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498920" y="3137040"/>
              <a:ext cx="58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MONTERREY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052960" y="3349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348160" y="5003640"/>
              <a:ext cx="4096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07200" y="5035680"/>
              <a:ext cx="2602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07200" y="5035680"/>
              <a:ext cx="2491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407200" y="5046840"/>
              <a:ext cx="29016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73600" y="4983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348160" y="3613320"/>
              <a:ext cx="5968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10120" y="359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697280" y="3184560"/>
              <a:ext cx="489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759200" y="3216240"/>
              <a:ext cx="43812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759200" y="3216240"/>
              <a:ext cx="368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759200" y="3228840"/>
              <a:ext cx="4096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45120" y="3166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000680" y="3216240"/>
              <a:ext cx="230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51440" y="3247920"/>
              <a:ext cx="117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051440" y="3257640"/>
              <a:ext cx="11736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051440" y="3270240"/>
              <a:ext cx="1476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181400" y="320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68800" y="4233960"/>
              <a:ext cx="2016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68800" y="4243320"/>
              <a:ext cx="2016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68800" y="4254480"/>
              <a:ext cx="2300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070520" y="4500720"/>
              <a:ext cx="3960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210200" y="4800600"/>
              <a:ext cx="29880" cy="6336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540320" y="4951440"/>
              <a:ext cx="39600" cy="3168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378320" y="4897440"/>
              <a:ext cx="5076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338720" y="4746600"/>
              <a:ext cx="3168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91160" y="4998960"/>
              <a:ext cx="14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029120" y="4308480"/>
              <a:ext cx="8100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908600" y="5003640"/>
              <a:ext cx="49320" cy="52560"/>
            </a:xfrm>
            <a:prstGeom prst="ellipse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08440" y="4746600"/>
              <a:ext cx="3492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759200" y="4778280"/>
              <a:ext cx="25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759200" y="4789440"/>
              <a:ext cx="2494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759200" y="4789440"/>
              <a:ext cx="27936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022720" y="4730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4790880" y="4856040"/>
              <a:ext cx="5076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49840" y="3367080"/>
              <a:ext cx="80640" cy="954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882960" y="4649760"/>
              <a:ext cx="144360" cy="160200"/>
            </a:xfrm>
            <a:custGeom>
              <a:avLst/>
              <a:gdLst/>
              <a:ahLst/>
              <a:rect l="l" t="t" r="r" b="b"/>
              <a:pathLst>
                <a:path w="115" h="119">
                  <a:moveTo>
                    <a:pt x="115" y="0"/>
                  </a:moveTo>
                  <a:lnTo>
                    <a:pt x="115" y="5"/>
                  </a:lnTo>
                  <a:lnTo>
                    <a:pt x="108" y="11"/>
                  </a:lnTo>
                  <a:lnTo>
                    <a:pt x="108" y="18"/>
                  </a:lnTo>
                  <a:lnTo>
                    <a:pt x="103" y="23"/>
                  </a:lnTo>
                  <a:lnTo>
                    <a:pt x="97" y="23"/>
                  </a:lnTo>
                  <a:lnTo>
                    <a:pt x="97" y="28"/>
                  </a:lnTo>
                  <a:lnTo>
                    <a:pt x="92" y="34"/>
                  </a:lnTo>
                  <a:lnTo>
                    <a:pt x="92" y="39"/>
                  </a:lnTo>
                  <a:lnTo>
                    <a:pt x="86" y="44"/>
                  </a:lnTo>
                  <a:lnTo>
                    <a:pt x="80" y="44"/>
                  </a:lnTo>
                  <a:lnTo>
                    <a:pt x="80" y="51"/>
                  </a:lnTo>
                  <a:lnTo>
                    <a:pt x="74" y="51"/>
                  </a:lnTo>
                  <a:lnTo>
                    <a:pt x="69" y="57"/>
                  </a:lnTo>
                  <a:lnTo>
                    <a:pt x="69" y="62"/>
                  </a:lnTo>
                  <a:lnTo>
                    <a:pt x="63" y="67"/>
                  </a:lnTo>
                  <a:lnTo>
                    <a:pt x="56" y="67"/>
                  </a:lnTo>
                  <a:lnTo>
                    <a:pt x="51" y="67"/>
                  </a:lnTo>
                  <a:lnTo>
                    <a:pt x="51" y="74"/>
                  </a:lnTo>
                  <a:lnTo>
                    <a:pt x="46" y="79"/>
                  </a:lnTo>
                  <a:lnTo>
                    <a:pt x="46" y="85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4" y="91"/>
                  </a:lnTo>
                  <a:lnTo>
                    <a:pt x="28" y="91"/>
                  </a:lnTo>
                  <a:lnTo>
                    <a:pt x="23" y="91"/>
                  </a:lnTo>
                  <a:lnTo>
                    <a:pt x="18" y="91"/>
                  </a:lnTo>
                  <a:lnTo>
                    <a:pt x="18" y="96"/>
                  </a:lnTo>
                  <a:lnTo>
                    <a:pt x="11" y="102"/>
                  </a:lnTo>
                  <a:lnTo>
                    <a:pt x="11" y="107"/>
                  </a:lnTo>
                  <a:lnTo>
                    <a:pt x="5" y="113"/>
                  </a:lnTo>
                  <a:lnTo>
                    <a:pt x="0" y="11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f0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78280" y="4649760"/>
              <a:ext cx="157320" cy="165240"/>
            </a:xfrm>
            <a:custGeom>
              <a:avLst/>
              <a:gdLst/>
              <a:ahLst/>
              <a:rect l="l" t="t" r="r" b="b"/>
              <a:pathLst>
                <a:path w="125" h="123">
                  <a:moveTo>
                    <a:pt x="125" y="0"/>
                  </a:moveTo>
                  <a:lnTo>
                    <a:pt x="112" y="0"/>
                  </a:lnTo>
                  <a:lnTo>
                    <a:pt x="112" y="5"/>
                  </a:lnTo>
                  <a:lnTo>
                    <a:pt x="119" y="5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06" y="11"/>
                  </a:lnTo>
                  <a:lnTo>
                    <a:pt x="106" y="18"/>
                  </a:lnTo>
                  <a:lnTo>
                    <a:pt x="112" y="18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3" y="19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1" y="16"/>
                  </a:lnTo>
                  <a:lnTo>
                    <a:pt x="101" y="16"/>
                  </a:lnTo>
                  <a:lnTo>
                    <a:pt x="97" y="19"/>
                  </a:lnTo>
                  <a:lnTo>
                    <a:pt x="94" y="23"/>
                  </a:lnTo>
                  <a:lnTo>
                    <a:pt x="94" y="28"/>
                  </a:lnTo>
                  <a:lnTo>
                    <a:pt x="101" y="28"/>
                  </a:lnTo>
                  <a:lnTo>
                    <a:pt x="97" y="24"/>
                  </a:lnTo>
                  <a:lnTo>
                    <a:pt x="92" y="30"/>
                  </a:lnTo>
                  <a:lnTo>
                    <a:pt x="89" y="34"/>
                  </a:lnTo>
                  <a:lnTo>
                    <a:pt x="89" y="39"/>
                  </a:lnTo>
                  <a:lnTo>
                    <a:pt x="96" y="39"/>
                  </a:lnTo>
                  <a:lnTo>
                    <a:pt x="92" y="35"/>
                  </a:lnTo>
                  <a:lnTo>
                    <a:pt x="92" y="35"/>
                  </a:lnTo>
                  <a:lnTo>
                    <a:pt x="87" y="41"/>
                  </a:lnTo>
                  <a:lnTo>
                    <a:pt x="90" y="44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0" y="41"/>
                  </a:lnTo>
                  <a:lnTo>
                    <a:pt x="78" y="44"/>
                  </a:lnTo>
                  <a:lnTo>
                    <a:pt x="78" y="51"/>
                  </a:lnTo>
                  <a:lnTo>
                    <a:pt x="84" y="51"/>
                  </a:lnTo>
                  <a:lnTo>
                    <a:pt x="84" y="44"/>
                  </a:lnTo>
                  <a:lnTo>
                    <a:pt x="80" y="47"/>
                  </a:lnTo>
                  <a:lnTo>
                    <a:pt x="84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4" y="47"/>
                  </a:lnTo>
                  <a:lnTo>
                    <a:pt x="74" y="47"/>
                  </a:lnTo>
                  <a:lnTo>
                    <a:pt x="69" y="53"/>
                  </a:lnTo>
                  <a:lnTo>
                    <a:pt x="66" y="57"/>
                  </a:lnTo>
                  <a:lnTo>
                    <a:pt x="66" y="62"/>
                  </a:lnTo>
                  <a:lnTo>
                    <a:pt x="73" y="62"/>
                  </a:lnTo>
                  <a:lnTo>
                    <a:pt x="69" y="58"/>
                  </a:lnTo>
                  <a:lnTo>
                    <a:pt x="69" y="58"/>
                  </a:lnTo>
                  <a:lnTo>
                    <a:pt x="64" y="63"/>
                  </a:lnTo>
                  <a:lnTo>
                    <a:pt x="67" y="67"/>
                  </a:lnTo>
                  <a:lnTo>
                    <a:pt x="67" y="61"/>
                  </a:lnTo>
                  <a:lnTo>
                    <a:pt x="60" y="61"/>
                  </a:lnTo>
                  <a:lnTo>
                    <a:pt x="55" y="61"/>
                  </a:lnTo>
                  <a:lnTo>
                    <a:pt x="55" y="61"/>
                  </a:lnTo>
                  <a:lnTo>
                    <a:pt x="51" y="63"/>
                  </a:lnTo>
                  <a:lnTo>
                    <a:pt x="48" y="67"/>
                  </a:lnTo>
                  <a:lnTo>
                    <a:pt x="48" y="74"/>
                  </a:lnTo>
                  <a:lnTo>
                    <a:pt x="55" y="74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43" y="79"/>
                  </a:lnTo>
                  <a:lnTo>
                    <a:pt x="43" y="85"/>
                  </a:lnTo>
                  <a:lnTo>
                    <a:pt x="43" y="91"/>
                  </a:lnTo>
                  <a:lnTo>
                    <a:pt x="50" y="91"/>
                  </a:lnTo>
                  <a:lnTo>
                    <a:pt x="50" y="85"/>
                  </a:lnTo>
                  <a:lnTo>
                    <a:pt x="46" y="88"/>
                  </a:lnTo>
                  <a:lnTo>
                    <a:pt x="50" y="85"/>
                  </a:lnTo>
                  <a:lnTo>
                    <a:pt x="43" y="85"/>
                  </a:lnTo>
                  <a:lnTo>
                    <a:pt x="38" y="85"/>
                  </a:lnTo>
                  <a:lnTo>
                    <a:pt x="32" y="85"/>
                  </a:lnTo>
                  <a:lnTo>
                    <a:pt x="27" y="85"/>
                  </a:lnTo>
                  <a:lnTo>
                    <a:pt x="22" y="85"/>
                  </a:lnTo>
                  <a:lnTo>
                    <a:pt x="22" y="85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5" y="96"/>
                  </a:lnTo>
                  <a:lnTo>
                    <a:pt x="22" y="96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1" y="98"/>
                  </a:lnTo>
                  <a:lnTo>
                    <a:pt x="11" y="98"/>
                  </a:lnTo>
                  <a:lnTo>
                    <a:pt x="9" y="102"/>
                  </a:lnTo>
                  <a:lnTo>
                    <a:pt x="9" y="107"/>
                  </a:lnTo>
                  <a:lnTo>
                    <a:pt x="15" y="107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0" y="116"/>
                  </a:lnTo>
                  <a:lnTo>
                    <a:pt x="9" y="123"/>
                  </a:lnTo>
                  <a:lnTo>
                    <a:pt x="14" y="117"/>
                  </a:lnTo>
                  <a:lnTo>
                    <a:pt x="9" y="113"/>
                  </a:lnTo>
                  <a:lnTo>
                    <a:pt x="14" y="118"/>
                  </a:lnTo>
                  <a:lnTo>
                    <a:pt x="20" y="112"/>
                  </a:lnTo>
                  <a:lnTo>
                    <a:pt x="20" y="110"/>
                  </a:lnTo>
                  <a:lnTo>
                    <a:pt x="22" y="107"/>
                  </a:lnTo>
                  <a:lnTo>
                    <a:pt x="22" y="107"/>
                  </a:lnTo>
                  <a:lnTo>
                    <a:pt x="22" y="102"/>
                  </a:lnTo>
                  <a:lnTo>
                    <a:pt x="15" y="102"/>
                  </a:lnTo>
                  <a:lnTo>
                    <a:pt x="19" y="107"/>
                  </a:lnTo>
                  <a:lnTo>
                    <a:pt x="25" y="102"/>
                  </a:lnTo>
                  <a:lnTo>
                    <a:pt x="27" y="100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91"/>
                  </a:lnTo>
                  <a:lnTo>
                    <a:pt x="22" y="98"/>
                  </a:lnTo>
                  <a:lnTo>
                    <a:pt x="27" y="95"/>
                  </a:lnTo>
                  <a:lnTo>
                    <a:pt x="28" y="91"/>
                  </a:lnTo>
                  <a:lnTo>
                    <a:pt x="22" y="91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2" y="98"/>
                  </a:lnTo>
                  <a:lnTo>
                    <a:pt x="38" y="98"/>
                  </a:lnTo>
                  <a:lnTo>
                    <a:pt x="43" y="98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55" y="95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6" y="85"/>
                  </a:lnTo>
                  <a:lnTo>
                    <a:pt x="56" y="79"/>
                  </a:lnTo>
                  <a:lnTo>
                    <a:pt x="50" y="79"/>
                  </a:lnTo>
                  <a:lnTo>
                    <a:pt x="55" y="84"/>
                  </a:lnTo>
                  <a:lnTo>
                    <a:pt x="60" y="79"/>
                  </a:lnTo>
                  <a:lnTo>
                    <a:pt x="60" y="77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67"/>
                  </a:lnTo>
                  <a:lnTo>
                    <a:pt x="55" y="74"/>
                  </a:lnTo>
                  <a:lnTo>
                    <a:pt x="60" y="71"/>
                  </a:lnTo>
                  <a:lnTo>
                    <a:pt x="61" y="67"/>
                  </a:lnTo>
                  <a:lnTo>
                    <a:pt x="55" y="67"/>
                  </a:lnTo>
                  <a:lnTo>
                    <a:pt x="55" y="74"/>
                  </a:lnTo>
                  <a:lnTo>
                    <a:pt x="60" y="74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3" y="72"/>
                  </a:lnTo>
                  <a:lnTo>
                    <a:pt x="78" y="67"/>
                  </a:lnTo>
                  <a:lnTo>
                    <a:pt x="78" y="66"/>
                  </a:lnTo>
                  <a:lnTo>
                    <a:pt x="79" y="62"/>
                  </a:lnTo>
                  <a:lnTo>
                    <a:pt x="79" y="62"/>
                  </a:lnTo>
                  <a:lnTo>
                    <a:pt x="79" y="57"/>
                  </a:lnTo>
                  <a:lnTo>
                    <a:pt x="73" y="57"/>
                  </a:lnTo>
                  <a:lnTo>
                    <a:pt x="78" y="61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8" y="57"/>
                  </a:lnTo>
                  <a:lnTo>
                    <a:pt x="84" y="57"/>
                  </a:lnTo>
                  <a:lnTo>
                    <a:pt x="84" y="57"/>
                  </a:lnTo>
                  <a:lnTo>
                    <a:pt x="89" y="55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90" y="44"/>
                  </a:lnTo>
                  <a:lnTo>
                    <a:pt x="84" y="51"/>
                  </a:lnTo>
                  <a:lnTo>
                    <a:pt x="89" y="48"/>
                  </a:lnTo>
                  <a:lnTo>
                    <a:pt x="90" y="44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96" y="49"/>
                  </a:lnTo>
                  <a:lnTo>
                    <a:pt x="101" y="44"/>
                  </a:lnTo>
                  <a:lnTo>
                    <a:pt x="101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2" y="34"/>
                  </a:lnTo>
                  <a:lnTo>
                    <a:pt x="96" y="34"/>
                  </a:lnTo>
                  <a:lnTo>
                    <a:pt x="101" y="38"/>
                  </a:lnTo>
                  <a:lnTo>
                    <a:pt x="106" y="32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7" y="23"/>
                  </a:lnTo>
                  <a:lnTo>
                    <a:pt x="101" y="29"/>
                  </a:lnTo>
                  <a:lnTo>
                    <a:pt x="106" y="27"/>
                  </a:lnTo>
                  <a:lnTo>
                    <a:pt x="107" y="23"/>
                  </a:lnTo>
                  <a:lnTo>
                    <a:pt x="101" y="23"/>
                  </a:lnTo>
                  <a:lnTo>
                    <a:pt x="101" y="29"/>
                  </a:lnTo>
                  <a:lnTo>
                    <a:pt x="107" y="29"/>
                  </a:lnTo>
                  <a:lnTo>
                    <a:pt x="107" y="29"/>
                  </a:lnTo>
                  <a:lnTo>
                    <a:pt x="112" y="28"/>
                  </a:lnTo>
                  <a:lnTo>
                    <a:pt x="117" y="23"/>
                  </a:lnTo>
                  <a:lnTo>
                    <a:pt x="117" y="21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1"/>
                  </a:lnTo>
                  <a:lnTo>
                    <a:pt x="112" y="11"/>
                  </a:lnTo>
                  <a:lnTo>
                    <a:pt x="117" y="16"/>
                  </a:lnTo>
                  <a:lnTo>
                    <a:pt x="124" y="10"/>
                  </a:lnTo>
                  <a:lnTo>
                    <a:pt x="124" y="9"/>
                  </a:lnTo>
                  <a:lnTo>
                    <a:pt x="125" y="5"/>
                  </a:lnTo>
                  <a:lnTo>
                    <a:pt x="125" y="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307120" y="5003640"/>
              <a:ext cx="50760" cy="320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127480" y="5046840"/>
              <a:ext cx="51120" cy="42840"/>
            </a:xfrm>
            <a:prstGeom prst="ellipse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438880" y="4983120"/>
              <a:ext cx="38160" cy="2052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948200" y="5249880"/>
              <a:ext cx="81000" cy="42840"/>
            </a:xfrm>
            <a:prstGeom prst="ellipse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40360" y="3355920"/>
              <a:ext cx="3960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468680" y="3408480"/>
              <a:ext cx="41400" cy="540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649760" y="3313080"/>
              <a:ext cx="7776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54440" y="3313080"/>
              <a:ext cx="71640" cy="9216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29" y="0"/>
                  </a:moveTo>
                  <a:lnTo>
                    <a:pt x="0" y="68"/>
                  </a:lnTo>
                  <a:lnTo>
                    <a:pt x="57" y="6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119560" y="3324240"/>
              <a:ext cx="28800" cy="3168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259240" y="3216240"/>
              <a:ext cx="68400" cy="96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361120" y="3059280"/>
              <a:ext cx="72720" cy="8712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35" y="0"/>
                  </a:moveTo>
                  <a:lnTo>
                    <a:pt x="0" y="64"/>
                  </a:lnTo>
                  <a:lnTo>
                    <a:pt x="58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849840" y="5003640"/>
              <a:ext cx="41040" cy="320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800520" y="4821120"/>
              <a:ext cx="7920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803760" y="4816440"/>
              <a:ext cx="79200" cy="9216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28" y="0"/>
                  </a:moveTo>
                  <a:lnTo>
                    <a:pt x="0" y="69"/>
                  </a:lnTo>
                  <a:lnTo>
                    <a:pt x="63" y="6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029120" y="5003640"/>
              <a:ext cx="30240" cy="320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527800" y="4821120"/>
              <a:ext cx="50760" cy="42840"/>
            </a:xfrm>
            <a:prstGeom prst="ellipse">
              <a:avLst/>
            </a:prstGeom>
            <a:solidFill>
              <a:srgbClr val="f3f8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809880" y="3676680"/>
              <a:ext cx="30240" cy="2232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930480" y="3814920"/>
              <a:ext cx="30240" cy="3312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869000" y="5540400"/>
              <a:ext cx="792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870440" y="5543640"/>
              <a:ext cx="81000" cy="824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29" y="0"/>
                  </a:moveTo>
                  <a:lnTo>
                    <a:pt x="0" y="61"/>
                  </a:lnTo>
                  <a:lnTo>
                    <a:pt x="64" y="6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981600" y="4606920"/>
              <a:ext cx="47520" cy="540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759200" y="4960800"/>
              <a:ext cx="28800" cy="320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981600" y="4008600"/>
              <a:ext cx="58680" cy="4284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703760" y="4970520"/>
              <a:ext cx="30240" cy="31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13" y="24"/>
                  </a:lnTo>
                  <a:lnTo>
                    <a:pt x="18" y="22"/>
                  </a:lnTo>
                  <a:lnTo>
                    <a:pt x="24" y="16"/>
                  </a:lnTo>
                  <a:lnTo>
                    <a:pt x="15" y="7"/>
                  </a:lnTo>
                  <a:lnTo>
                    <a:pt x="9" y="14"/>
                  </a:lnTo>
                  <a:lnTo>
                    <a:pt x="18" y="14"/>
                  </a:lnTo>
                  <a:lnTo>
                    <a:pt x="13" y="11"/>
                  </a:lnTo>
                  <a:lnTo>
                    <a:pt x="13" y="17"/>
                  </a:lnTo>
                  <a:lnTo>
                    <a:pt x="18" y="1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13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e0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649760" y="4951440"/>
              <a:ext cx="39600" cy="414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006960" y="5141880"/>
              <a:ext cx="59040" cy="5544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637240" y="5046840"/>
              <a:ext cx="44748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776920" y="5078520"/>
              <a:ext cx="1792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746680" y="5078520"/>
              <a:ext cx="1810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746680" y="5078520"/>
              <a:ext cx="2095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635440" y="5264280"/>
              <a:ext cx="31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Xalap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3568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927760" y="5099040"/>
              <a:ext cx="557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5130720"/>
              <a:ext cx="24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6040" y="5078520"/>
              <a:ext cx="330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26040" y="5078520"/>
              <a:ext cx="4082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87600" y="508320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Veracruz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343560" y="5033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746680" y="5175360"/>
              <a:ext cx="266760" cy="68040"/>
            </a:xfrm>
            <a:custGeom>
              <a:avLst/>
              <a:gdLst/>
              <a:ahLst/>
              <a:rect l="l" t="t" r="r" b="b"/>
              <a:pathLst>
                <a:path w="212" h="50">
                  <a:moveTo>
                    <a:pt x="5" y="12"/>
                  </a:moveTo>
                  <a:lnTo>
                    <a:pt x="0" y="22"/>
                  </a:lnTo>
                  <a:lnTo>
                    <a:pt x="9" y="26"/>
                  </a:lnTo>
                  <a:lnTo>
                    <a:pt x="19" y="27"/>
                  </a:lnTo>
                  <a:lnTo>
                    <a:pt x="29" y="31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8" y="33"/>
                  </a:lnTo>
                  <a:lnTo>
                    <a:pt x="88" y="31"/>
                  </a:lnTo>
                  <a:lnTo>
                    <a:pt x="90" y="30"/>
                  </a:lnTo>
                  <a:lnTo>
                    <a:pt x="93" y="27"/>
                  </a:lnTo>
                  <a:lnTo>
                    <a:pt x="93" y="26"/>
                  </a:lnTo>
                  <a:lnTo>
                    <a:pt x="89" y="22"/>
                  </a:lnTo>
                  <a:lnTo>
                    <a:pt x="89" y="27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87" y="27"/>
                  </a:lnTo>
                  <a:lnTo>
                    <a:pt x="93" y="30"/>
                  </a:lnTo>
                  <a:lnTo>
                    <a:pt x="98" y="31"/>
                  </a:lnTo>
                  <a:lnTo>
                    <a:pt x="106" y="35"/>
                  </a:lnTo>
                  <a:lnTo>
                    <a:pt x="111" y="37"/>
                  </a:lnTo>
                  <a:lnTo>
                    <a:pt x="112" y="39"/>
                  </a:lnTo>
                  <a:lnTo>
                    <a:pt x="116" y="33"/>
                  </a:lnTo>
                  <a:lnTo>
                    <a:pt x="111" y="37"/>
                  </a:lnTo>
                  <a:lnTo>
                    <a:pt x="110" y="35"/>
                  </a:lnTo>
                  <a:lnTo>
                    <a:pt x="111" y="37"/>
                  </a:lnTo>
                  <a:lnTo>
                    <a:pt x="116" y="35"/>
                  </a:lnTo>
                  <a:lnTo>
                    <a:pt x="111" y="32"/>
                  </a:lnTo>
                  <a:lnTo>
                    <a:pt x="110" y="35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16" y="35"/>
                  </a:lnTo>
                  <a:lnTo>
                    <a:pt x="112" y="30"/>
                  </a:lnTo>
                  <a:lnTo>
                    <a:pt x="111" y="30"/>
                  </a:lnTo>
                  <a:lnTo>
                    <a:pt x="113" y="35"/>
                  </a:lnTo>
                  <a:lnTo>
                    <a:pt x="113" y="30"/>
                  </a:lnTo>
                  <a:lnTo>
                    <a:pt x="111" y="30"/>
                  </a:lnTo>
                  <a:lnTo>
                    <a:pt x="107" y="30"/>
                  </a:lnTo>
                  <a:lnTo>
                    <a:pt x="106" y="30"/>
                  </a:lnTo>
                  <a:lnTo>
                    <a:pt x="103" y="30"/>
                  </a:lnTo>
                  <a:lnTo>
                    <a:pt x="102" y="31"/>
                  </a:lnTo>
                  <a:lnTo>
                    <a:pt x="99" y="33"/>
                  </a:lnTo>
                  <a:lnTo>
                    <a:pt x="99" y="35"/>
                  </a:lnTo>
                  <a:lnTo>
                    <a:pt x="99" y="39"/>
                  </a:lnTo>
                  <a:lnTo>
                    <a:pt x="102" y="40"/>
                  </a:lnTo>
                  <a:lnTo>
                    <a:pt x="103" y="41"/>
                  </a:lnTo>
                  <a:lnTo>
                    <a:pt x="106" y="41"/>
                  </a:lnTo>
                  <a:lnTo>
                    <a:pt x="108" y="41"/>
                  </a:lnTo>
                  <a:lnTo>
                    <a:pt x="112" y="42"/>
                  </a:lnTo>
                  <a:lnTo>
                    <a:pt x="119" y="45"/>
                  </a:lnTo>
                  <a:lnTo>
                    <a:pt x="129" y="46"/>
                  </a:lnTo>
                  <a:lnTo>
                    <a:pt x="129" y="40"/>
                  </a:lnTo>
                  <a:lnTo>
                    <a:pt x="127" y="45"/>
                  </a:lnTo>
                  <a:lnTo>
                    <a:pt x="125" y="45"/>
                  </a:lnTo>
                  <a:lnTo>
                    <a:pt x="130" y="47"/>
                  </a:lnTo>
                  <a:lnTo>
                    <a:pt x="131" y="49"/>
                  </a:lnTo>
                  <a:lnTo>
                    <a:pt x="135" y="49"/>
                  </a:lnTo>
                  <a:lnTo>
                    <a:pt x="142" y="50"/>
                  </a:lnTo>
                  <a:lnTo>
                    <a:pt x="149" y="49"/>
                  </a:lnTo>
                  <a:lnTo>
                    <a:pt x="152" y="49"/>
                  </a:lnTo>
                  <a:lnTo>
                    <a:pt x="161" y="45"/>
                  </a:lnTo>
                  <a:lnTo>
                    <a:pt x="163" y="45"/>
                  </a:lnTo>
                  <a:lnTo>
                    <a:pt x="163" y="41"/>
                  </a:lnTo>
                  <a:lnTo>
                    <a:pt x="166" y="40"/>
                  </a:lnTo>
                  <a:lnTo>
                    <a:pt x="167" y="37"/>
                  </a:lnTo>
                  <a:lnTo>
                    <a:pt x="167" y="35"/>
                  </a:lnTo>
                  <a:lnTo>
                    <a:pt x="167" y="28"/>
                  </a:lnTo>
                  <a:lnTo>
                    <a:pt x="167" y="22"/>
                  </a:lnTo>
                  <a:lnTo>
                    <a:pt x="161" y="22"/>
                  </a:lnTo>
                  <a:lnTo>
                    <a:pt x="167" y="25"/>
                  </a:lnTo>
                  <a:lnTo>
                    <a:pt x="167" y="21"/>
                  </a:lnTo>
                  <a:lnTo>
                    <a:pt x="162" y="20"/>
                  </a:lnTo>
                  <a:lnTo>
                    <a:pt x="167" y="23"/>
                  </a:lnTo>
                  <a:lnTo>
                    <a:pt x="168" y="21"/>
                  </a:lnTo>
                  <a:lnTo>
                    <a:pt x="163" y="17"/>
                  </a:lnTo>
                  <a:lnTo>
                    <a:pt x="163" y="22"/>
                  </a:lnTo>
                  <a:lnTo>
                    <a:pt x="167" y="22"/>
                  </a:lnTo>
                  <a:lnTo>
                    <a:pt x="163" y="23"/>
                  </a:lnTo>
                  <a:lnTo>
                    <a:pt x="167" y="23"/>
                  </a:lnTo>
                  <a:lnTo>
                    <a:pt x="170" y="23"/>
                  </a:lnTo>
                  <a:lnTo>
                    <a:pt x="172" y="23"/>
                  </a:lnTo>
                  <a:lnTo>
                    <a:pt x="176" y="23"/>
                  </a:lnTo>
                  <a:lnTo>
                    <a:pt x="176" y="17"/>
                  </a:lnTo>
                  <a:lnTo>
                    <a:pt x="175" y="23"/>
                  </a:lnTo>
                  <a:lnTo>
                    <a:pt x="180" y="25"/>
                  </a:lnTo>
                  <a:lnTo>
                    <a:pt x="184" y="25"/>
                  </a:lnTo>
                  <a:lnTo>
                    <a:pt x="189" y="25"/>
                  </a:lnTo>
                  <a:lnTo>
                    <a:pt x="193" y="25"/>
                  </a:lnTo>
                  <a:lnTo>
                    <a:pt x="195" y="25"/>
                  </a:lnTo>
                  <a:lnTo>
                    <a:pt x="196" y="23"/>
                  </a:lnTo>
                  <a:lnTo>
                    <a:pt x="199" y="21"/>
                  </a:lnTo>
                  <a:lnTo>
                    <a:pt x="200" y="20"/>
                  </a:lnTo>
                  <a:lnTo>
                    <a:pt x="203" y="17"/>
                  </a:lnTo>
                  <a:lnTo>
                    <a:pt x="207" y="14"/>
                  </a:lnTo>
                  <a:lnTo>
                    <a:pt x="203" y="9"/>
                  </a:lnTo>
                  <a:lnTo>
                    <a:pt x="205" y="14"/>
                  </a:lnTo>
                  <a:lnTo>
                    <a:pt x="208" y="13"/>
                  </a:lnTo>
                  <a:lnTo>
                    <a:pt x="212" y="12"/>
                  </a:lnTo>
                  <a:lnTo>
                    <a:pt x="208" y="0"/>
                  </a:lnTo>
                  <a:lnTo>
                    <a:pt x="203" y="2"/>
                  </a:lnTo>
                  <a:lnTo>
                    <a:pt x="200" y="4"/>
                  </a:lnTo>
                  <a:lnTo>
                    <a:pt x="199" y="6"/>
                  </a:lnTo>
                  <a:lnTo>
                    <a:pt x="195" y="8"/>
                  </a:lnTo>
                  <a:lnTo>
                    <a:pt x="193" y="12"/>
                  </a:lnTo>
                  <a:lnTo>
                    <a:pt x="190" y="13"/>
                  </a:lnTo>
                  <a:lnTo>
                    <a:pt x="195" y="18"/>
                  </a:lnTo>
                  <a:lnTo>
                    <a:pt x="193" y="12"/>
                  </a:lnTo>
                  <a:lnTo>
                    <a:pt x="190" y="13"/>
                  </a:lnTo>
                  <a:lnTo>
                    <a:pt x="193" y="18"/>
                  </a:lnTo>
                  <a:lnTo>
                    <a:pt x="193" y="13"/>
                  </a:lnTo>
                  <a:lnTo>
                    <a:pt x="189" y="13"/>
                  </a:lnTo>
                  <a:lnTo>
                    <a:pt x="184" y="12"/>
                  </a:lnTo>
                  <a:lnTo>
                    <a:pt x="180" y="12"/>
                  </a:lnTo>
                  <a:lnTo>
                    <a:pt x="177" y="12"/>
                  </a:lnTo>
                  <a:lnTo>
                    <a:pt x="176" y="12"/>
                  </a:lnTo>
                  <a:lnTo>
                    <a:pt x="172" y="12"/>
                  </a:lnTo>
                  <a:lnTo>
                    <a:pt x="170" y="12"/>
                  </a:lnTo>
                  <a:lnTo>
                    <a:pt x="167" y="12"/>
                  </a:lnTo>
                  <a:lnTo>
                    <a:pt x="163" y="12"/>
                  </a:lnTo>
                  <a:lnTo>
                    <a:pt x="162" y="12"/>
                  </a:lnTo>
                  <a:lnTo>
                    <a:pt x="159" y="13"/>
                  </a:lnTo>
                  <a:lnTo>
                    <a:pt x="158" y="14"/>
                  </a:lnTo>
                  <a:lnTo>
                    <a:pt x="156" y="17"/>
                  </a:lnTo>
                  <a:lnTo>
                    <a:pt x="156" y="20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4" y="35"/>
                  </a:lnTo>
                  <a:lnTo>
                    <a:pt x="161" y="35"/>
                  </a:lnTo>
                  <a:lnTo>
                    <a:pt x="156" y="32"/>
                  </a:lnTo>
                  <a:lnTo>
                    <a:pt x="154" y="35"/>
                  </a:lnTo>
                  <a:lnTo>
                    <a:pt x="159" y="37"/>
                  </a:lnTo>
                  <a:lnTo>
                    <a:pt x="156" y="33"/>
                  </a:lnTo>
                  <a:lnTo>
                    <a:pt x="154" y="36"/>
                  </a:lnTo>
                  <a:lnTo>
                    <a:pt x="158" y="40"/>
                  </a:lnTo>
                  <a:lnTo>
                    <a:pt x="156" y="35"/>
                  </a:lnTo>
                  <a:lnTo>
                    <a:pt x="147" y="37"/>
                  </a:lnTo>
                  <a:lnTo>
                    <a:pt x="149" y="42"/>
                  </a:lnTo>
                  <a:lnTo>
                    <a:pt x="149" y="37"/>
                  </a:lnTo>
                  <a:lnTo>
                    <a:pt x="142" y="39"/>
                  </a:lnTo>
                  <a:lnTo>
                    <a:pt x="135" y="37"/>
                  </a:lnTo>
                  <a:lnTo>
                    <a:pt x="136" y="37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30" y="35"/>
                  </a:lnTo>
                  <a:lnTo>
                    <a:pt x="119" y="32"/>
                  </a:lnTo>
                  <a:lnTo>
                    <a:pt x="112" y="31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10" y="31"/>
                  </a:lnTo>
                  <a:lnTo>
                    <a:pt x="108" y="31"/>
                  </a:lnTo>
                  <a:lnTo>
                    <a:pt x="106" y="36"/>
                  </a:lnTo>
                  <a:lnTo>
                    <a:pt x="110" y="31"/>
                  </a:lnTo>
                  <a:lnTo>
                    <a:pt x="108" y="41"/>
                  </a:lnTo>
                  <a:lnTo>
                    <a:pt x="110" y="40"/>
                  </a:lnTo>
                  <a:lnTo>
                    <a:pt x="111" y="39"/>
                  </a:lnTo>
                  <a:lnTo>
                    <a:pt x="112" y="35"/>
                  </a:lnTo>
                  <a:lnTo>
                    <a:pt x="111" y="33"/>
                  </a:lnTo>
                  <a:lnTo>
                    <a:pt x="106" y="35"/>
                  </a:lnTo>
                  <a:lnTo>
                    <a:pt x="106" y="41"/>
                  </a:lnTo>
                  <a:lnTo>
                    <a:pt x="107" y="41"/>
                  </a:lnTo>
                  <a:lnTo>
                    <a:pt x="111" y="41"/>
                  </a:lnTo>
                  <a:lnTo>
                    <a:pt x="113" y="41"/>
                  </a:lnTo>
                  <a:lnTo>
                    <a:pt x="116" y="41"/>
                  </a:lnTo>
                  <a:lnTo>
                    <a:pt x="117" y="41"/>
                  </a:lnTo>
                  <a:lnTo>
                    <a:pt x="119" y="39"/>
                  </a:lnTo>
                  <a:lnTo>
                    <a:pt x="120" y="39"/>
                  </a:lnTo>
                  <a:lnTo>
                    <a:pt x="122" y="37"/>
                  </a:lnTo>
                  <a:lnTo>
                    <a:pt x="122" y="35"/>
                  </a:lnTo>
                  <a:lnTo>
                    <a:pt x="122" y="32"/>
                  </a:lnTo>
                  <a:lnTo>
                    <a:pt x="121" y="31"/>
                  </a:lnTo>
                  <a:lnTo>
                    <a:pt x="119" y="28"/>
                  </a:lnTo>
                  <a:lnTo>
                    <a:pt x="117" y="27"/>
                  </a:lnTo>
                  <a:lnTo>
                    <a:pt x="116" y="26"/>
                  </a:lnTo>
                  <a:lnTo>
                    <a:pt x="110" y="25"/>
                  </a:lnTo>
                  <a:lnTo>
                    <a:pt x="103" y="21"/>
                  </a:lnTo>
                  <a:lnTo>
                    <a:pt x="97" y="18"/>
                  </a:lnTo>
                  <a:lnTo>
                    <a:pt x="90" y="17"/>
                  </a:lnTo>
                  <a:lnTo>
                    <a:pt x="89" y="17"/>
                  </a:lnTo>
                  <a:lnTo>
                    <a:pt x="87" y="17"/>
                  </a:lnTo>
                  <a:lnTo>
                    <a:pt x="84" y="18"/>
                  </a:lnTo>
                  <a:lnTo>
                    <a:pt x="84" y="20"/>
                  </a:lnTo>
                  <a:lnTo>
                    <a:pt x="83" y="21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83" y="23"/>
                  </a:lnTo>
                  <a:lnTo>
                    <a:pt x="82" y="23"/>
                  </a:lnTo>
                  <a:lnTo>
                    <a:pt x="79" y="25"/>
                  </a:lnTo>
                  <a:lnTo>
                    <a:pt x="83" y="28"/>
                  </a:lnTo>
                  <a:lnTo>
                    <a:pt x="83" y="23"/>
                  </a:lnTo>
                  <a:lnTo>
                    <a:pt x="71" y="23"/>
                  </a:lnTo>
                  <a:lnTo>
                    <a:pt x="61" y="23"/>
                  </a:lnTo>
                  <a:lnTo>
                    <a:pt x="52" y="23"/>
                  </a:lnTo>
                  <a:lnTo>
                    <a:pt x="43" y="23"/>
                  </a:lnTo>
                  <a:lnTo>
                    <a:pt x="43" y="28"/>
                  </a:lnTo>
                  <a:lnTo>
                    <a:pt x="46" y="23"/>
                  </a:lnTo>
                  <a:lnTo>
                    <a:pt x="33" y="20"/>
                  </a:lnTo>
                  <a:lnTo>
                    <a:pt x="23" y="17"/>
                  </a:lnTo>
                  <a:lnTo>
                    <a:pt x="14" y="14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578560" y="4861080"/>
              <a:ext cx="156960" cy="296640"/>
            </a:xfrm>
            <a:custGeom>
              <a:avLst/>
              <a:gdLst/>
              <a:ahLst/>
              <a:rect l="l" t="t" r="r" b="b"/>
              <a:pathLst>
                <a:path w="125" h="220">
                  <a:moveTo>
                    <a:pt x="11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14" y="36"/>
                  </a:lnTo>
                  <a:lnTo>
                    <a:pt x="22" y="42"/>
                  </a:lnTo>
                  <a:lnTo>
                    <a:pt x="23" y="44"/>
                  </a:lnTo>
                  <a:lnTo>
                    <a:pt x="32" y="50"/>
                  </a:lnTo>
                  <a:lnTo>
                    <a:pt x="42" y="55"/>
                  </a:lnTo>
                  <a:lnTo>
                    <a:pt x="52" y="60"/>
                  </a:lnTo>
                  <a:lnTo>
                    <a:pt x="66" y="64"/>
                  </a:lnTo>
                  <a:lnTo>
                    <a:pt x="68" y="59"/>
                  </a:lnTo>
                  <a:lnTo>
                    <a:pt x="64" y="64"/>
                  </a:lnTo>
                  <a:lnTo>
                    <a:pt x="66" y="67"/>
                  </a:lnTo>
                  <a:lnTo>
                    <a:pt x="69" y="68"/>
                  </a:lnTo>
                  <a:lnTo>
                    <a:pt x="70" y="69"/>
                  </a:lnTo>
                  <a:lnTo>
                    <a:pt x="74" y="65"/>
                  </a:lnTo>
                  <a:lnTo>
                    <a:pt x="69" y="68"/>
                  </a:lnTo>
                  <a:lnTo>
                    <a:pt x="69" y="68"/>
                  </a:lnTo>
                  <a:lnTo>
                    <a:pt x="70" y="70"/>
                  </a:lnTo>
                  <a:lnTo>
                    <a:pt x="71" y="72"/>
                  </a:lnTo>
                  <a:lnTo>
                    <a:pt x="73" y="74"/>
                  </a:lnTo>
                  <a:lnTo>
                    <a:pt x="76" y="78"/>
                  </a:lnTo>
                  <a:lnTo>
                    <a:pt x="80" y="84"/>
                  </a:lnTo>
                  <a:lnTo>
                    <a:pt x="85" y="81"/>
                  </a:lnTo>
                  <a:lnTo>
                    <a:pt x="80" y="81"/>
                  </a:lnTo>
                  <a:lnTo>
                    <a:pt x="80" y="83"/>
                  </a:lnTo>
                  <a:lnTo>
                    <a:pt x="80" y="81"/>
                  </a:lnTo>
                  <a:lnTo>
                    <a:pt x="80" y="83"/>
                  </a:lnTo>
                  <a:lnTo>
                    <a:pt x="80" y="87"/>
                  </a:lnTo>
                  <a:lnTo>
                    <a:pt x="80" y="89"/>
                  </a:lnTo>
                  <a:lnTo>
                    <a:pt x="83" y="96"/>
                  </a:lnTo>
                  <a:lnTo>
                    <a:pt x="84" y="100"/>
                  </a:lnTo>
                  <a:lnTo>
                    <a:pt x="84" y="102"/>
                  </a:lnTo>
                  <a:lnTo>
                    <a:pt x="85" y="106"/>
                  </a:lnTo>
                  <a:lnTo>
                    <a:pt x="90" y="103"/>
                  </a:lnTo>
                  <a:lnTo>
                    <a:pt x="85" y="103"/>
                  </a:lnTo>
                  <a:lnTo>
                    <a:pt x="85" y="102"/>
                  </a:lnTo>
                  <a:lnTo>
                    <a:pt x="84" y="109"/>
                  </a:lnTo>
                  <a:lnTo>
                    <a:pt x="83" y="111"/>
                  </a:lnTo>
                  <a:lnTo>
                    <a:pt x="82" y="119"/>
                  </a:lnTo>
                  <a:lnTo>
                    <a:pt x="80" y="130"/>
                  </a:lnTo>
                  <a:lnTo>
                    <a:pt x="80" y="140"/>
                  </a:lnTo>
                  <a:lnTo>
                    <a:pt x="82" y="142"/>
                  </a:lnTo>
                  <a:lnTo>
                    <a:pt x="84" y="152"/>
                  </a:lnTo>
                  <a:lnTo>
                    <a:pt x="87" y="161"/>
                  </a:lnTo>
                  <a:lnTo>
                    <a:pt x="89" y="163"/>
                  </a:lnTo>
                  <a:lnTo>
                    <a:pt x="96" y="170"/>
                  </a:lnTo>
                  <a:lnTo>
                    <a:pt x="97" y="172"/>
                  </a:lnTo>
                  <a:lnTo>
                    <a:pt x="106" y="177"/>
                  </a:lnTo>
                  <a:lnTo>
                    <a:pt x="108" y="172"/>
                  </a:lnTo>
                  <a:lnTo>
                    <a:pt x="103" y="172"/>
                  </a:lnTo>
                  <a:lnTo>
                    <a:pt x="103" y="173"/>
                  </a:lnTo>
                  <a:lnTo>
                    <a:pt x="103" y="176"/>
                  </a:lnTo>
                  <a:lnTo>
                    <a:pt x="103" y="172"/>
                  </a:lnTo>
                  <a:lnTo>
                    <a:pt x="103" y="176"/>
                  </a:lnTo>
                  <a:lnTo>
                    <a:pt x="103" y="182"/>
                  </a:lnTo>
                  <a:lnTo>
                    <a:pt x="106" y="195"/>
                  </a:lnTo>
                  <a:lnTo>
                    <a:pt x="106" y="196"/>
                  </a:lnTo>
                  <a:lnTo>
                    <a:pt x="110" y="209"/>
                  </a:lnTo>
                  <a:lnTo>
                    <a:pt x="112" y="214"/>
                  </a:lnTo>
                  <a:lnTo>
                    <a:pt x="115" y="220"/>
                  </a:lnTo>
                  <a:lnTo>
                    <a:pt x="125" y="214"/>
                  </a:lnTo>
                  <a:lnTo>
                    <a:pt x="122" y="209"/>
                  </a:lnTo>
                  <a:lnTo>
                    <a:pt x="121" y="205"/>
                  </a:lnTo>
                  <a:lnTo>
                    <a:pt x="117" y="192"/>
                  </a:lnTo>
                  <a:lnTo>
                    <a:pt x="112" y="195"/>
                  </a:lnTo>
                  <a:lnTo>
                    <a:pt x="117" y="195"/>
                  </a:lnTo>
                  <a:lnTo>
                    <a:pt x="116" y="182"/>
                  </a:lnTo>
                  <a:lnTo>
                    <a:pt x="115" y="176"/>
                  </a:lnTo>
                  <a:lnTo>
                    <a:pt x="115" y="172"/>
                  </a:lnTo>
                  <a:lnTo>
                    <a:pt x="113" y="172"/>
                  </a:lnTo>
                  <a:lnTo>
                    <a:pt x="113" y="170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2" y="161"/>
                  </a:lnTo>
                  <a:lnTo>
                    <a:pt x="99" y="166"/>
                  </a:lnTo>
                  <a:lnTo>
                    <a:pt x="103" y="162"/>
                  </a:lnTo>
                  <a:lnTo>
                    <a:pt x="97" y="154"/>
                  </a:lnTo>
                  <a:lnTo>
                    <a:pt x="93" y="159"/>
                  </a:lnTo>
                  <a:lnTo>
                    <a:pt x="98" y="157"/>
                  </a:lnTo>
                  <a:lnTo>
                    <a:pt x="94" y="147"/>
                  </a:lnTo>
                  <a:lnTo>
                    <a:pt x="93" y="137"/>
                  </a:lnTo>
                  <a:lnTo>
                    <a:pt x="87" y="140"/>
                  </a:lnTo>
                  <a:lnTo>
                    <a:pt x="93" y="140"/>
                  </a:lnTo>
                  <a:lnTo>
                    <a:pt x="93" y="130"/>
                  </a:lnTo>
                  <a:lnTo>
                    <a:pt x="93" y="119"/>
                  </a:lnTo>
                  <a:lnTo>
                    <a:pt x="94" y="111"/>
                  </a:lnTo>
                  <a:lnTo>
                    <a:pt x="89" y="111"/>
                  </a:lnTo>
                  <a:lnTo>
                    <a:pt x="94" y="112"/>
                  </a:lnTo>
                  <a:lnTo>
                    <a:pt x="97" y="106"/>
                  </a:lnTo>
                  <a:lnTo>
                    <a:pt x="97" y="103"/>
                  </a:lnTo>
                  <a:lnTo>
                    <a:pt x="97" y="102"/>
                  </a:lnTo>
                  <a:lnTo>
                    <a:pt x="97" y="101"/>
                  </a:lnTo>
                  <a:lnTo>
                    <a:pt x="96" y="98"/>
                  </a:lnTo>
                  <a:lnTo>
                    <a:pt x="94" y="96"/>
                  </a:lnTo>
                  <a:lnTo>
                    <a:pt x="93" y="92"/>
                  </a:lnTo>
                  <a:lnTo>
                    <a:pt x="92" y="84"/>
                  </a:lnTo>
                  <a:lnTo>
                    <a:pt x="87" y="87"/>
                  </a:lnTo>
                  <a:lnTo>
                    <a:pt x="92" y="87"/>
                  </a:lnTo>
                  <a:lnTo>
                    <a:pt x="92" y="83"/>
                  </a:lnTo>
                  <a:lnTo>
                    <a:pt x="92" y="81"/>
                  </a:lnTo>
                  <a:lnTo>
                    <a:pt x="90" y="81"/>
                  </a:lnTo>
                  <a:lnTo>
                    <a:pt x="90" y="79"/>
                  </a:lnTo>
                  <a:lnTo>
                    <a:pt x="90" y="77"/>
                  </a:lnTo>
                  <a:lnTo>
                    <a:pt x="84" y="70"/>
                  </a:lnTo>
                  <a:lnTo>
                    <a:pt x="80" y="65"/>
                  </a:lnTo>
                  <a:lnTo>
                    <a:pt x="76" y="70"/>
                  </a:lnTo>
                  <a:lnTo>
                    <a:pt x="83" y="68"/>
                  </a:lnTo>
                  <a:lnTo>
                    <a:pt x="80" y="65"/>
                  </a:lnTo>
                  <a:lnTo>
                    <a:pt x="80" y="64"/>
                  </a:lnTo>
                  <a:lnTo>
                    <a:pt x="80" y="63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5" y="58"/>
                  </a:lnTo>
                  <a:lnTo>
                    <a:pt x="73" y="55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57" y="49"/>
                  </a:lnTo>
                  <a:lnTo>
                    <a:pt x="46" y="44"/>
                  </a:lnTo>
                  <a:lnTo>
                    <a:pt x="36" y="39"/>
                  </a:lnTo>
                  <a:lnTo>
                    <a:pt x="28" y="32"/>
                  </a:lnTo>
                  <a:lnTo>
                    <a:pt x="25" y="39"/>
                  </a:lnTo>
                  <a:lnTo>
                    <a:pt x="29" y="35"/>
                  </a:lnTo>
                  <a:lnTo>
                    <a:pt x="23" y="27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18" y="21"/>
                  </a:lnTo>
                  <a:lnTo>
                    <a:pt x="14" y="11"/>
                  </a:lnTo>
                  <a:lnTo>
                    <a:pt x="8" y="13"/>
                  </a:lnTo>
                  <a:lnTo>
                    <a:pt x="14" y="1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095880" y="5398920"/>
              <a:ext cx="3304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56360" y="5432400"/>
              <a:ext cx="270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856120" y="5378400"/>
              <a:ext cx="2192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56120" y="5378400"/>
              <a:ext cx="250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86520" y="5318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927680" y="5421240"/>
              <a:ext cx="48960" cy="5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927680" y="5419800"/>
              <a:ext cx="58680" cy="554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23" y="0"/>
                  </a:moveTo>
                  <a:lnTo>
                    <a:pt x="0" y="41"/>
                  </a:lnTo>
                  <a:lnTo>
                    <a:pt x="46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946760" y="5300640"/>
              <a:ext cx="41040" cy="11736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22" y="5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8" y="12"/>
                  </a:lnTo>
                  <a:lnTo>
                    <a:pt x="22" y="10"/>
                  </a:lnTo>
                  <a:lnTo>
                    <a:pt x="20" y="14"/>
                  </a:lnTo>
                  <a:lnTo>
                    <a:pt x="19" y="21"/>
                  </a:lnTo>
                  <a:lnTo>
                    <a:pt x="14" y="31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8" y="46"/>
                  </a:lnTo>
                  <a:lnTo>
                    <a:pt x="8" y="49"/>
                  </a:lnTo>
                  <a:lnTo>
                    <a:pt x="13" y="49"/>
                  </a:lnTo>
                  <a:lnTo>
                    <a:pt x="8" y="46"/>
                  </a:lnTo>
                  <a:lnTo>
                    <a:pt x="6" y="55"/>
                  </a:lnTo>
                  <a:lnTo>
                    <a:pt x="5" y="57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3" y="64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3" y="74"/>
                  </a:lnTo>
                  <a:lnTo>
                    <a:pt x="8" y="74"/>
                  </a:lnTo>
                  <a:lnTo>
                    <a:pt x="3" y="73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13" y="79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13" y="78"/>
                  </a:lnTo>
                  <a:lnTo>
                    <a:pt x="6" y="80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6" y="78"/>
                  </a:lnTo>
                  <a:lnTo>
                    <a:pt x="13" y="80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14" y="74"/>
                  </a:lnTo>
                  <a:lnTo>
                    <a:pt x="14" y="71"/>
                  </a:lnTo>
                  <a:lnTo>
                    <a:pt x="15" y="65"/>
                  </a:lnTo>
                  <a:lnTo>
                    <a:pt x="9" y="65"/>
                  </a:lnTo>
                  <a:lnTo>
                    <a:pt x="14" y="68"/>
                  </a:lnTo>
                  <a:lnTo>
                    <a:pt x="15" y="65"/>
                  </a:lnTo>
                  <a:lnTo>
                    <a:pt x="15" y="61"/>
                  </a:lnTo>
                  <a:lnTo>
                    <a:pt x="17" y="59"/>
                  </a:lnTo>
                  <a:lnTo>
                    <a:pt x="19" y="51"/>
                  </a:lnTo>
                  <a:lnTo>
                    <a:pt x="19" y="49"/>
                  </a:lnTo>
                  <a:lnTo>
                    <a:pt x="19" y="46"/>
                  </a:lnTo>
                  <a:lnTo>
                    <a:pt x="20" y="42"/>
                  </a:lnTo>
                  <a:lnTo>
                    <a:pt x="14" y="42"/>
                  </a:lnTo>
                  <a:lnTo>
                    <a:pt x="19" y="46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32" y="19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898880" y="5478480"/>
              <a:ext cx="42840" cy="65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5"/>
                  </a:moveTo>
                  <a:lnTo>
                    <a:pt x="24" y="0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6" y="26"/>
                  </a:lnTo>
                  <a:lnTo>
                    <a:pt x="5" y="29"/>
                  </a:lnTo>
                  <a:lnTo>
                    <a:pt x="10" y="29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0"/>
                  </a:lnTo>
                  <a:lnTo>
                    <a:pt x="5" y="45"/>
                  </a:lnTo>
                  <a:lnTo>
                    <a:pt x="10" y="40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6" y="47"/>
                  </a:lnTo>
                  <a:lnTo>
                    <a:pt x="11" y="45"/>
                  </a:lnTo>
                  <a:lnTo>
                    <a:pt x="5" y="45"/>
                  </a:lnTo>
                  <a:lnTo>
                    <a:pt x="6" y="49"/>
                  </a:lnTo>
                  <a:lnTo>
                    <a:pt x="18" y="49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2"/>
                  </a:lnTo>
                  <a:lnTo>
                    <a:pt x="16" y="29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13" y="18"/>
                  </a:lnTo>
                  <a:lnTo>
                    <a:pt x="18" y="23"/>
                  </a:lnTo>
                  <a:lnTo>
                    <a:pt x="23" y="18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9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10080" y="5369040"/>
              <a:ext cx="447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579920" y="5411880"/>
              <a:ext cx="32868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579920" y="5411880"/>
              <a:ext cx="4190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579920" y="541332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cc"/>
                  </a:solidFill>
                  <a:latin typeface="Times New Roman"/>
                </a:rPr>
                <a:t>PUENTE</a:t>
              </a:r>
              <a:endParaRPr b="0" lang="en-US" sz="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905360" y="5364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72520" y="5432400"/>
              <a:ext cx="80640" cy="5256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024680" y="5667480"/>
              <a:ext cx="79560" cy="540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585120" y="5549760"/>
              <a:ext cx="69840" cy="5256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1200" y="4543560"/>
              <a:ext cx="79200" cy="540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031240" y="4543560"/>
              <a:ext cx="81000" cy="540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361360" y="4597560"/>
              <a:ext cx="49320" cy="53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921800" y="4713120"/>
              <a:ext cx="50760" cy="5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753320" y="4960800"/>
              <a:ext cx="49320" cy="42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56520" y="5432400"/>
              <a:ext cx="47520" cy="42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058080" y="5187960"/>
              <a:ext cx="6012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6" y="0"/>
                  </a:moveTo>
                  <a:lnTo>
                    <a:pt x="0" y="4"/>
                  </a:lnTo>
                  <a:lnTo>
                    <a:pt x="3" y="9"/>
                  </a:lnTo>
                  <a:lnTo>
                    <a:pt x="6" y="12"/>
                  </a:lnTo>
                  <a:lnTo>
                    <a:pt x="13" y="18"/>
                  </a:lnTo>
                  <a:lnTo>
                    <a:pt x="20" y="22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23" y="23"/>
                  </a:lnTo>
                  <a:lnTo>
                    <a:pt x="31" y="35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2"/>
                  </a:lnTo>
                  <a:lnTo>
                    <a:pt x="44" y="38"/>
                  </a:lnTo>
                  <a:lnTo>
                    <a:pt x="36" y="30"/>
                  </a:lnTo>
                  <a:lnTo>
                    <a:pt x="29" y="19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0" y="12"/>
                  </a:lnTo>
                  <a:lnTo>
                    <a:pt x="12" y="5"/>
                  </a:lnTo>
                  <a:lnTo>
                    <a:pt x="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37280" y="5257800"/>
              <a:ext cx="57240" cy="572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1" y="0"/>
                  </a:moveTo>
                  <a:lnTo>
                    <a:pt x="0" y="7"/>
                  </a:lnTo>
                  <a:lnTo>
                    <a:pt x="6" y="8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22" y="17"/>
                  </a:lnTo>
                  <a:lnTo>
                    <a:pt x="28" y="23"/>
                  </a:lnTo>
                  <a:lnTo>
                    <a:pt x="34" y="32"/>
                  </a:lnTo>
                  <a:lnTo>
                    <a:pt x="41" y="42"/>
                  </a:lnTo>
                  <a:lnTo>
                    <a:pt x="46" y="39"/>
                  </a:lnTo>
                  <a:lnTo>
                    <a:pt x="41" y="27"/>
                  </a:lnTo>
                  <a:lnTo>
                    <a:pt x="34" y="18"/>
                  </a:lnTo>
                  <a:lnTo>
                    <a:pt x="27" y="11"/>
                  </a:lnTo>
                  <a:lnTo>
                    <a:pt x="20" y="7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6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200640" y="5335560"/>
              <a:ext cx="63720" cy="572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6" y="0"/>
                  </a:moveTo>
                  <a:lnTo>
                    <a:pt x="0" y="3"/>
                  </a:lnTo>
                  <a:lnTo>
                    <a:pt x="4" y="10"/>
                  </a:lnTo>
                  <a:lnTo>
                    <a:pt x="10" y="19"/>
                  </a:lnTo>
                  <a:lnTo>
                    <a:pt x="18" y="25"/>
                  </a:lnTo>
                  <a:lnTo>
                    <a:pt x="32" y="35"/>
                  </a:lnTo>
                  <a:lnTo>
                    <a:pt x="46" y="42"/>
                  </a:lnTo>
                  <a:lnTo>
                    <a:pt x="50" y="35"/>
                  </a:lnTo>
                  <a:lnTo>
                    <a:pt x="38" y="29"/>
                  </a:lnTo>
                  <a:lnTo>
                    <a:pt x="23" y="20"/>
                  </a:lnTo>
                  <a:lnTo>
                    <a:pt x="15" y="14"/>
                  </a:lnTo>
                  <a:lnTo>
                    <a:pt x="9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283440" y="5396040"/>
              <a:ext cx="63360" cy="554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3" y="0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17" y="15"/>
                  </a:lnTo>
                  <a:lnTo>
                    <a:pt x="27" y="29"/>
                  </a:lnTo>
                  <a:lnTo>
                    <a:pt x="32" y="34"/>
                  </a:lnTo>
                  <a:lnTo>
                    <a:pt x="41" y="40"/>
                  </a:lnTo>
                  <a:lnTo>
                    <a:pt x="44" y="41"/>
                  </a:lnTo>
                  <a:lnTo>
                    <a:pt x="46" y="42"/>
                  </a:lnTo>
                  <a:lnTo>
                    <a:pt x="49" y="34"/>
                  </a:lnTo>
                  <a:lnTo>
                    <a:pt x="46" y="34"/>
                  </a:lnTo>
                  <a:lnTo>
                    <a:pt x="46" y="38"/>
                  </a:lnTo>
                  <a:lnTo>
                    <a:pt x="50" y="34"/>
                  </a:lnTo>
                  <a:lnTo>
                    <a:pt x="44" y="33"/>
                  </a:lnTo>
                  <a:lnTo>
                    <a:pt x="37" y="28"/>
                  </a:lnTo>
                  <a:lnTo>
                    <a:pt x="32" y="24"/>
                  </a:lnTo>
                  <a:lnTo>
                    <a:pt x="23" y="12"/>
                  </a:lnTo>
                  <a:lnTo>
                    <a:pt x="22" y="10"/>
                  </a:lnTo>
                  <a:lnTo>
                    <a:pt x="7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24640" y="5487840"/>
              <a:ext cx="71640" cy="2700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57" y="6"/>
                  </a:moveTo>
                  <a:lnTo>
                    <a:pt x="56" y="0"/>
                  </a:lnTo>
                  <a:lnTo>
                    <a:pt x="37" y="5"/>
                  </a:lnTo>
                  <a:lnTo>
                    <a:pt x="15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5" y="18"/>
                  </a:lnTo>
                  <a:lnTo>
                    <a:pt x="37" y="13"/>
                  </a:lnTo>
                  <a:lnTo>
                    <a:pt x="57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321680" y="5513400"/>
              <a:ext cx="75960" cy="1908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60" y="7"/>
                  </a:moveTo>
                  <a:lnTo>
                    <a:pt x="59" y="0"/>
                  </a:lnTo>
                  <a:lnTo>
                    <a:pt x="58" y="0"/>
                  </a:lnTo>
                  <a:lnTo>
                    <a:pt x="15" y="5"/>
                  </a:lnTo>
                  <a:lnTo>
                    <a:pt x="0" y="6"/>
                  </a:lnTo>
                  <a:lnTo>
                    <a:pt x="1" y="14"/>
                  </a:lnTo>
                  <a:lnTo>
                    <a:pt x="15" y="12"/>
                  </a:lnTo>
                  <a:lnTo>
                    <a:pt x="58" y="7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3040" y="5522760"/>
              <a:ext cx="71640" cy="2232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57" y="8"/>
                  </a:moveTo>
                  <a:lnTo>
                    <a:pt x="57" y="0"/>
                  </a:lnTo>
                  <a:lnTo>
                    <a:pt x="51" y="2"/>
                  </a:lnTo>
                  <a:lnTo>
                    <a:pt x="51" y="3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4" y="9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4" y="17"/>
                  </a:lnTo>
                  <a:lnTo>
                    <a:pt x="29" y="16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5" y="12"/>
                  </a:lnTo>
                  <a:lnTo>
                    <a:pt x="52" y="9"/>
                  </a:lnTo>
                  <a:lnTo>
                    <a:pt x="51" y="5"/>
                  </a:lnTo>
                  <a:lnTo>
                    <a:pt x="52" y="9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143840" y="5532480"/>
              <a:ext cx="48960" cy="5220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40" y="8"/>
                  </a:moveTo>
                  <a:lnTo>
                    <a:pt x="40" y="0"/>
                  </a:lnTo>
                  <a:lnTo>
                    <a:pt x="31" y="1"/>
                  </a:lnTo>
                  <a:lnTo>
                    <a:pt x="22" y="2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3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8" y="39"/>
                  </a:lnTo>
                  <a:lnTo>
                    <a:pt x="9" y="32"/>
                  </a:lnTo>
                  <a:lnTo>
                    <a:pt x="11" y="24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13" y="19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22" y="10"/>
                  </a:lnTo>
                  <a:lnTo>
                    <a:pt x="31" y="9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120080" y="5614920"/>
              <a:ext cx="31680" cy="74520"/>
            </a:xfrm>
            <a:custGeom>
              <a:avLst/>
              <a:gdLst/>
              <a:ahLst/>
              <a:rect l="l" t="t" r="r" b="b"/>
              <a:pathLst>
                <a:path w="26" h="55">
                  <a:moveTo>
                    <a:pt x="26" y="0"/>
                  </a:moveTo>
                  <a:lnTo>
                    <a:pt x="19" y="0"/>
                  </a:lnTo>
                  <a:lnTo>
                    <a:pt x="19" y="8"/>
                  </a:lnTo>
                  <a:lnTo>
                    <a:pt x="19" y="22"/>
                  </a:lnTo>
                  <a:lnTo>
                    <a:pt x="17" y="28"/>
                  </a:lnTo>
                  <a:lnTo>
                    <a:pt x="16" y="34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13" y="37"/>
                  </a:lnTo>
                  <a:lnTo>
                    <a:pt x="7" y="42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7" y="53"/>
                  </a:lnTo>
                  <a:lnTo>
                    <a:pt x="13" y="48"/>
                  </a:lnTo>
                  <a:lnTo>
                    <a:pt x="18" y="42"/>
                  </a:lnTo>
                  <a:lnTo>
                    <a:pt x="22" y="37"/>
                  </a:lnTo>
                  <a:lnTo>
                    <a:pt x="22" y="34"/>
                  </a:lnTo>
                  <a:lnTo>
                    <a:pt x="25" y="28"/>
                  </a:lnTo>
                  <a:lnTo>
                    <a:pt x="26" y="22"/>
                  </a:lnTo>
                  <a:lnTo>
                    <a:pt x="26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554960" y="5411880"/>
              <a:ext cx="57240" cy="4896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30"/>
                  </a:moveTo>
                  <a:lnTo>
                    <a:pt x="1" y="36"/>
                  </a:lnTo>
                  <a:lnTo>
                    <a:pt x="5" y="35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22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46" y="6"/>
                  </a:lnTo>
                  <a:lnTo>
                    <a:pt x="44" y="0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10" y="29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31280" y="5353200"/>
              <a:ext cx="66600" cy="5400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0" y="36"/>
                  </a:moveTo>
                  <a:lnTo>
                    <a:pt x="5" y="40"/>
                  </a:lnTo>
                  <a:lnTo>
                    <a:pt x="12" y="33"/>
                  </a:lnTo>
                  <a:lnTo>
                    <a:pt x="17" y="27"/>
                  </a:lnTo>
                  <a:lnTo>
                    <a:pt x="23" y="22"/>
                  </a:lnTo>
                  <a:lnTo>
                    <a:pt x="30" y="17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49" y="0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25" y="12"/>
                  </a:lnTo>
                  <a:lnTo>
                    <a:pt x="18" y="17"/>
                  </a:lnTo>
                  <a:lnTo>
                    <a:pt x="12" y="21"/>
                  </a:lnTo>
                  <a:lnTo>
                    <a:pt x="5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704000" y="5264280"/>
              <a:ext cx="39960" cy="6804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1"/>
                  </a:lnTo>
                  <a:lnTo>
                    <a:pt x="7" y="47"/>
                  </a:lnTo>
                  <a:lnTo>
                    <a:pt x="9" y="38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10" y="36"/>
                  </a:lnTo>
                  <a:lnTo>
                    <a:pt x="11" y="31"/>
                  </a:lnTo>
                  <a:lnTo>
                    <a:pt x="15" y="26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3" y="21"/>
                  </a:lnTo>
                  <a:lnTo>
                    <a:pt x="25" y="14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8" y="10"/>
                  </a:lnTo>
                  <a:lnTo>
                    <a:pt x="29" y="7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6" y="2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1" y="19"/>
                  </a:lnTo>
                  <a:lnTo>
                    <a:pt x="10" y="21"/>
                  </a:lnTo>
                  <a:lnTo>
                    <a:pt x="6" y="27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756560" y="5122800"/>
              <a:ext cx="23760" cy="77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53"/>
                  </a:moveTo>
                  <a:lnTo>
                    <a:pt x="6" y="57"/>
                  </a:lnTo>
                  <a:lnTo>
                    <a:pt x="10" y="51"/>
                  </a:lnTo>
                  <a:lnTo>
                    <a:pt x="11" y="48"/>
                  </a:lnTo>
                  <a:lnTo>
                    <a:pt x="14" y="45"/>
                  </a:lnTo>
                  <a:lnTo>
                    <a:pt x="13" y="38"/>
                  </a:lnTo>
                  <a:lnTo>
                    <a:pt x="13" y="36"/>
                  </a:lnTo>
                  <a:lnTo>
                    <a:pt x="11" y="32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17" y="6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2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10" y="38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5" y="4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775640" y="5016600"/>
              <a:ext cx="12600" cy="8100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0" y="60"/>
                  </a:moveTo>
                  <a:lnTo>
                    <a:pt x="8" y="61"/>
                  </a:lnTo>
                  <a:lnTo>
                    <a:pt x="9" y="46"/>
                  </a:lnTo>
                  <a:lnTo>
                    <a:pt x="10" y="30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0"/>
                  </a:lnTo>
                  <a:lnTo>
                    <a:pt x="2" y="6"/>
                  </a:lnTo>
                  <a:lnTo>
                    <a:pt x="4" y="9"/>
                  </a:lnTo>
                  <a:lnTo>
                    <a:pt x="8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30"/>
                  </a:lnTo>
                  <a:lnTo>
                    <a:pt x="2" y="4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796160" y="4941720"/>
              <a:ext cx="77760" cy="2412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0" y="12"/>
                  </a:moveTo>
                  <a:lnTo>
                    <a:pt x="2" y="18"/>
                  </a:lnTo>
                  <a:lnTo>
                    <a:pt x="14" y="14"/>
                  </a:lnTo>
                  <a:lnTo>
                    <a:pt x="25" y="13"/>
                  </a:lnTo>
                  <a:lnTo>
                    <a:pt x="37" y="10"/>
                  </a:lnTo>
                  <a:lnTo>
                    <a:pt x="52" y="10"/>
                  </a:lnTo>
                  <a:lnTo>
                    <a:pt x="57" y="8"/>
                  </a:lnTo>
                  <a:lnTo>
                    <a:pt x="61" y="7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37" y="4"/>
                  </a:lnTo>
                  <a:lnTo>
                    <a:pt x="25" y="5"/>
                  </a:lnTo>
                  <a:lnTo>
                    <a:pt x="14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897680" y="4900680"/>
              <a:ext cx="49320" cy="507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26"/>
                  </a:moveTo>
                  <a:lnTo>
                    <a:pt x="0" y="34"/>
                  </a:lnTo>
                  <a:lnTo>
                    <a:pt x="2" y="34"/>
                  </a:lnTo>
                  <a:lnTo>
                    <a:pt x="9" y="34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16" y="37"/>
                  </a:lnTo>
                  <a:lnTo>
                    <a:pt x="21" y="37"/>
                  </a:lnTo>
                  <a:lnTo>
                    <a:pt x="23" y="35"/>
                  </a:lnTo>
                  <a:lnTo>
                    <a:pt x="27" y="34"/>
                  </a:lnTo>
                  <a:lnTo>
                    <a:pt x="30" y="33"/>
                  </a:lnTo>
                  <a:lnTo>
                    <a:pt x="35" y="26"/>
                  </a:lnTo>
                  <a:lnTo>
                    <a:pt x="35" y="23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9" y="4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1" y="4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2" y="12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28" y="20"/>
                  </a:lnTo>
                  <a:lnTo>
                    <a:pt x="23" y="26"/>
                  </a:lnTo>
                  <a:lnTo>
                    <a:pt x="21" y="29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16" y="29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2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932600" y="4794120"/>
              <a:ext cx="15840" cy="76320"/>
            </a:xfrm>
            <a:custGeom>
              <a:avLst/>
              <a:gdLst/>
              <a:ahLst/>
              <a:rect l="l" t="t" r="r" b="b"/>
              <a:pathLst>
                <a:path w="13" h="57">
                  <a:moveTo>
                    <a:pt x="0" y="57"/>
                  </a:moveTo>
                  <a:lnTo>
                    <a:pt x="8" y="57"/>
                  </a:lnTo>
                  <a:lnTo>
                    <a:pt x="8" y="57"/>
                  </a:lnTo>
                  <a:lnTo>
                    <a:pt x="9" y="39"/>
                  </a:lnTo>
                  <a:lnTo>
                    <a:pt x="11" y="3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9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11" y="20"/>
                  </a:lnTo>
                  <a:lnTo>
                    <a:pt x="7" y="19"/>
                  </a:lnTo>
                  <a:lnTo>
                    <a:pt x="3" y="30"/>
                  </a:lnTo>
                  <a:lnTo>
                    <a:pt x="2" y="3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956720" y="4651200"/>
              <a:ext cx="36360" cy="7308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0" y="54"/>
                  </a:moveTo>
                  <a:lnTo>
                    <a:pt x="8" y="55"/>
                  </a:lnTo>
                  <a:lnTo>
                    <a:pt x="9" y="50"/>
                  </a:lnTo>
                  <a:lnTo>
                    <a:pt x="11" y="45"/>
                  </a:lnTo>
                  <a:lnTo>
                    <a:pt x="13" y="37"/>
                  </a:lnTo>
                  <a:lnTo>
                    <a:pt x="14" y="29"/>
                  </a:lnTo>
                  <a:lnTo>
                    <a:pt x="17" y="20"/>
                  </a:lnTo>
                  <a:lnTo>
                    <a:pt x="20" y="14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4"/>
                  </a:lnTo>
                  <a:lnTo>
                    <a:pt x="11" y="20"/>
                  </a:lnTo>
                  <a:lnTo>
                    <a:pt x="7" y="29"/>
                  </a:lnTo>
                  <a:lnTo>
                    <a:pt x="6" y="37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001000" y="4589640"/>
              <a:ext cx="44280" cy="442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31"/>
                  </a:moveTo>
                  <a:lnTo>
                    <a:pt x="7" y="33"/>
                  </a:lnTo>
                  <a:lnTo>
                    <a:pt x="8" y="28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8" y="16"/>
                  </a:lnTo>
                  <a:lnTo>
                    <a:pt x="22" y="14"/>
                  </a:lnTo>
                  <a:lnTo>
                    <a:pt x="26" y="12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5" y="5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19880" y="5462640"/>
              <a:ext cx="61920" cy="540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" y="0"/>
                  </a:moveTo>
                  <a:lnTo>
                    <a:pt x="0" y="6"/>
                  </a:lnTo>
                  <a:lnTo>
                    <a:pt x="7" y="9"/>
                  </a:lnTo>
                  <a:lnTo>
                    <a:pt x="7" y="5"/>
                  </a:lnTo>
                  <a:lnTo>
                    <a:pt x="5" y="7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5" y="14"/>
                  </a:lnTo>
                  <a:lnTo>
                    <a:pt x="20" y="18"/>
                  </a:lnTo>
                  <a:lnTo>
                    <a:pt x="24" y="21"/>
                  </a:lnTo>
                  <a:lnTo>
                    <a:pt x="29" y="24"/>
                  </a:lnTo>
                  <a:lnTo>
                    <a:pt x="31" y="21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30" y="28"/>
                  </a:lnTo>
                  <a:lnTo>
                    <a:pt x="33" y="30"/>
                  </a:lnTo>
                  <a:lnTo>
                    <a:pt x="40" y="37"/>
                  </a:lnTo>
                  <a:lnTo>
                    <a:pt x="44" y="40"/>
                  </a:lnTo>
                  <a:lnTo>
                    <a:pt x="49" y="35"/>
                  </a:lnTo>
                  <a:lnTo>
                    <a:pt x="46" y="32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33" y="25"/>
                  </a:lnTo>
                  <a:lnTo>
                    <a:pt x="37" y="25"/>
                  </a:lnTo>
                  <a:lnTo>
                    <a:pt x="35" y="21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29" y="15"/>
                  </a:lnTo>
                  <a:lnTo>
                    <a:pt x="25" y="12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492960" y="5533920"/>
              <a:ext cx="63360" cy="507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" y="0"/>
                  </a:moveTo>
                  <a:lnTo>
                    <a:pt x="0" y="5"/>
                  </a:lnTo>
                  <a:lnTo>
                    <a:pt x="4" y="12"/>
                  </a:lnTo>
                  <a:lnTo>
                    <a:pt x="12" y="19"/>
                  </a:lnTo>
                  <a:lnTo>
                    <a:pt x="21" y="26"/>
                  </a:lnTo>
                  <a:lnTo>
                    <a:pt x="30" y="31"/>
                  </a:lnTo>
                  <a:lnTo>
                    <a:pt x="32" y="32"/>
                  </a:lnTo>
                  <a:lnTo>
                    <a:pt x="42" y="36"/>
                  </a:lnTo>
                  <a:lnTo>
                    <a:pt x="50" y="37"/>
                  </a:lnTo>
                  <a:lnTo>
                    <a:pt x="51" y="31"/>
                  </a:lnTo>
                  <a:lnTo>
                    <a:pt x="42" y="28"/>
                  </a:lnTo>
                  <a:lnTo>
                    <a:pt x="32" y="24"/>
                  </a:lnTo>
                  <a:lnTo>
                    <a:pt x="32" y="28"/>
                  </a:lnTo>
                  <a:lnTo>
                    <a:pt x="35" y="26"/>
                  </a:lnTo>
                  <a:lnTo>
                    <a:pt x="26" y="20"/>
                  </a:lnTo>
                  <a:lnTo>
                    <a:pt x="17" y="13"/>
                  </a:lnTo>
                  <a:lnTo>
                    <a:pt x="1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64320" y="5583240"/>
              <a:ext cx="65160" cy="540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" y="0"/>
                  </a:moveTo>
                  <a:lnTo>
                    <a:pt x="0" y="4"/>
                  </a:lnTo>
                  <a:lnTo>
                    <a:pt x="4" y="9"/>
                  </a:lnTo>
                  <a:lnTo>
                    <a:pt x="10" y="15"/>
                  </a:lnTo>
                  <a:lnTo>
                    <a:pt x="18" y="21"/>
                  </a:lnTo>
                  <a:lnTo>
                    <a:pt x="24" y="26"/>
                  </a:lnTo>
                  <a:lnTo>
                    <a:pt x="33" y="32"/>
                  </a:lnTo>
                  <a:lnTo>
                    <a:pt x="41" y="37"/>
                  </a:lnTo>
                  <a:lnTo>
                    <a:pt x="47" y="40"/>
                  </a:lnTo>
                  <a:lnTo>
                    <a:pt x="51" y="34"/>
                  </a:lnTo>
                  <a:lnTo>
                    <a:pt x="47" y="32"/>
                  </a:lnTo>
                  <a:lnTo>
                    <a:pt x="39" y="26"/>
                  </a:lnTo>
                  <a:lnTo>
                    <a:pt x="30" y="21"/>
                  </a:lnTo>
                  <a:lnTo>
                    <a:pt x="23" y="15"/>
                  </a:lnTo>
                  <a:lnTo>
                    <a:pt x="15" y="9"/>
                  </a:lnTo>
                  <a:lnTo>
                    <a:pt x="9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746760" y="5645160"/>
              <a:ext cx="71640" cy="3348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" y="0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9" y="21"/>
                  </a:lnTo>
                  <a:lnTo>
                    <a:pt x="42" y="24"/>
                  </a:lnTo>
                  <a:lnTo>
                    <a:pt x="56" y="25"/>
                  </a:lnTo>
                  <a:lnTo>
                    <a:pt x="57" y="25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42" y="16"/>
                  </a:lnTo>
                  <a:lnTo>
                    <a:pt x="29" y="14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20" y="10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846840" y="5670720"/>
              <a:ext cx="69840" cy="3312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2" y="14"/>
                  </a:lnTo>
                  <a:lnTo>
                    <a:pt x="40" y="19"/>
                  </a:lnTo>
                  <a:lnTo>
                    <a:pt x="46" y="22"/>
                  </a:lnTo>
                  <a:lnTo>
                    <a:pt x="51" y="25"/>
                  </a:lnTo>
                  <a:lnTo>
                    <a:pt x="55" y="20"/>
                  </a:lnTo>
                  <a:lnTo>
                    <a:pt x="50" y="16"/>
                  </a:lnTo>
                  <a:lnTo>
                    <a:pt x="49" y="20"/>
                  </a:lnTo>
                  <a:lnTo>
                    <a:pt x="51" y="16"/>
                  </a:lnTo>
                  <a:lnTo>
                    <a:pt x="45" y="14"/>
                  </a:lnTo>
                  <a:lnTo>
                    <a:pt x="39" y="7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939000" y="5697360"/>
              <a:ext cx="74520" cy="17640"/>
            </a:xfrm>
            <a:custGeom>
              <a:avLst/>
              <a:gdLst/>
              <a:ahLst/>
              <a:rect l="l" t="t" r="r" b="b"/>
              <a:pathLst>
                <a:path w="59" h="13">
                  <a:moveTo>
                    <a:pt x="0" y="6"/>
                  </a:moveTo>
                  <a:lnTo>
                    <a:pt x="0" y="13"/>
                  </a:lnTo>
                  <a:lnTo>
                    <a:pt x="10" y="13"/>
                  </a:lnTo>
                  <a:lnTo>
                    <a:pt x="29" y="9"/>
                  </a:lnTo>
                  <a:lnTo>
                    <a:pt x="49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29" y="2"/>
                  </a:lnTo>
                  <a:lnTo>
                    <a:pt x="1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195960" y="5197320"/>
              <a:ext cx="498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254640" y="5238720"/>
              <a:ext cx="36036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594480" y="518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54640" y="5335560"/>
              <a:ext cx="23976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566040" y="5442120"/>
              <a:ext cx="57780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635880" y="5475240"/>
              <a:ext cx="51732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631920" y="5424480"/>
              <a:ext cx="6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Coatzacoalcos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121520" y="5433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013520" y="5678640"/>
              <a:ext cx="5493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085160" y="5721480"/>
              <a:ext cx="47772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22160" y="5765760"/>
              <a:ext cx="58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Villahermos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540560" y="5670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462800" y="5442120"/>
              <a:ext cx="5205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534440" y="5475240"/>
              <a:ext cx="1173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526160" y="54817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Cd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629480" y="5433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623000" y="5475240"/>
              <a:ext cx="414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622640" y="54817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imes New Roman"/>
                </a:rPr>
                <a:t>.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645320" y="543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42080" y="5475240"/>
              <a:ext cx="3304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38120" y="5481720"/>
              <a:ext cx="38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Carmen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940520" y="5433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80280" y="5135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472520" y="4843440"/>
              <a:ext cx="460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543800" y="4875120"/>
              <a:ext cx="37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258680" y="4917960"/>
              <a:ext cx="46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Campeche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897680" y="4832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983360" y="4705200"/>
              <a:ext cx="28908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251560" y="4651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862760" y="4427640"/>
              <a:ext cx="3589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932600" y="4456080"/>
              <a:ext cx="27936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925760" y="4406760"/>
              <a:ext cx="32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r>
                <a:rPr b="1" lang="es-MX" sz="800" spc="-1" strike="noStrike">
                  <a:solidFill>
                    <a:srgbClr val="ffffcc"/>
                  </a:solidFill>
                  <a:latin typeface="Times New Roman"/>
                </a:rPr>
                <a:t>é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rid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81720" y="44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251920" y="4597560"/>
              <a:ext cx="4395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321760" y="4640400"/>
              <a:ext cx="360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654760" y="45925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580600" y="4427640"/>
              <a:ext cx="379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51880" y="4456080"/>
              <a:ext cx="28908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920080" y="44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07200" y="4587840"/>
              <a:ext cx="71640" cy="3024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7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3" y="10"/>
                  </a:lnTo>
                  <a:lnTo>
                    <a:pt x="8" y="13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3" y="20"/>
                  </a:lnTo>
                  <a:lnTo>
                    <a:pt x="40" y="23"/>
                  </a:lnTo>
                  <a:lnTo>
                    <a:pt x="57" y="23"/>
                  </a:lnTo>
                  <a:lnTo>
                    <a:pt x="57" y="17"/>
                  </a:lnTo>
                  <a:lnTo>
                    <a:pt x="40" y="17"/>
                  </a:lnTo>
                  <a:lnTo>
                    <a:pt x="23" y="13"/>
                  </a:lnTo>
                  <a:lnTo>
                    <a:pt x="17" y="10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14" y="8"/>
                  </a:lnTo>
                  <a:lnTo>
                    <a:pt x="9" y="4"/>
                  </a:lnTo>
                  <a:lnTo>
                    <a:pt x="7" y="6"/>
                  </a:lnTo>
                  <a:lnTo>
                    <a:pt x="11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204040" y="4603680"/>
              <a:ext cx="74880" cy="27000"/>
            </a:xfrm>
            <a:custGeom>
              <a:avLst/>
              <a:gdLst/>
              <a:ahLst/>
              <a:rect l="l" t="t" r="r" b="b"/>
              <a:pathLst>
                <a:path w="59" h="20">
                  <a:moveTo>
                    <a:pt x="0" y="3"/>
                  </a:moveTo>
                  <a:lnTo>
                    <a:pt x="1" y="11"/>
                  </a:lnTo>
                  <a:lnTo>
                    <a:pt x="4" y="10"/>
                  </a:lnTo>
                  <a:lnTo>
                    <a:pt x="11" y="8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6" y="7"/>
                  </a:lnTo>
                  <a:lnTo>
                    <a:pt x="36" y="11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40" y="11"/>
                  </a:lnTo>
                  <a:lnTo>
                    <a:pt x="45" y="15"/>
                  </a:lnTo>
                  <a:lnTo>
                    <a:pt x="48" y="16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9" y="15"/>
                  </a:lnTo>
                  <a:lnTo>
                    <a:pt x="59" y="13"/>
                  </a:lnTo>
                  <a:lnTo>
                    <a:pt x="56" y="12"/>
                  </a:lnTo>
                  <a:lnTo>
                    <a:pt x="54" y="11"/>
                  </a:lnTo>
                  <a:lnTo>
                    <a:pt x="50" y="8"/>
                  </a:lnTo>
                  <a:lnTo>
                    <a:pt x="45" y="6"/>
                  </a:lnTo>
                  <a:lnTo>
                    <a:pt x="42" y="5"/>
                  </a:lnTo>
                  <a:lnTo>
                    <a:pt x="36" y="3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1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302680" y="4626000"/>
              <a:ext cx="68040" cy="22320"/>
            </a:xfrm>
            <a:custGeom>
              <a:avLst/>
              <a:gdLst/>
              <a:ahLst/>
              <a:rect l="l" t="t" r="r" b="b"/>
              <a:pathLst>
                <a:path w="54" h="16">
                  <a:moveTo>
                    <a:pt x="0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22" y="8"/>
                  </a:lnTo>
                  <a:lnTo>
                    <a:pt x="36" y="9"/>
                  </a:lnTo>
                  <a:lnTo>
                    <a:pt x="36" y="5"/>
                  </a:lnTo>
                  <a:lnTo>
                    <a:pt x="35" y="9"/>
                  </a:lnTo>
                  <a:lnTo>
                    <a:pt x="41" y="12"/>
                  </a:lnTo>
                  <a:lnTo>
                    <a:pt x="46" y="13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4" y="8"/>
                  </a:lnTo>
                  <a:lnTo>
                    <a:pt x="52" y="8"/>
                  </a:lnTo>
                  <a:lnTo>
                    <a:pt x="50" y="7"/>
                  </a:lnTo>
                  <a:lnTo>
                    <a:pt x="46" y="5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22" y="2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424720" y="4624560"/>
              <a:ext cx="74880" cy="15840"/>
            </a:xfrm>
            <a:custGeom>
              <a:avLst/>
              <a:gdLst/>
              <a:ahLst/>
              <a:rect l="l" t="t" r="r" b="b"/>
              <a:pathLst>
                <a:path w="59" h="11">
                  <a:moveTo>
                    <a:pt x="1" y="0"/>
                  </a:moveTo>
                  <a:lnTo>
                    <a:pt x="0" y="8"/>
                  </a:lnTo>
                  <a:lnTo>
                    <a:pt x="10" y="9"/>
                  </a:lnTo>
                  <a:lnTo>
                    <a:pt x="18" y="9"/>
                  </a:lnTo>
                  <a:lnTo>
                    <a:pt x="35" y="11"/>
                  </a:lnTo>
                  <a:lnTo>
                    <a:pt x="51" y="11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5" y="4"/>
                  </a:lnTo>
                  <a:lnTo>
                    <a:pt x="18" y="3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524800" y="4619520"/>
              <a:ext cx="74520" cy="15840"/>
            </a:xfrm>
            <a:custGeom>
              <a:avLst/>
              <a:gdLst/>
              <a:ahLst/>
              <a:rect l="l" t="t" r="r" b="b"/>
              <a:pathLst>
                <a:path w="60" h="12">
                  <a:moveTo>
                    <a:pt x="0" y="4"/>
                  </a:moveTo>
                  <a:lnTo>
                    <a:pt x="1" y="10"/>
                  </a:lnTo>
                  <a:lnTo>
                    <a:pt x="1" y="12"/>
                  </a:lnTo>
                  <a:lnTo>
                    <a:pt x="8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9" y="9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51" y="12"/>
                  </a:lnTo>
                  <a:lnTo>
                    <a:pt x="60" y="10"/>
                  </a:lnTo>
                  <a:lnTo>
                    <a:pt x="60" y="3"/>
                  </a:lnTo>
                  <a:lnTo>
                    <a:pt x="51" y="4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3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3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26320" y="4591080"/>
              <a:ext cx="71640" cy="381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0" y="21"/>
                  </a:moveTo>
                  <a:lnTo>
                    <a:pt x="1" y="28"/>
                  </a:lnTo>
                  <a:lnTo>
                    <a:pt x="3" y="28"/>
                  </a:lnTo>
                  <a:lnTo>
                    <a:pt x="7" y="26"/>
                  </a:lnTo>
                  <a:lnTo>
                    <a:pt x="12" y="24"/>
                  </a:lnTo>
                  <a:lnTo>
                    <a:pt x="20" y="21"/>
                  </a:lnTo>
                  <a:lnTo>
                    <a:pt x="23" y="20"/>
                  </a:lnTo>
                  <a:lnTo>
                    <a:pt x="28" y="16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42" y="11"/>
                  </a:lnTo>
                  <a:lnTo>
                    <a:pt x="52" y="9"/>
                  </a:lnTo>
                  <a:lnTo>
                    <a:pt x="54" y="7"/>
                  </a:lnTo>
                  <a:lnTo>
                    <a:pt x="57" y="6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52" y="5"/>
                  </a:lnTo>
                  <a:lnTo>
                    <a:pt x="52" y="1"/>
                  </a:lnTo>
                  <a:lnTo>
                    <a:pt x="42" y="3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1" y="11"/>
                  </a:lnTo>
                  <a:lnTo>
                    <a:pt x="16" y="15"/>
                  </a:lnTo>
                  <a:lnTo>
                    <a:pt x="20" y="17"/>
                  </a:lnTo>
                  <a:lnTo>
                    <a:pt x="19" y="15"/>
                  </a:lnTo>
                  <a:lnTo>
                    <a:pt x="12" y="16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682040" y="6031080"/>
              <a:ext cx="89856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651800" y="6064200"/>
              <a:ext cx="1319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920080" y="6013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398840" y="1685880"/>
              <a:ext cx="23767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478400" y="1739880"/>
              <a:ext cx="23162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468680" y="1739880"/>
              <a:ext cx="2316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753320" y="4189320"/>
              <a:ext cx="8762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813800" y="4222800"/>
              <a:ext cx="8776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542080" y="41781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559760" y="5832360"/>
              <a:ext cx="45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MEXICO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559400" y="5962680"/>
              <a:ext cx="21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D.F.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008320" y="5621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636160" y="2284560"/>
              <a:ext cx="44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Houston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323680" y="32068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Reynos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 flipV="1">
              <a:off x="3681360" y="4773600"/>
              <a:ext cx="828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3733920" y="3504960"/>
              <a:ext cx="890640" cy="132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 flipV="1">
              <a:off x="3186000" y="1864800"/>
              <a:ext cx="149544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 flipV="1">
              <a:off x="950400" y="1306080"/>
              <a:ext cx="2730600" cy="346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900000" y="1332000"/>
              <a:ext cx="76320" cy="75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097080" y="1827360"/>
              <a:ext cx="76320" cy="75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715120" y="1954080"/>
              <a:ext cx="53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Cd Ju</a:t>
              </a:r>
              <a:r>
                <a:rPr b="1" lang="es-MX" sz="900" spc="-1" strike="noStrike">
                  <a:solidFill>
                    <a:srgbClr val="ffffcc"/>
                  </a:solidFill>
                  <a:latin typeface="Times New Roman"/>
                </a:rPr>
                <a:t>árez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66560" y="133524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cc"/>
                  </a:solidFill>
                  <a:latin typeface="Times New Roman"/>
                </a:rPr>
                <a:t>Tijuana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76520" y="4191120"/>
              <a:ext cx="137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cc"/>
                  </a:solidFill>
                  <a:latin typeface="Times New Roman"/>
                </a:rPr>
                <a:t>Telmex (Nativo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2462040" y="4011120"/>
              <a:ext cx="609840" cy="3049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950760" y="1001520"/>
              <a:ext cx="927360" cy="355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3147840" y="1382400"/>
              <a:ext cx="673200" cy="469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630600" y="11462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cc"/>
                  </a:solidFill>
                  <a:latin typeface="Times New Roman"/>
                </a:rPr>
                <a:t>EU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4900320" y="3530520"/>
              <a:ext cx="52200" cy="21574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4952880" y="2742840"/>
              <a:ext cx="938160" cy="7714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5929200" y="2436480"/>
              <a:ext cx="317520" cy="253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840280" y="270360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505400" y="5640480"/>
              <a:ext cx="380880" cy="666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383" name="" descr=""/>
            <p:cNvPicPr/>
            <p:nvPr/>
          </p:nvPicPr>
          <p:blipFill>
            <a:blip r:embed="rId1"/>
            <a:stretch/>
          </p:blipFill>
          <p:spPr>
            <a:xfrm>
              <a:off x="4417920" y="5524560"/>
              <a:ext cx="1605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4" name=""/>
            <p:cNvSpPr/>
            <p:nvPr/>
          </p:nvSpPr>
          <p:spPr>
            <a:xfrm flipV="1">
              <a:off x="4672080" y="3492360"/>
              <a:ext cx="237960" cy="5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385" name="" descr=""/>
            <p:cNvPicPr/>
            <p:nvPr/>
          </p:nvPicPr>
          <p:blipFill>
            <a:blip r:embed="rId2"/>
            <a:stretch/>
          </p:blipFill>
          <p:spPr>
            <a:xfrm>
              <a:off x="4594320" y="3395520"/>
              <a:ext cx="16020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6" name="" descr=""/>
            <p:cNvPicPr/>
            <p:nvPr/>
          </p:nvPicPr>
          <p:blipFill>
            <a:blip r:embed="rId3"/>
            <a:stretch/>
          </p:blipFill>
          <p:spPr>
            <a:xfrm>
              <a:off x="4815000" y="5624640"/>
              <a:ext cx="195120" cy="16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7" name=""/>
            <p:cNvSpPr/>
            <p:nvPr/>
          </p:nvSpPr>
          <p:spPr>
            <a:xfrm>
              <a:off x="5668920" y="5141880"/>
              <a:ext cx="122400" cy="10800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44560" y="556272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cc"/>
                  </a:solidFill>
                  <a:latin typeface="Times New Roman"/>
                </a:rPr>
                <a:t>IPv6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41320" y="580392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cc"/>
                  </a:solidFill>
                  <a:latin typeface="Times New Roman"/>
                </a:rPr>
                <a:t>IPv4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4862520" y="3424320"/>
              <a:ext cx="19512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7750080" y="4950000"/>
              <a:ext cx="79560" cy="52200"/>
            </a:xfrm>
            <a:prstGeom prst="ellips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721640" y="5208480"/>
              <a:ext cx="50760" cy="5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624640" y="20606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cc"/>
                  </a:solidFill>
                  <a:latin typeface="Times New Roman"/>
                </a:rPr>
                <a:t>EU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719680" y="3809880"/>
              <a:ext cx="235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cc"/>
                  </a:solidFill>
                  <a:latin typeface="Times New Roman"/>
                </a:rPr>
                <a:t>Avantel (VPNs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033520" y="4114800"/>
              <a:ext cx="7621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V="1">
              <a:off x="4038480" y="5638320"/>
              <a:ext cx="4572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504240" y="5791320"/>
              <a:ext cx="34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UNAM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4343400" y="3428640"/>
              <a:ext cx="3049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399" name="" descr=""/>
            <p:cNvPicPr/>
            <p:nvPr/>
          </p:nvPicPr>
          <p:blipFill>
            <a:blip r:embed="rId5"/>
            <a:stretch/>
          </p:blipFill>
          <p:spPr>
            <a:xfrm>
              <a:off x="4191120" y="3505320"/>
              <a:ext cx="19512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0" name=""/>
            <p:cNvSpPr/>
            <p:nvPr/>
          </p:nvSpPr>
          <p:spPr>
            <a:xfrm>
              <a:off x="3885480" y="3581280"/>
              <a:ext cx="35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ITESM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3581280" y="5943240"/>
              <a:ext cx="4572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 flipV="1">
              <a:off x="3962520" y="6019920"/>
              <a:ext cx="4572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403" name="" descr=""/>
            <p:cNvPicPr/>
            <p:nvPr/>
          </p:nvPicPr>
          <p:blipFill>
            <a:blip r:embed="rId6"/>
            <a:stretch/>
          </p:blipFill>
          <p:spPr>
            <a:xfrm>
              <a:off x="3886200" y="5943600"/>
              <a:ext cx="1951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4" name="" descr=""/>
            <p:cNvPicPr/>
            <p:nvPr/>
          </p:nvPicPr>
          <p:blipFill>
            <a:blip r:embed="rId7"/>
            <a:stretch/>
          </p:blipFill>
          <p:spPr>
            <a:xfrm>
              <a:off x="4343400" y="6248520"/>
              <a:ext cx="1951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5" name="" descr=""/>
            <p:cNvPicPr/>
            <p:nvPr/>
          </p:nvPicPr>
          <p:blipFill>
            <a:blip r:embed="rId8"/>
            <a:stretch/>
          </p:blipFill>
          <p:spPr>
            <a:xfrm>
              <a:off x="3429000" y="6172200"/>
              <a:ext cx="19512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>
              <a:off x="3200040" y="640080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ULS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418640" y="647712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ffffcc"/>
                  </a:solidFill>
                  <a:latin typeface="Times New Roman"/>
                </a:rPr>
                <a:t>ITAM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29200" y="5791320"/>
              <a:ext cx="1295280" cy="76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48520" y="6583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cc"/>
                  </a:solidFill>
                  <a:latin typeface="Times New Roman"/>
                </a:rPr>
                <a:t>SudAmeric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10" name=""/>
          <p:cNvSpPr/>
          <p:nvPr/>
        </p:nvSpPr>
        <p:spPr>
          <a:xfrm>
            <a:off x="1066680" y="609480"/>
            <a:ext cx="1180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éx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447920"/>
            <a:ext cx="54864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Todas estas aplicaciones necesitan de direcciones reales, seguridad y calidad de servicio para que puedan funcionar adecuad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724280" y="4114800"/>
            <a:ext cx="2590920" cy="2590920"/>
            <a:chOff x="4724280" y="4114800"/>
            <a:chExt cx="2590920" cy="2590920"/>
          </a:xfrm>
        </p:grpSpPr>
        <p:sp>
          <p:nvSpPr>
            <p:cNvPr id="184" name=""/>
            <p:cNvSpPr/>
            <p:nvPr/>
          </p:nvSpPr>
          <p:spPr>
            <a:xfrm>
              <a:off x="4724280" y="4114800"/>
              <a:ext cx="2590920" cy="259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29200" y="4376880"/>
              <a:ext cx="205740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rebuchet MS"/>
                </a:rPr>
                <a:t>NAT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041000">
              <a:off x="4962600" y="5206680"/>
              <a:ext cx="21333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392880" y="1676520"/>
            <a:ext cx="2751120" cy="946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2485" t="0" r="5539" b="25147"/>
          <a:stretch/>
        </p:blipFill>
        <p:spPr>
          <a:xfrm>
            <a:off x="6324480" y="2514600"/>
            <a:ext cx="2819520" cy="609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467480" y="99072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715000" y="914400"/>
            <a:ext cx="1914480" cy="666720"/>
          </a:xfrm>
          <a:prstGeom prst="rect">
            <a:avLst/>
          </a:prstGeom>
          <a:ln w="0">
            <a:noFill/>
          </a:ln>
        </p:spPr>
      </p:pic>
      <p:pic>
        <p:nvPicPr>
          <p:cNvPr id="191" name="FightAids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1371600" cy="1714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2666880" y="3809160"/>
            <a:ext cx="1676520" cy="2057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header_logo" descr="Skype">
            <a:hlinkClick r:id="rId6"/>
          </p:cNvPr>
          <p:cNvPicPr/>
          <p:nvPr/>
        </p:nvPicPr>
        <p:blipFill>
          <a:blip r:embed="rId7"/>
          <a:srcRect l="16082" t="0" r="17594" b="0"/>
          <a:stretch/>
        </p:blipFill>
        <p:spPr>
          <a:xfrm>
            <a:off x="7162920" y="4191120"/>
            <a:ext cx="1981080" cy="90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493160" y="3168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Otros Factores Motiv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12" name="topo-ipv6" descr=""/>
          <p:cNvPicPr/>
          <p:nvPr/>
        </p:nvPicPr>
        <p:blipFill>
          <a:blip r:embed="rId1"/>
          <a:srcRect l="0" t="6460" r="31586" b="8243"/>
          <a:stretch/>
        </p:blipFill>
        <p:spPr>
          <a:xfrm>
            <a:off x="1143000" y="914400"/>
            <a:ext cx="6400800" cy="5632560"/>
          </a:xfrm>
          <a:prstGeom prst="rect">
            <a:avLst/>
          </a:prstGeom>
          <a:ln w="0">
            <a:noFill/>
          </a:ln>
        </p:spPr>
      </p:pic>
      <p:sp>
        <p:nvSpPr>
          <p:cNvPr id="2413" name=""/>
          <p:cNvSpPr/>
          <p:nvPr/>
        </p:nvSpPr>
        <p:spPr>
          <a:xfrm>
            <a:off x="1066680" y="457200"/>
            <a:ext cx="15688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15" name="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3505320" cy="6229440"/>
          </a:xfrm>
          <a:prstGeom prst="rect">
            <a:avLst/>
          </a:prstGeom>
          <a:ln w="0">
            <a:noFill/>
          </a:ln>
        </p:spPr>
      </p:pic>
      <p:sp>
        <p:nvSpPr>
          <p:cNvPr id="2416" name=""/>
          <p:cNvSpPr/>
          <p:nvPr/>
        </p:nvSpPr>
        <p:spPr>
          <a:xfrm flipH="1">
            <a:off x="8172000" y="909720"/>
            <a:ext cx="73080" cy="1008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7885080" y="3068640"/>
            <a:ext cx="216000" cy="649440"/>
          </a:xfrm>
          <a:prstGeom prst="line">
            <a:avLst/>
          </a:prstGeom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8101080" y="83664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8101080" y="184464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956720" y="2494080"/>
            <a:ext cx="215640" cy="215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8027640" y="1989000"/>
            <a:ext cx="144360" cy="648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812000" y="3573360"/>
            <a:ext cx="216000" cy="216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7740720" y="4365720"/>
            <a:ext cx="216000" cy="215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7885080" y="3718080"/>
            <a:ext cx="0" cy="718920"/>
          </a:xfrm>
          <a:prstGeom prst="line">
            <a:avLst/>
          </a:prstGeom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8027640" y="2565360"/>
            <a:ext cx="73080" cy="503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124000" y="2781360"/>
            <a:ext cx="216000" cy="216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124000" y="3502080"/>
            <a:ext cx="216000" cy="216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763640" y="4510080"/>
            <a:ext cx="6476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763640" y="5181480"/>
            <a:ext cx="647640" cy="0"/>
          </a:xfrm>
          <a:prstGeom prst="line">
            <a:avLst/>
          </a:prstGeom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413800" y="2709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Redes 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413440" y="50133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roncales IPv4 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413800" y="42940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roncales IPv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413440" y="342900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Redes IPv4 IPv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34" name="" descr=""/>
          <p:cNvPicPr/>
          <p:nvPr/>
        </p:nvPicPr>
        <p:blipFill>
          <a:blip r:embed="rId2"/>
          <a:stretch/>
        </p:blipFill>
        <p:spPr>
          <a:xfrm>
            <a:off x="5940360" y="5157720"/>
            <a:ext cx="1036800" cy="1700280"/>
          </a:xfrm>
          <a:prstGeom prst="rect">
            <a:avLst/>
          </a:prstGeom>
          <a:ln w="0">
            <a:noFill/>
          </a:ln>
        </p:spPr>
      </p:pic>
      <p:sp>
        <p:nvSpPr>
          <p:cNvPr id="2435" name=""/>
          <p:cNvSpPr/>
          <p:nvPr/>
        </p:nvSpPr>
        <p:spPr>
          <a:xfrm>
            <a:off x="7956720" y="2997360"/>
            <a:ext cx="215640" cy="215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065960" y="457200"/>
            <a:ext cx="892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7" name="backbone" descr=""/>
          <p:cNvPicPr/>
          <p:nvPr/>
        </p:nvPicPr>
        <p:blipFill>
          <a:blip r:embed="rId1"/>
          <a:srcRect l="3105" t="33479" r="8699" b="0"/>
          <a:stretch/>
        </p:blipFill>
        <p:spPr>
          <a:xfrm>
            <a:off x="1219320" y="914400"/>
            <a:ext cx="5410080" cy="5749920"/>
          </a:xfrm>
          <a:prstGeom prst="rect">
            <a:avLst/>
          </a:prstGeom>
          <a:ln w="0">
            <a:noFill/>
          </a:ln>
        </p:spPr>
      </p:pic>
      <p:pic>
        <p:nvPicPr>
          <p:cNvPr id="2438" name="backbone" descr=""/>
          <p:cNvPicPr/>
          <p:nvPr/>
        </p:nvPicPr>
        <p:blipFill>
          <a:blip r:embed="rId2"/>
          <a:srcRect l="0" t="20379" r="57954" b="68708"/>
          <a:stretch/>
        </p:blipFill>
        <p:spPr>
          <a:xfrm>
            <a:off x="6019920" y="914400"/>
            <a:ext cx="3124080" cy="1143000"/>
          </a:xfrm>
          <a:prstGeom prst="rect">
            <a:avLst/>
          </a:prstGeom>
          <a:ln w="0">
            <a:noFill/>
          </a:ln>
        </p:spPr>
      </p:pic>
      <p:pic>
        <p:nvPicPr>
          <p:cNvPr id="2439" name="backbone" descr=""/>
          <p:cNvPicPr/>
          <p:nvPr/>
        </p:nvPicPr>
        <p:blipFill>
          <a:blip r:embed="rId3"/>
          <a:srcRect l="58466" t="20379" r="20002" b="66525"/>
          <a:stretch/>
        </p:blipFill>
        <p:spPr>
          <a:xfrm>
            <a:off x="6553080" y="529272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2440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1066680" y="457200"/>
            <a:ext cx="10429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b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2" name="" descr=""/>
          <p:cNvPicPr/>
          <p:nvPr/>
        </p:nvPicPr>
        <p:blipFill>
          <a:blip r:embed="rId1"/>
          <a:srcRect l="0" t="0" r="0" b="4668"/>
          <a:stretch/>
        </p:blipFill>
        <p:spPr>
          <a:xfrm>
            <a:off x="762120" y="952560"/>
            <a:ext cx="7619760" cy="5448240"/>
          </a:xfrm>
          <a:prstGeom prst="rect">
            <a:avLst/>
          </a:prstGeom>
          <a:ln w="0">
            <a:noFill/>
          </a:ln>
        </p:spPr>
      </p:pic>
      <p:pic>
        <p:nvPicPr>
          <p:cNvPr id="2443" name="" descr=""/>
          <p:cNvPicPr/>
          <p:nvPr/>
        </p:nvPicPr>
        <p:blipFill>
          <a:blip r:embed="rId2"/>
          <a:srcRect l="0" t="0" r="49001" b="22667"/>
          <a:stretch/>
        </p:blipFill>
        <p:spPr>
          <a:xfrm>
            <a:off x="3048120" y="2362320"/>
            <a:ext cx="3886200" cy="4419360"/>
          </a:xfrm>
          <a:prstGeom prst="rect">
            <a:avLst/>
          </a:prstGeom>
          <a:ln w="0">
            <a:noFill/>
          </a:ln>
        </p:spPr>
      </p:pic>
      <p:pic>
        <p:nvPicPr>
          <p:cNvPr id="2444" name="" descr=""/>
          <p:cNvPicPr/>
          <p:nvPr/>
        </p:nvPicPr>
        <p:blipFill>
          <a:blip r:embed="rId3"/>
          <a:srcRect l="0" t="0" r="66002" b="8669"/>
          <a:stretch/>
        </p:blipFill>
        <p:spPr>
          <a:xfrm>
            <a:off x="6095880" y="1219320"/>
            <a:ext cx="2590920" cy="5219640"/>
          </a:xfrm>
          <a:prstGeom prst="rect">
            <a:avLst/>
          </a:prstGeom>
          <a:ln w="0">
            <a:noFill/>
          </a:ln>
        </p:spPr>
      </p:pic>
      <p:sp>
        <p:nvSpPr>
          <p:cNvPr id="2445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066680" y="457200"/>
            <a:ext cx="2026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lic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4696200" y="316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as experiencia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48" name="ipv6%20application%20contest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814716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"/>
          <p:cNvSpPr/>
          <p:nvPr/>
        </p:nvSpPr>
        <p:spPr>
          <a:xfrm>
            <a:off x="457200" y="554040"/>
            <a:ext cx="838188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lgunas herramientas para desarrollo de Aplicaciones IPv6 (plataforma Window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icrosoft Platform Software Development Kit (SDK), Enero 2000 o posterior (disponible en el Sitio               </a:t>
            </a: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cccc"/>
                </a:solidFill>
                <a:latin typeface="Trebuchet MS"/>
              </a:rPr>
              <a:t>(http://msdn.microsoft.com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icrosoft Visual C++® versión 6.0 o post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  <a:ea typeface="arial"/>
              </a:rPr>
              <a:t>Borland® Enterprise Server 5.2 o sup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965920" y="3168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plicacione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5139000" y="-64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os proyect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52" name="Eu_sm" descr=""/>
          <p:cNvPicPr/>
          <p:nvPr/>
        </p:nvPicPr>
        <p:blipFill>
          <a:blip r:embed="rId1"/>
          <a:stretch/>
        </p:blipFill>
        <p:spPr>
          <a:xfrm>
            <a:off x="457200" y="1638360"/>
            <a:ext cx="885960" cy="555480"/>
          </a:xfrm>
          <a:prstGeom prst="rect">
            <a:avLst/>
          </a:prstGeom>
          <a:ln w="0">
            <a:noFill/>
          </a:ln>
        </p:spPr>
      </p:pic>
      <p:sp>
        <p:nvSpPr>
          <p:cNvPr id="2453" name=""/>
          <p:cNvSpPr/>
          <p:nvPr/>
        </p:nvSpPr>
        <p:spPr>
          <a:xfrm>
            <a:off x="1354680" y="17906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Unión Europ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57200" y="2247840"/>
            <a:ext cx="83818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6NET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desarrollo de IPv6 nativo de alta velocidad en redes académicas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6net.org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6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WINIT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desarrollo de IPv6 inalámbricos en escenarios médicos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6winit.org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Euro6IX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punto de intercambio IPv6 de los mayores operadores de telecomunicaciones en Europa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euro6ix.org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GTPv6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Programa de Prueba IPv6 de la Red Académica Europea GÉANT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ipv6.ac.uk/gtpv6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IPv6 Cluster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– Cluster para desarrollos de proyectos IPv6 en la Unión Europea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ist-ipv6.org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378080" y="5716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Mu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1880" y="1219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6bone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lataforma mundial de prueba IPv6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6bone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57" name="MP00649_" descr=""/>
          <p:cNvPicPr/>
          <p:nvPr/>
        </p:nvPicPr>
        <p:blipFill>
          <a:blip r:embed="rId3"/>
          <a:stretch/>
        </p:blipFill>
        <p:spPr>
          <a:xfrm>
            <a:off x="533520" y="152280"/>
            <a:ext cx="772920" cy="990720"/>
          </a:xfrm>
          <a:prstGeom prst="rect">
            <a:avLst/>
          </a:prstGeom>
          <a:ln w="0">
            <a:noFill/>
          </a:ln>
        </p:spPr>
      </p:pic>
      <p:pic>
        <p:nvPicPr>
          <p:cNvPr id="2458" name="c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5715000"/>
            <a:ext cx="812880" cy="547560"/>
          </a:xfrm>
          <a:prstGeom prst="rect">
            <a:avLst/>
          </a:prstGeom>
          <a:ln w="0">
            <a:noFill/>
          </a:ln>
        </p:spPr>
      </p:pic>
      <p:sp>
        <p:nvSpPr>
          <p:cNvPr id="2459" name=""/>
          <p:cNvSpPr/>
          <p:nvPr/>
        </p:nvSpPr>
        <p:spPr>
          <a:xfrm>
            <a:off x="1416600" y="57675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Ch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57200" y="62485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Cernet2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Red Avanzada para la Educación e Investigación en China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edu.cn/HomePage/english/index.shtm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"/>
          <p:cNvSpPr/>
          <p:nvPr/>
        </p:nvSpPr>
        <p:spPr>
          <a:xfrm>
            <a:off x="457200" y="1219320"/>
            <a:ext cx="8381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6ren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a iniciativa IPv6 para redes educativas y de investigación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(http://www.6ren.net/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6tap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 proyecto conjunto de Esnet con la red académica canadiense (Canarie)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(http://www.6tap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ESnet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la red de servicios para las ciencias relacionadas con energía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 (http://www.es.net/hypertext/welcomepr/pr/ipv6.html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Internet 2</a:t>
            </a:r>
            <a:r>
              <a:rPr b="0" lang="es-E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royecto de redes avanzadas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internet2.edu/ipv6/)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NY6IX</a:t>
            </a:r>
            <a:r>
              <a:rPr b="0" lang="es-E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 punto de intercanbio IPv6 en Nueva York</a:t>
            </a:r>
            <a:r>
              <a:rPr b="0" lang="es-E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ny6ix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62" name="Usa_sm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78040" cy="549360"/>
          </a:xfrm>
          <a:prstGeom prst="rect">
            <a:avLst/>
          </a:prstGeom>
          <a:ln w="0">
            <a:noFill/>
          </a:ln>
        </p:spPr>
      </p:pic>
      <p:sp>
        <p:nvSpPr>
          <p:cNvPr id="2463" name=""/>
          <p:cNvSpPr/>
          <p:nvPr/>
        </p:nvSpPr>
        <p:spPr>
          <a:xfrm>
            <a:off x="5139000" y="316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os proyect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346400" y="7621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Estados Uni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65" name="Japan_sm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874800" cy="549000"/>
          </a:xfrm>
          <a:prstGeom prst="rect">
            <a:avLst/>
          </a:prstGeom>
          <a:ln w="0">
            <a:noFill/>
          </a:ln>
        </p:spPr>
      </p:pic>
      <p:sp>
        <p:nvSpPr>
          <p:cNvPr id="2466" name=""/>
          <p:cNvSpPr/>
          <p:nvPr/>
        </p:nvSpPr>
        <p:spPr>
          <a:xfrm>
            <a:off x="1445040" y="4343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Jap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57200" y="4778280"/>
            <a:ext cx="8686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KAME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a iniciativa para proveer IPv6 utilizando Free BSD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kame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NSPIXP-6 -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un punto de intercanbio IPv6 en Tokio</a:t>
            </a:r>
            <a:r>
              <a:rPr b="0" lang="es-E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wide.ad.jp/nspixp6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NTT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operador comercial NTT brindando conectividad IPv6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nttv6.net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8" name="Spain_sm" descr=""/>
          <p:cNvPicPr/>
          <p:nvPr/>
        </p:nvPicPr>
        <p:blipFill>
          <a:blip r:embed="rId1"/>
          <a:stretch/>
        </p:blipFill>
        <p:spPr>
          <a:xfrm>
            <a:off x="457200" y="3565440"/>
            <a:ext cx="874800" cy="549360"/>
          </a:xfrm>
          <a:prstGeom prst="rect">
            <a:avLst/>
          </a:prstGeom>
          <a:ln w="0">
            <a:noFill/>
          </a:ln>
        </p:spPr>
      </p:pic>
      <p:pic>
        <p:nvPicPr>
          <p:cNvPr id="2469" name="Russia_sm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74800" cy="549360"/>
          </a:xfrm>
          <a:prstGeom prst="rect">
            <a:avLst/>
          </a:prstGeom>
          <a:ln w="0">
            <a:noFill/>
          </a:ln>
        </p:spPr>
      </p:pic>
      <p:sp>
        <p:nvSpPr>
          <p:cNvPr id="2470" name=""/>
          <p:cNvSpPr/>
          <p:nvPr/>
        </p:nvSpPr>
        <p:spPr>
          <a:xfrm>
            <a:off x="457200" y="1219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Universidad Estatal Yaroslavl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romoviendo IPv6 en Rusia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http://www.ipv6.ru/en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139000" y="316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Algunos proyectos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404720" y="76212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Rus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3" name="Italy_sm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874800" cy="549360"/>
          </a:xfrm>
          <a:prstGeom prst="rect">
            <a:avLst/>
          </a:prstGeom>
          <a:ln w="0">
            <a:noFill/>
          </a:ln>
        </p:spPr>
      </p:pic>
      <p:sp>
        <p:nvSpPr>
          <p:cNvPr id="2474" name=""/>
          <p:cNvSpPr/>
          <p:nvPr/>
        </p:nvSpPr>
        <p:spPr>
          <a:xfrm>
            <a:off x="1444680" y="2209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It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57200" y="2743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Telecom Italia Lab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 desarrollo y soporte IPv6 de Telecom Italia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carmen.cselt.it/ipv6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405440" y="3701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Espa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57200" y="42354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RedIRIS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royecto piloto IPv6 entre universidades españolas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rediris.es/red/iris-ipv6/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408320" y="5073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Méx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57200" y="5683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Universidad Nacional Autónoma de México </a:t>
            </a:r>
            <a:r>
              <a:rPr b="0" lang="es-ES" sz="1800" spc="-1" strike="noStrike">
                <a:solidFill>
                  <a:srgbClr val="ffffd5"/>
                </a:solidFill>
                <a:latin typeface="Arial"/>
              </a:rPr>
              <a:t>– plataforma de prueba y publicación de artículos científicos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cccc"/>
                </a:solidFill>
                <a:latin typeface="Arial"/>
              </a:rPr>
              <a:t>(http://www.ipv6.unam.mx/index-ingles.htm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80" name="Mexico_sm" descr=""/>
          <p:cNvPicPr/>
          <p:nvPr/>
        </p:nvPicPr>
        <p:blipFill>
          <a:blip r:embed="rId4"/>
          <a:stretch/>
        </p:blipFill>
        <p:spPr>
          <a:xfrm>
            <a:off x="457200" y="5105520"/>
            <a:ext cx="8780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3581280" y="-360"/>
            <a:ext cx="54864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IPv6 en el período 2004-2006</a:t>
            </a:r>
            <a:endParaRPr b="0" lang="en-US" sz="2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reación de Infraestructura para que se ejecuten las aplicaciones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omienzo de migración de aplicaciones a IPv6. Las primeras que tendrán que portarse son las que soporten la operación delas empresas, ISP y operadores de telecomunicaciones, y aplicaciones multimedia.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Planear y adoptar IPv6 con los productos existentes y ejecutarlas sobre las redes existentes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nterpretar el proceso de paso a IPv6 como transición, y no como “migración”. IPv4 e IPv6 coexistirán por algún tiempo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Hay que pensar necesariamente en IPv6 (fijo y móvil) cuando se proyecten infraestructuras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umento del desarrollo y soporte de tecnologías de seguridad en IPv6 (IPSec, AAA, Infraestructura de Claves Públicas, Técnicas de detección de intrusos, etc)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11002" t="19335" r="16000" b="11334"/>
          <a:stretch/>
        </p:blipFill>
        <p:spPr>
          <a:xfrm>
            <a:off x="1523880" y="1371600"/>
            <a:ext cx="6782040" cy="4830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73520" y="316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Estadística de Crec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"/>
          <p:cNvSpPr/>
          <p:nvPr/>
        </p:nvSpPr>
        <p:spPr>
          <a:xfrm>
            <a:off x="6764760" y="31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04920" y="380880"/>
            <a:ext cx="883908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v6 es la única manera de garantizar el crecimiento sostenido de Internet en los próximos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Hay un gran esfuerzo mundial acerca de IPv6, y ya puede considerarse como un desarrollo estable y maduro, aún cuando continúan los trabajos en muchas áre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IPv4 e IPv6 deben coexistir por algún 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La Internet del futuro contará con  una gran utilización de tecnologías inalámbr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l modelo Cliente/Servidor será reemplazado en buena medida por el modelo “Peer to Peer”, aumentando así la comunicación inter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v6 es una realidad y solamente puede acelerarse o retrasarse su adopción, con las consecuencias que ello pueda acarre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"/>
          <p:cNvSpPr/>
          <p:nvPr/>
        </p:nvSpPr>
        <p:spPr>
          <a:xfrm>
            <a:off x="3437640" y="316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Verdana"/>
              </a:rPr>
              <a:t>¿Cuándo empezar a trabajar IPv6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050840" y="1335240"/>
            <a:ext cx="809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ayor cantidad de tiempo para planear una transición grad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Mayor tiempo para obtener la necesaria experiencia con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Crear un servicio IPv6 inicial es relativamente económ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rebuchet MS"/>
              </a:rPr>
              <a:t>Algunas redes y empresas se están preocupando por el tema IPv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43000" y="47242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rebuchet MS"/>
              </a:rPr>
              <a:t>CUANTO ANTES SE EMPIECE EL TRABAJO ES MUCHO MEJ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/>
          <p:nvPr/>
        </p:nvSpPr>
        <p:spPr>
          <a:xfrm>
            <a:off x="6912000" y="3168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04920" y="998640"/>
            <a:ext cx="883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Unión Internacional de Telecomunicaciones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tu.in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Forum IPv6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pv6forum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LACNIC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lacnic.n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Cisco Systems (Sitio IPv6)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cisco.com/ipv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Ericsson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ericsson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APNIC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apnic.n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nternet2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internet2.ed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DC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 (http://www.idc.co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ortal IPv6 Cuba </a:t>
            </a:r>
            <a:r>
              <a:rPr b="0" lang="es-ES_tradnl" sz="2400" spc="-1" strike="noStrike">
                <a:solidFill>
                  <a:srgbClr val="ff9900"/>
                </a:solidFill>
                <a:latin typeface="Verdana"/>
              </a:rPr>
              <a:t>(http://www.cu.ipv6tf.or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0720"/>
            <a:ext cx="71629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Verdana"/>
              </a:rPr>
              <a:t>IPv6</a:t>
            </a:r>
            <a:r>
              <a:rPr b="1" lang="es-ES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6000" spc="-1" strike="noStrike">
                <a:solidFill>
                  <a:srgbClr val="ffffcc"/>
                </a:solidFill>
                <a:latin typeface="Verdana"/>
              </a:rPr>
              <a:t>es el protocolo para la siguiente generación de Interne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7:10:38Z</dcterms:created>
  <dc:creator>1234</dc:creator>
  <dc:description/>
  <dc:language>en-US</dc:language>
  <cp:lastModifiedBy>1234</cp:lastModifiedBy>
  <dcterms:modified xsi:type="dcterms:W3CDTF">2004-06-11T13:13:26Z</dcterms:modified>
  <cp:revision>177</cp:revision>
  <dc:subject/>
  <dc:title>Presentación de PowerPoint</dc:title>
</cp:coreProperties>
</file>