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29.wmf" ContentType="image/x-wmf"/>
  <Override PartName="/ppt/media/image1.png" ContentType="image/png"/>
  <Override PartName="/ppt/media/image28.wmf" ContentType="image/x-wmf"/>
  <Override PartName="/ppt/media/image3.jpeg" ContentType="image/jpeg"/>
  <Override PartName="/ppt/media/image37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1.jpeg" ContentType="image/jpeg"/>
  <Override PartName="/ppt/media/image32.wmf" ContentType="image/x-wmf"/>
  <Override PartName="/ppt/media/image20.png" ContentType="image/png"/>
  <Override PartName="/ppt/media/image36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.png" ContentType="image/png"/>
  <Override PartName="/ppt/media/image4.png" ContentType="image/png"/>
  <Override PartName="/ppt/media/image12.jpeg" ContentType="image/jpeg"/>
  <Override PartName="/ppt/media/image41.jpeg" ContentType="image/jpeg"/>
  <Override PartName="/ppt/media/image43.wmf" ContentType="image/x-wmf"/>
  <Override PartName="/ppt/media/image44.wmf" ContentType="image/x-wmf"/>
  <Override PartName="/ppt/media/image35.jpeg" ContentType="image/jpeg"/>
  <Override PartName="/ppt/media/image5.png" ContentType="image/png"/>
  <Override PartName="/ppt/media/image45.wmf" ContentType="image/x-wmf"/>
  <Override PartName="/ppt/media/image46.wmf" ContentType="image/x-wmf"/>
  <Override PartName="/ppt/media/image48.png" ContentType="image/png"/>
  <Override PartName="/ppt/media/image50.png" ContentType="image/png"/>
  <Override PartName="/ppt/media/image49.png" ContentType="image/png"/>
  <Override PartName="/ppt/media/image51.png" ContentType="image/png"/>
  <Override PartName="/ppt/media/image13.jpeg" ContentType="image/jpeg"/>
  <Override PartName="/ppt/media/image40.jpeg" ContentType="image/jpe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38.jpeg" ContentType="image/jpeg"/>
  <Override PartName="/ppt/media/image31.wmf" ContentType="image/x-wmf"/>
  <Override PartName="/ppt/media/image33.jpeg" ContentType="image/jpeg"/>
  <Override PartName="/ppt/media/image30.wmf" ContentType="image/x-wmf"/>
  <Override PartName="/ppt/media/image11.jpeg" ContentType="image/jpeg"/>
  <Override PartName="/ppt/media/image23.wmf" ContentType="image/x-wmf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42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27640" y="8585280"/>
            <a:ext cx="447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0" y="876132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sentation_ID.s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87757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Num" idx="1"/>
          </p:nvPr>
        </p:nvSpPr>
        <p:spPr>
          <a:xfrm>
            <a:off x="5906880" y="8656560"/>
            <a:ext cx="8110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B58A554-9C1E-4811-980A-D577E41F113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868320" y="244440"/>
            <a:ext cx="5307120" cy="397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403200" y="4365360"/>
            <a:ext cx="6099120" cy="4241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906880" y="8656560"/>
            <a:ext cx="8110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CBAB20F-FDA0-46DD-8D7F-1FCD407CC54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N has 15 /8's not counting the 20 /8's for US corporations (non-defense) or the 64 /8's of the legacy /16's.     or ~70 /8'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na has ~ 1 /8 with just students population larger than NA total      India has smaller allocation with population expected to surpass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68320" y="244440"/>
            <a:ext cx="5307120" cy="39798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03200" y="4365360"/>
            <a:ext cx="6099120" cy="424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12680" indent="-112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945 millions users in 2004 (Source: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uter Industry Almanac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254160"/>
            <a:ext cx="7623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54160"/>
            <a:ext cx="7623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DA1DEE2-0617-4575-9A08-01CCE8742CCF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17000A5-D234-493B-B229-6571B8AC89F3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8815D06-8F81-4185-8405-CCA40F796055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1066680"/>
          <a:ext cx="9144000" cy="73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6680"/>
                    <a:ext cx="914400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467480" y="6324480"/>
            <a:ext cx="160020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7800" y="3581280"/>
            <a:ext cx="779940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D6E5381-C72F-4B7C-AF31-F3574992DCAD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39040" y="6634080"/>
            <a:ext cx="21459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© 2001,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53339"/>
          <a:stretch/>
        </p:blipFill>
        <p:spPr>
          <a:xfrm>
            <a:off x="0" y="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39040" y="6634080"/>
            <a:ext cx="21459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© 2001,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39040" y="6634080"/>
            <a:ext cx="21459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© 2001,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pv6forum.com/" TargetMode="External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jpe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jpeg"/><Relationship Id="rId19" Type="http://schemas.openxmlformats.org/officeDocument/2006/relationships/image" Target="../media/image22.jpeg"/><Relationship Id="rId20" Type="http://schemas.openxmlformats.org/officeDocument/2006/relationships/image" Target="../media/image23.wmf"/><Relationship Id="rId21" Type="http://schemas.openxmlformats.org/officeDocument/2006/relationships/image" Target="../media/image24.wmf"/><Relationship Id="rId22" Type="http://schemas.openxmlformats.org/officeDocument/2006/relationships/image" Target="../media/image25.wmf"/><Relationship Id="rId23" Type="http://schemas.openxmlformats.org/officeDocument/2006/relationships/image" Target="../media/image26.wmf"/><Relationship Id="rId24" Type="http://schemas.openxmlformats.org/officeDocument/2006/relationships/image" Target="../media/image27.wmf"/><Relationship Id="rId25" Type="http://schemas.openxmlformats.org/officeDocument/2006/relationships/image" Target="../media/image28.wmf"/><Relationship Id="rId26" Type="http://schemas.openxmlformats.org/officeDocument/2006/relationships/image" Target="../media/image29.wmf"/><Relationship Id="rId27" Type="http://schemas.openxmlformats.org/officeDocument/2006/relationships/image" Target="../media/image30.wmf"/><Relationship Id="rId28" Type="http://schemas.openxmlformats.org/officeDocument/2006/relationships/image" Target="../media/image31.wmf"/><Relationship Id="rId29" Type="http://schemas.openxmlformats.org/officeDocument/2006/relationships/image" Target="../media/image31.wmf"/><Relationship Id="rId30" Type="http://schemas.openxmlformats.org/officeDocument/2006/relationships/image" Target="../media/image31.wmf"/><Relationship Id="rId3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45.wmf"/><Relationship Id="rId8" Type="http://schemas.openxmlformats.org/officeDocument/2006/relationships/image" Target="../media/image44.wmf"/><Relationship Id="rId9" Type="http://schemas.openxmlformats.org/officeDocument/2006/relationships/image" Target="../media/image46.wmf"/><Relationship Id="rId10" Type="http://schemas.openxmlformats.org/officeDocument/2006/relationships/image" Target="../media/image46.wmf"/><Relationship Id="rId11" Type="http://schemas.openxmlformats.org/officeDocument/2006/relationships/image" Target="../media/image23.wmf"/><Relationship Id="rId12" Type="http://schemas.openxmlformats.org/officeDocument/2006/relationships/image" Target="../media/image42.wmf"/><Relationship Id="rId13" Type="http://schemas.openxmlformats.org/officeDocument/2006/relationships/image" Target="../media/image23.wmf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598785B-D7B0-4E7D-A277-6F3516872271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066680"/>
          <a:ext cx="914400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857840" y="2701800"/>
            <a:ext cx="3752640" cy="28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Pv6. Perspectivas de desarrollo en la Red CENIA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53800"/>
            <a:ext cx="8763120" cy="812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ómo obtener direcciones IPv6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2295360"/>
            <a:ext cx="8459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ómo obtener un espacio de direcciones IPv6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s registros regionales asignan direcciones IPv6: ARIN, RIPE, APNIC, LACN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6Bone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6to4 túne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ntidades que han obtenido su espacio Ipv6 de su proveedor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Pv6 For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965240"/>
            <a:ext cx="8459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51 miembros (Enero 20023)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reado en 1999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u misión es promover el IPv6 en el mund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 u="sng">
                <a:solidFill>
                  <a:srgbClr val="027fbb"/>
                </a:solidFill>
                <a:uFillTx/>
                <a:latin typeface="Arial"/>
                <a:hlinkClick r:id="rId1"/>
              </a:rPr>
              <a:t>www.ipv6forum.co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162920" y="1600200"/>
            <a:ext cx="1447560" cy="12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a mirada a nuestra reg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7960" y="1722600"/>
            <a:ext cx="4529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CNIC, asignación de direcciones 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6056280" cy="41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a mirada a nuestra reg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7960" y="1722600"/>
            <a:ext cx="4529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CNIC, asignación de direcciones 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594360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a mirada a nuestra reg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7960" y="1722600"/>
            <a:ext cx="4529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CNIC, solicitudes de direcciones 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6437160" cy="43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a mirada a nuestra r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9040" y="1722600"/>
            <a:ext cx="1461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5760" y="1965240"/>
            <a:ext cx="822456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enemos soporte para IPv6 en los  equipos troncales de la red y en todos los servi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olicitamos a LACNIC un bloque Ipv6 que fue aprobado y se encuentra en proceso legal de contra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odemos dar servicio de registro de records IPv6 en el DNS .c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menzaremos próximamente a probar aplicaciones ya existentes en IPv4 sobre IPv6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or qué necesitamos IPv6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9040" y="1722600"/>
            <a:ext cx="1461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5760" y="1965240"/>
            <a:ext cx="822456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No es una necesidad real en cuanto al direccionamiento, pero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IPv6 en algún momento deberá ser implementado, por qué no comenzar ahor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ebemos asegurarnos de que todos nuestros servicios puedan ser ofertados utilizando el nuevo transpor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736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gunta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129852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482400" cy="1117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886200" y="1395360"/>
            <a:ext cx="828720" cy="1123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905120" y="13716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105520" y="1314360"/>
            <a:ext cx="922320" cy="74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181480" y="2000160"/>
            <a:ext cx="8384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6095880" y="1495440"/>
            <a:ext cx="1524240" cy="1093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7696080" y="1285920"/>
            <a:ext cx="117648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2514600" y="1695600"/>
            <a:ext cx="1371600" cy="896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4572000" y="1371600"/>
            <a:ext cx="563400" cy="905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8000" y="2665440"/>
            <a:ext cx="90360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c9271b"/>
                </a:solidFill>
                <a:latin typeface="Arial"/>
                <a:ea typeface="ＭＳ Ｐゴシック"/>
              </a:rPr>
              <a:t>Con el surgimiento de millones de nuevos equipos con conectividad IP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c9271b"/>
                </a:solidFill>
                <a:latin typeface="Arial"/>
                <a:ea typeface="ＭＳ Ｐゴシック"/>
              </a:rPr>
              <a:t>las necesidades de incremento de direcciones y redes “plug &amp; play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c9271b"/>
                </a:solidFill>
                <a:latin typeface="Arial"/>
                <a:ea typeface="ＭＳ Ｐゴシック"/>
              </a:rPr>
              <a:t>solamente se logran con la implementación de 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01720" y="1968480"/>
            <a:ext cx="747720" cy="461880"/>
            <a:chOff x="801720" y="1968480"/>
            <a:chExt cx="747720" cy="461880"/>
          </a:xfrm>
        </p:grpSpPr>
        <p:sp>
          <p:nvSpPr>
            <p:cNvPr id="108" name=""/>
            <p:cNvSpPr/>
            <p:nvPr/>
          </p:nvSpPr>
          <p:spPr>
            <a:xfrm>
              <a:off x="801720" y="1968480"/>
              <a:ext cx="747720" cy="46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0"/>
            <a:srcRect l="0" t="6276" r="0" b="4627"/>
            <a:stretch/>
          </p:blipFill>
          <p:spPr>
            <a:xfrm>
              <a:off x="852480" y="1985760"/>
              <a:ext cx="644400" cy="428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"/>
          <p:cNvGrpSpPr/>
          <p:nvPr/>
        </p:nvGrpSpPr>
        <p:grpSpPr>
          <a:xfrm>
            <a:off x="7674120" y="1192320"/>
            <a:ext cx="747720" cy="461880"/>
            <a:chOff x="7674120" y="1192320"/>
            <a:chExt cx="747720" cy="461880"/>
          </a:xfrm>
        </p:grpSpPr>
        <p:sp>
          <p:nvSpPr>
            <p:cNvPr id="111" name=""/>
            <p:cNvSpPr/>
            <p:nvPr/>
          </p:nvSpPr>
          <p:spPr>
            <a:xfrm>
              <a:off x="7674120" y="1192320"/>
              <a:ext cx="747720" cy="46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11"/>
            <a:stretch/>
          </p:blipFill>
          <p:spPr>
            <a:xfrm>
              <a:off x="7775640" y="1204920"/>
              <a:ext cx="544680" cy="43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1487520" y="1968480"/>
            <a:ext cx="747720" cy="461880"/>
            <a:chOff x="1487520" y="1968480"/>
            <a:chExt cx="747720" cy="461880"/>
          </a:xfrm>
        </p:grpSpPr>
        <p:sp>
          <p:nvSpPr>
            <p:cNvPr id="114" name=""/>
            <p:cNvSpPr/>
            <p:nvPr/>
          </p:nvSpPr>
          <p:spPr>
            <a:xfrm>
              <a:off x="1487520" y="1968480"/>
              <a:ext cx="747720" cy="46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5" name=""/>
            <p:cNvGraphicFramePr/>
            <p:nvPr/>
          </p:nvGraphicFramePr>
          <p:xfrm>
            <a:off x="1581120" y="1985760"/>
            <a:ext cx="560520" cy="4251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581120" y="1985760"/>
                      <a:ext cx="560520" cy="42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7" name="" descr=""/>
          <p:cNvPicPr/>
          <p:nvPr/>
        </p:nvPicPr>
        <p:blipFill>
          <a:blip r:embed="rId14"/>
          <a:stretch/>
        </p:blipFill>
        <p:spPr>
          <a:xfrm>
            <a:off x="152280" y="1447920"/>
            <a:ext cx="993960" cy="1195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880" y="285840"/>
            <a:ext cx="838224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P – La convergencia de las a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010280" y="1185840"/>
            <a:ext cx="519120" cy="554040"/>
            <a:chOff x="7010280" y="1185840"/>
            <a:chExt cx="519120" cy="554040"/>
          </a:xfrm>
        </p:grpSpPr>
        <p:pic>
          <p:nvPicPr>
            <p:cNvPr id="120" name="" descr=""/>
            <p:cNvPicPr/>
            <p:nvPr/>
          </p:nvPicPr>
          <p:blipFill>
            <a:blip r:embed="rId15"/>
            <a:stretch/>
          </p:blipFill>
          <p:spPr>
            <a:xfrm>
              <a:off x="7010280" y="1185840"/>
              <a:ext cx="519120" cy="5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014240" y="1652040"/>
              <a:ext cx="235440" cy="8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6"/>
          <a:stretch/>
        </p:blipFill>
        <p:spPr>
          <a:xfrm>
            <a:off x="6172200" y="1262160"/>
            <a:ext cx="577800" cy="339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7"/>
          <a:stretch/>
        </p:blipFill>
        <p:spPr>
          <a:xfrm>
            <a:off x="3352680" y="1295280"/>
            <a:ext cx="852480" cy="914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8"/>
          <a:stretch/>
        </p:blipFill>
        <p:spPr>
          <a:xfrm>
            <a:off x="762120" y="4648320"/>
            <a:ext cx="769608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9"/>
          <a:stretch/>
        </p:blipFill>
        <p:spPr>
          <a:xfrm>
            <a:off x="762120" y="3762360"/>
            <a:ext cx="7696080" cy="91440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2876400" y="4805280"/>
            <a:ext cx="3735360" cy="1109520"/>
            <a:chOff x="2876400" y="4805280"/>
            <a:chExt cx="3735360" cy="1109520"/>
          </a:xfrm>
        </p:grpSpPr>
        <p:sp>
          <p:nvSpPr>
            <p:cNvPr id="127" name=""/>
            <p:cNvSpPr/>
            <p:nvPr/>
          </p:nvSpPr>
          <p:spPr>
            <a:xfrm>
              <a:off x="3670200" y="4805280"/>
              <a:ext cx="414360" cy="1109520"/>
            </a:xfrm>
            <a:prstGeom prst="rect">
              <a:avLst/>
            </a:prstGeom>
            <a:gradFill rotWithShape="0">
              <a:gsLst>
                <a:gs pos="0">
                  <a:srgbClr val="002730"/>
                </a:gs>
                <a:gs pos="50000">
                  <a:srgbClr val="005569"/>
                </a:gs>
                <a:gs pos="100000">
                  <a:srgbClr val="002730"/>
                </a:gs>
              </a:gsLst>
              <a:lin ang="13500000"/>
            </a:gradFill>
            <a:ln w="9360">
              <a:solidFill>
                <a:srgbClr val="027f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 anchorCtr="1" vert="eaVer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Ether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76640" y="4805280"/>
              <a:ext cx="438120" cy="1109520"/>
            </a:xfrm>
            <a:prstGeom prst="rect">
              <a:avLst/>
            </a:prstGeom>
            <a:gradFill rotWithShape="0">
              <a:gsLst>
                <a:gs pos="0">
                  <a:srgbClr val="002730"/>
                </a:gs>
                <a:gs pos="50000">
                  <a:srgbClr val="005569"/>
                </a:gs>
                <a:gs pos="100000">
                  <a:srgbClr val="002730"/>
                </a:gs>
              </a:gsLst>
              <a:lin ang="13500000"/>
            </a:gradFill>
            <a:ln w="9360">
              <a:solidFill>
                <a:srgbClr val="027f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 anchorCtr="1" vert="eaVer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Op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9880" y="4805280"/>
              <a:ext cx="404640" cy="1109520"/>
            </a:xfrm>
            <a:prstGeom prst="rect">
              <a:avLst/>
            </a:prstGeom>
            <a:gradFill rotWithShape="0">
              <a:gsLst>
                <a:gs pos="0">
                  <a:srgbClr val="002730"/>
                </a:gs>
                <a:gs pos="50000">
                  <a:srgbClr val="005569"/>
                </a:gs>
                <a:gs pos="100000">
                  <a:srgbClr val="002730"/>
                </a:gs>
              </a:gsLst>
              <a:lin ang="13500000"/>
            </a:gradFill>
            <a:ln w="9360">
              <a:solidFill>
                <a:srgbClr val="027f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 anchorCtr="1" vert="eaVer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E-Pow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08280" y="4805280"/>
              <a:ext cx="469800" cy="1109520"/>
            </a:xfrm>
            <a:prstGeom prst="rect">
              <a:avLst/>
            </a:prstGeom>
            <a:gradFill rotWithShape="0">
              <a:gsLst>
                <a:gs pos="0">
                  <a:srgbClr val="002730"/>
                </a:gs>
                <a:gs pos="50000">
                  <a:srgbClr val="005569"/>
                </a:gs>
                <a:gs pos="100000">
                  <a:srgbClr val="002730"/>
                </a:gs>
              </a:gsLst>
              <a:lin ang="13500000"/>
            </a:gradFill>
            <a:ln w="9360">
              <a:solidFill>
                <a:srgbClr val="027f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 anchorCtr="1" vert="eaVer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Wirel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8880" y="4805280"/>
              <a:ext cx="406440" cy="1109520"/>
            </a:xfrm>
            <a:prstGeom prst="rect">
              <a:avLst/>
            </a:prstGeom>
            <a:gradFill rotWithShape="0">
              <a:gsLst>
                <a:gs pos="0">
                  <a:srgbClr val="002730"/>
                </a:gs>
                <a:gs pos="50000">
                  <a:srgbClr val="005569"/>
                </a:gs>
                <a:gs pos="100000">
                  <a:srgbClr val="002730"/>
                </a:gs>
              </a:gsLst>
              <a:lin ang="13500000"/>
            </a:gradFill>
            <a:ln w="9360">
              <a:solidFill>
                <a:srgbClr val="027f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 anchorCtr="1" vert="eaVer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Stora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Chann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5320" y="4805280"/>
              <a:ext cx="406440" cy="1109520"/>
            </a:xfrm>
            <a:prstGeom prst="rect">
              <a:avLst/>
            </a:prstGeom>
            <a:gradFill rotWithShape="0">
              <a:gsLst>
                <a:gs pos="0">
                  <a:srgbClr val="002730"/>
                </a:gs>
                <a:gs pos="50000">
                  <a:srgbClr val="005569"/>
                </a:gs>
                <a:gs pos="100000">
                  <a:srgbClr val="002730"/>
                </a:gs>
              </a:gsLst>
              <a:lin ang="13500000"/>
            </a:gradFill>
            <a:ln w="9360">
              <a:solidFill>
                <a:srgbClr val="027f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92440" y="4805280"/>
              <a:ext cx="406440" cy="1109520"/>
            </a:xfrm>
            <a:prstGeom prst="rect">
              <a:avLst/>
            </a:prstGeom>
            <a:gradFill rotWithShape="0">
              <a:gsLst>
                <a:gs pos="0">
                  <a:srgbClr val="002730"/>
                </a:gs>
                <a:gs pos="50000">
                  <a:srgbClr val="005569"/>
                </a:gs>
                <a:gs pos="100000">
                  <a:srgbClr val="002730"/>
                </a:gs>
              </a:gsLst>
              <a:lin ang="13500000"/>
            </a:gradFill>
            <a:ln w="9360">
              <a:solidFill>
                <a:srgbClr val="027f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 anchorCtr="1" vert="eaVer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CAT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76400" y="4805280"/>
              <a:ext cx="411120" cy="1109520"/>
            </a:xfrm>
            <a:prstGeom prst="rect">
              <a:avLst/>
            </a:prstGeom>
            <a:gradFill rotWithShape="0">
              <a:gsLst>
                <a:gs pos="0">
                  <a:srgbClr val="002730"/>
                </a:gs>
                <a:gs pos="50000">
                  <a:srgbClr val="005569"/>
                </a:gs>
                <a:gs pos="100000">
                  <a:srgbClr val="002730"/>
                </a:gs>
              </a:gsLst>
              <a:lin ang="13500000"/>
            </a:gradFill>
            <a:ln w="9360">
              <a:solidFill>
                <a:srgbClr val="027f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 anchorCtr="1" vert="eaVer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D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78160" y="4805280"/>
              <a:ext cx="398520" cy="1109520"/>
            </a:xfrm>
            <a:prstGeom prst="rect">
              <a:avLst/>
            </a:prstGeom>
            <a:gradFill rotWithShape="0">
              <a:gsLst>
                <a:gs pos="0">
                  <a:srgbClr val="002730"/>
                </a:gs>
                <a:gs pos="50000">
                  <a:srgbClr val="005569"/>
                </a:gs>
                <a:gs pos="100000">
                  <a:srgbClr val="002730"/>
                </a:gs>
              </a:gsLst>
              <a:lin ang="13500000"/>
            </a:gradFill>
            <a:ln w="9360">
              <a:solidFill>
                <a:srgbClr val="027f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 anchorCtr="1" vert="eaVer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xDS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047760" y="3886200"/>
            <a:ext cx="271188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P vers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353800">
            <a:off x="6021000" y="5103720"/>
            <a:ext cx="739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More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19320" y="5943600"/>
            <a:ext cx="6821280" cy="516960"/>
            <a:chOff x="1219320" y="5943600"/>
            <a:chExt cx="6821280" cy="516960"/>
          </a:xfrm>
        </p:grpSpPr>
        <p:pic>
          <p:nvPicPr>
            <p:cNvPr id="139" name="" descr=""/>
            <p:cNvPicPr/>
            <p:nvPr/>
          </p:nvPicPr>
          <p:blipFill>
            <a:blip r:embed="rId20"/>
            <a:stretch/>
          </p:blipFill>
          <p:spPr>
            <a:xfrm>
              <a:off x="1219320" y="6032520"/>
              <a:ext cx="56988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1"/>
            <a:stretch/>
          </p:blipFill>
          <p:spPr>
            <a:xfrm>
              <a:off x="4343400" y="6003720"/>
              <a:ext cx="579600" cy="3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2819520" y="5979960"/>
              <a:ext cx="4474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5281560" y="6006960"/>
              <a:ext cx="58572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7097760" y="5943600"/>
              <a:ext cx="217440" cy="514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3581280" y="5986440"/>
              <a:ext cx="433440" cy="426960"/>
              <a:chOff x="3581280" y="5986440"/>
              <a:chExt cx="433440" cy="426960"/>
            </a:xfrm>
          </p:grpSpPr>
          <p:pic>
            <p:nvPicPr>
              <p:cNvPr id="145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581280" y="5986440"/>
                <a:ext cx="43344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3729600" y="6171480"/>
                <a:ext cx="106560" cy="106560"/>
              </a:xfrm>
              <a:prstGeom prst="ellipse">
                <a:avLst/>
              </a:prstGeom>
              <a:solidFill>
                <a:srgbClr val="027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7" name="" descr=""/>
            <p:cNvPicPr/>
            <p:nvPr/>
          </p:nvPicPr>
          <p:blipFill>
            <a:blip r:embed="rId26"/>
            <a:stretch/>
          </p:blipFill>
          <p:spPr>
            <a:xfrm>
              <a:off x="2057400" y="6003720"/>
              <a:ext cx="457200" cy="3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7"/>
            <a:stretch/>
          </p:blipFill>
          <p:spPr>
            <a:xfrm>
              <a:off x="7620120" y="5970600"/>
              <a:ext cx="42048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"/>
            <p:cNvGrpSpPr/>
            <p:nvPr/>
          </p:nvGrpSpPr>
          <p:grpSpPr>
            <a:xfrm>
              <a:off x="6248520" y="5943600"/>
              <a:ext cx="533160" cy="516960"/>
              <a:chOff x="6248520" y="5943600"/>
              <a:chExt cx="533160" cy="516960"/>
            </a:xfrm>
          </p:grpSpPr>
          <p:pic>
            <p:nvPicPr>
              <p:cNvPr id="150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6248520" y="6206040"/>
                <a:ext cx="533160" cy="24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6248520" y="6072480"/>
                <a:ext cx="533160" cy="24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6248520" y="5943600"/>
                <a:ext cx="533160" cy="245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3" name=""/>
              <p:cNvGrpSpPr/>
              <p:nvPr/>
            </p:nvGrpSpPr>
            <p:grpSpPr>
              <a:xfrm>
                <a:off x="6264720" y="6079320"/>
                <a:ext cx="375840" cy="381240"/>
                <a:chOff x="6264720" y="6079320"/>
                <a:chExt cx="375840" cy="3812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264720" y="6223320"/>
                  <a:ext cx="147600" cy="60840"/>
                </a:xfrm>
                <a:custGeom>
                  <a:avLst/>
                  <a:gdLst/>
                  <a:ahLst/>
                  <a:rect l="l" t="t" r="r" b="b"/>
                  <a:pathLst>
                    <a:path w="142" h="62">
                      <a:moveTo>
                        <a:pt x="142" y="15"/>
                      </a:moveTo>
                      <a:lnTo>
                        <a:pt x="33" y="15"/>
                      </a:lnTo>
                      <a:lnTo>
                        <a:pt x="33" y="0"/>
                      </a:lnTo>
                      <a:lnTo>
                        <a:pt x="0" y="29"/>
                      </a:lnTo>
                      <a:lnTo>
                        <a:pt x="33" y="62"/>
                      </a:lnTo>
                      <a:lnTo>
                        <a:pt x="33" y="48"/>
                      </a:lnTo>
                      <a:lnTo>
                        <a:pt x="142" y="48"/>
                      </a:lnTo>
                      <a:lnTo>
                        <a:pt x="142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264720" y="6223320"/>
                  <a:ext cx="147600" cy="60840"/>
                </a:xfrm>
                <a:custGeom>
                  <a:avLst/>
                  <a:gdLst/>
                  <a:ahLst/>
                  <a:rect l="l" t="t" r="r" b="b"/>
                  <a:pathLst>
                    <a:path w="142" h="62">
                      <a:moveTo>
                        <a:pt x="142" y="15"/>
                      </a:moveTo>
                      <a:lnTo>
                        <a:pt x="33" y="15"/>
                      </a:lnTo>
                      <a:lnTo>
                        <a:pt x="33" y="0"/>
                      </a:lnTo>
                      <a:lnTo>
                        <a:pt x="0" y="29"/>
                      </a:lnTo>
                      <a:lnTo>
                        <a:pt x="33" y="62"/>
                      </a:lnTo>
                      <a:lnTo>
                        <a:pt x="33" y="48"/>
                      </a:lnTo>
                      <a:lnTo>
                        <a:pt x="142" y="48"/>
                      </a:lnTo>
                      <a:lnTo>
                        <a:pt x="142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319800" y="6131160"/>
                  <a:ext cx="114120" cy="10692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110" y="88"/>
                      </a:moveTo>
                      <a:lnTo>
                        <a:pt x="33" y="11"/>
                      </a:lnTo>
                      <a:lnTo>
                        <a:pt x="44" y="0"/>
                      </a:lnTo>
                      <a:lnTo>
                        <a:pt x="0" y="0"/>
                      </a:lnTo>
                      <a:lnTo>
                        <a:pt x="0" y="44"/>
                      </a:lnTo>
                      <a:lnTo>
                        <a:pt x="10" y="32"/>
                      </a:lnTo>
                      <a:lnTo>
                        <a:pt x="89" y="110"/>
                      </a:lnTo>
                      <a:lnTo>
                        <a:pt x="11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319800" y="6131160"/>
                  <a:ext cx="114120" cy="10692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110" y="88"/>
                      </a:moveTo>
                      <a:lnTo>
                        <a:pt x="33" y="11"/>
                      </a:lnTo>
                      <a:lnTo>
                        <a:pt x="44" y="0"/>
                      </a:lnTo>
                      <a:lnTo>
                        <a:pt x="0" y="0"/>
                      </a:lnTo>
                      <a:lnTo>
                        <a:pt x="0" y="44"/>
                      </a:lnTo>
                      <a:lnTo>
                        <a:pt x="10" y="32"/>
                      </a:lnTo>
                      <a:lnTo>
                        <a:pt x="89" y="110"/>
                      </a:lnTo>
                      <a:lnTo>
                        <a:pt x="11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418800" y="6079320"/>
                  <a:ext cx="65160" cy="137520"/>
                </a:xfrm>
                <a:custGeom>
                  <a:avLst/>
                  <a:gdLst/>
                  <a:ahLst/>
                  <a:rect l="l" t="t" r="r" b="b"/>
                  <a:pathLst>
                    <a:path w="63" h="141">
                      <a:moveTo>
                        <a:pt x="48" y="141"/>
                      </a:moveTo>
                      <a:lnTo>
                        <a:pt x="48" y="30"/>
                      </a:lnTo>
                      <a:lnTo>
                        <a:pt x="63" y="30"/>
                      </a:lnTo>
                      <a:lnTo>
                        <a:pt x="33" y="0"/>
                      </a:lnTo>
                      <a:lnTo>
                        <a:pt x="0" y="30"/>
                      </a:lnTo>
                      <a:lnTo>
                        <a:pt x="15" y="30"/>
                      </a:lnTo>
                      <a:lnTo>
                        <a:pt x="15" y="141"/>
                      </a:lnTo>
                      <a:lnTo>
                        <a:pt x="48" y="1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418800" y="6079320"/>
                  <a:ext cx="65160" cy="137520"/>
                </a:xfrm>
                <a:custGeom>
                  <a:avLst/>
                  <a:gdLst/>
                  <a:ahLst/>
                  <a:rect l="l" t="t" r="r" b="b"/>
                  <a:pathLst>
                    <a:path w="63" h="141">
                      <a:moveTo>
                        <a:pt x="48" y="141"/>
                      </a:moveTo>
                      <a:lnTo>
                        <a:pt x="48" y="30"/>
                      </a:lnTo>
                      <a:lnTo>
                        <a:pt x="63" y="30"/>
                      </a:lnTo>
                      <a:lnTo>
                        <a:pt x="33" y="0"/>
                      </a:lnTo>
                      <a:lnTo>
                        <a:pt x="0" y="30"/>
                      </a:lnTo>
                      <a:lnTo>
                        <a:pt x="15" y="30"/>
                      </a:lnTo>
                      <a:lnTo>
                        <a:pt x="15" y="141"/>
                      </a:lnTo>
                      <a:lnTo>
                        <a:pt x="48" y="1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68840" y="6131160"/>
                  <a:ext cx="115920" cy="106920"/>
                </a:xfrm>
                <a:custGeom>
                  <a:avLst/>
                  <a:gdLst/>
                  <a:ahLst/>
                  <a:rect l="l" t="t" r="r" b="b"/>
                  <a:pathLst>
                    <a:path w="112" h="110">
                      <a:moveTo>
                        <a:pt x="23" y="110"/>
                      </a:moveTo>
                      <a:lnTo>
                        <a:pt x="100" y="32"/>
                      </a:lnTo>
                      <a:lnTo>
                        <a:pt x="112" y="44"/>
                      </a:lnTo>
                      <a:lnTo>
                        <a:pt x="112" y="0"/>
                      </a:lnTo>
                      <a:lnTo>
                        <a:pt x="66" y="0"/>
                      </a:lnTo>
                      <a:lnTo>
                        <a:pt x="77" y="11"/>
                      </a:lnTo>
                      <a:lnTo>
                        <a:pt x="0" y="88"/>
                      </a:lnTo>
                      <a:lnTo>
                        <a:pt x="23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468840" y="6131160"/>
                  <a:ext cx="115920" cy="106920"/>
                </a:xfrm>
                <a:custGeom>
                  <a:avLst/>
                  <a:gdLst/>
                  <a:ahLst/>
                  <a:rect l="l" t="t" r="r" b="b"/>
                  <a:pathLst>
                    <a:path w="112" h="110">
                      <a:moveTo>
                        <a:pt x="23" y="110"/>
                      </a:moveTo>
                      <a:lnTo>
                        <a:pt x="100" y="32"/>
                      </a:lnTo>
                      <a:lnTo>
                        <a:pt x="112" y="44"/>
                      </a:lnTo>
                      <a:lnTo>
                        <a:pt x="112" y="0"/>
                      </a:lnTo>
                      <a:lnTo>
                        <a:pt x="66" y="0"/>
                      </a:lnTo>
                      <a:lnTo>
                        <a:pt x="77" y="11"/>
                      </a:lnTo>
                      <a:lnTo>
                        <a:pt x="0" y="88"/>
                      </a:lnTo>
                      <a:lnTo>
                        <a:pt x="23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492240" y="6223320"/>
                  <a:ext cx="145800" cy="60840"/>
                </a:xfrm>
                <a:custGeom>
                  <a:avLst/>
                  <a:gdLst/>
                  <a:ahLst/>
                  <a:rect l="l" t="t" r="r" b="b"/>
                  <a:pathLst>
                    <a:path w="140" h="62">
                      <a:moveTo>
                        <a:pt x="0" y="48"/>
                      </a:moveTo>
                      <a:lnTo>
                        <a:pt x="110" y="48"/>
                      </a:lnTo>
                      <a:lnTo>
                        <a:pt x="110" y="62"/>
                      </a:lnTo>
                      <a:lnTo>
                        <a:pt x="140" y="29"/>
                      </a:lnTo>
                      <a:lnTo>
                        <a:pt x="110" y="0"/>
                      </a:lnTo>
                      <a:lnTo>
                        <a:pt x="110" y="15"/>
                      </a:lnTo>
                      <a:lnTo>
                        <a:pt x="0" y="15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492240" y="6223320"/>
                  <a:ext cx="145800" cy="60840"/>
                </a:xfrm>
                <a:custGeom>
                  <a:avLst/>
                  <a:gdLst/>
                  <a:ahLst/>
                  <a:rect l="l" t="t" r="r" b="b"/>
                  <a:pathLst>
                    <a:path w="140" h="62">
                      <a:moveTo>
                        <a:pt x="0" y="48"/>
                      </a:moveTo>
                      <a:lnTo>
                        <a:pt x="110" y="48"/>
                      </a:lnTo>
                      <a:lnTo>
                        <a:pt x="110" y="62"/>
                      </a:lnTo>
                      <a:lnTo>
                        <a:pt x="140" y="29"/>
                      </a:lnTo>
                      <a:lnTo>
                        <a:pt x="110" y="0"/>
                      </a:lnTo>
                      <a:lnTo>
                        <a:pt x="110" y="15"/>
                      </a:lnTo>
                      <a:lnTo>
                        <a:pt x="0" y="15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468840" y="6270480"/>
                  <a:ext cx="115920" cy="107640"/>
                </a:xfrm>
                <a:custGeom>
                  <a:avLst/>
                  <a:gdLst/>
                  <a:ahLst/>
                  <a:rect l="l" t="t" r="r" b="b"/>
                  <a:pathLst>
                    <a:path w="112" h="110">
                      <a:moveTo>
                        <a:pt x="0" y="21"/>
                      </a:moveTo>
                      <a:lnTo>
                        <a:pt x="77" y="98"/>
                      </a:lnTo>
                      <a:lnTo>
                        <a:pt x="66" y="110"/>
                      </a:lnTo>
                      <a:lnTo>
                        <a:pt x="112" y="106"/>
                      </a:lnTo>
                      <a:lnTo>
                        <a:pt x="112" y="65"/>
                      </a:lnTo>
                      <a:lnTo>
                        <a:pt x="100" y="77"/>
                      </a:lnTo>
                      <a:lnTo>
                        <a:pt x="23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468840" y="6270480"/>
                  <a:ext cx="115920" cy="107640"/>
                </a:xfrm>
                <a:custGeom>
                  <a:avLst/>
                  <a:gdLst/>
                  <a:ahLst/>
                  <a:rect l="l" t="t" r="r" b="b"/>
                  <a:pathLst>
                    <a:path w="112" h="110">
                      <a:moveTo>
                        <a:pt x="0" y="21"/>
                      </a:moveTo>
                      <a:lnTo>
                        <a:pt x="77" y="98"/>
                      </a:lnTo>
                      <a:lnTo>
                        <a:pt x="66" y="110"/>
                      </a:lnTo>
                      <a:lnTo>
                        <a:pt x="112" y="106"/>
                      </a:lnTo>
                      <a:lnTo>
                        <a:pt x="112" y="65"/>
                      </a:lnTo>
                      <a:lnTo>
                        <a:pt x="100" y="77"/>
                      </a:lnTo>
                      <a:lnTo>
                        <a:pt x="23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418800" y="6290640"/>
                  <a:ext cx="65160" cy="137520"/>
                </a:xfrm>
                <a:custGeom>
                  <a:avLst/>
                  <a:gdLst/>
                  <a:ahLst/>
                  <a:rect l="l" t="t" r="r" b="b"/>
                  <a:pathLst>
                    <a:path w="63" h="141">
                      <a:moveTo>
                        <a:pt x="15" y="0"/>
                      </a:moveTo>
                      <a:lnTo>
                        <a:pt x="15" y="112"/>
                      </a:lnTo>
                      <a:lnTo>
                        <a:pt x="0" y="112"/>
                      </a:lnTo>
                      <a:lnTo>
                        <a:pt x="33" y="141"/>
                      </a:lnTo>
                      <a:lnTo>
                        <a:pt x="63" y="112"/>
                      </a:lnTo>
                      <a:lnTo>
                        <a:pt x="48" y="112"/>
                      </a:lnTo>
                      <a:lnTo>
                        <a:pt x="48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418800" y="6290640"/>
                  <a:ext cx="65160" cy="137520"/>
                </a:xfrm>
                <a:custGeom>
                  <a:avLst/>
                  <a:gdLst/>
                  <a:ahLst/>
                  <a:rect l="l" t="t" r="r" b="b"/>
                  <a:pathLst>
                    <a:path w="63" h="141">
                      <a:moveTo>
                        <a:pt x="15" y="0"/>
                      </a:moveTo>
                      <a:lnTo>
                        <a:pt x="15" y="112"/>
                      </a:lnTo>
                      <a:lnTo>
                        <a:pt x="0" y="112"/>
                      </a:lnTo>
                      <a:lnTo>
                        <a:pt x="33" y="141"/>
                      </a:lnTo>
                      <a:lnTo>
                        <a:pt x="63" y="112"/>
                      </a:lnTo>
                      <a:lnTo>
                        <a:pt x="48" y="112"/>
                      </a:lnTo>
                      <a:lnTo>
                        <a:pt x="48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319800" y="6270480"/>
                  <a:ext cx="114120" cy="10764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89" y="0"/>
                      </a:moveTo>
                      <a:lnTo>
                        <a:pt x="10" y="77"/>
                      </a:lnTo>
                      <a:lnTo>
                        <a:pt x="0" y="65"/>
                      </a:lnTo>
                      <a:lnTo>
                        <a:pt x="0" y="110"/>
                      </a:lnTo>
                      <a:lnTo>
                        <a:pt x="44" y="110"/>
                      </a:lnTo>
                      <a:lnTo>
                        <a:pt x="33" y="98"/>
                      </a:lnTo>
                      <a:lnTo>
                        <a:pt x="110" y="21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319800" y="6270480"/>
                  <a:ext cx="114120" cy="10764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89" y="0"/>
                      </a:moveTo>
                      <a:lnTo>
                        <a:pt x="10" y="77"/>
                      </a:lnTo>
                      <a:lnTo>
                        <a:pt x="0" y="65"/>
                      </a:lnTo>
                      <a:lnTo>
                        <a:pt x="0" y="110"/>
                      </a:lnTo>
                      <a:lnTo>
                        <a:pt x="44" y="110"/>
                      </a:lnTo>
                      <a:lnTo>
                        <a:pt x="33" y="98"/>
                      </a:lnTo>
                      <a:lnTo>
                        <a:pt x="110" y="21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269400" y="6226920"/>
                  <a:ext cx="145800" cy="61560"/>
                </a:xfrm>
                <a:custGeom>
                  <a:avLst/>
                  <a:gdLst/>
                  <a:ahLst/>
                  <a:rect l="l" t="t" r="r" b="b"/>
                  <a:pathLst>
                    <a:path w="141" h="63">
                      <a:moveTo>
                        <a:pt x="141" y="15"/>
                      </a:moveTo>
                      <a:lnTo>
                        <a:pt x="34" y="15"/>
                      </a:lnTo>
                      <a:lnTo>
                        <a:pt x="34" y="0"/>
                      </a:lnTo>
                      <a:lnTo>
                        <a:pt x="0" y="30"/>
                      </a:lnTo>
                      <a:lnTo>
                        <a:pt x="34" y="63"/>
                      </a:lnTo>
                      <a:lnTo>
                        <a:pt x="34" y="49"/>
                      </a:lnTo>
                      <a:lnTo>
                        <a:pt x="141" y="49"/>
                      </a:lnTo>
                      <a:lnTo>
                        <a:pt x="141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269400" y="6226920"/>
                  <a:ext cx="145800" cy="61560"/>
                </a:xfrm>
                <a:custGeom>
                  <a:avLst/>
                  <a:gdLst/>
                  <a:ahLst/>
                  <a:rect l="l" t="t" r="r" b="b"/>
                  <a:pathLst>
                    <a:path w="141" h="63">
                      <a:moveTo>
                        <a:pt x="141" y="15"/>
                      </a:moveTo>
                      <a:lnTo>
                        <a:pt x="34" y="15"/>
                      </a:lnTo>
                      <a:lnTo>
                        <a:pt x="34" y="0"/>
                      </a:lnTo>
                      <a:lnTo>
                        <a:pt x="0" y="30"/>
                      </a:lnTo>
                      <a:lnTo>
                        <a:pt x="34" y="63"/>
                      </a:lnTo>
                      <a:lnTo>
                        <a:pt x="34" y="49"/>
                      </a:lnTo>
                      <a:lnTo>
                        <a:pt x="141" y="49"/>
                      </a:lnTo>
                      <a:lnTo>
                        <a:pt x="141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322680" y="6133680"/>
                  <a:ext cx="114120" cy="10764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110" y="89"/>
                      </a:moveTo>
                      <a:lnTo>
                        <a:pt x="33" y="11"/>
                      </a:lnTo>
                      <a:lnTo>
                        <a:pt x="45" y="0"/>
                      </a:lnTo>
                      <a:lnTo>
                        <a:pt x="0" y="0"/>
                      </a:lnTo>
                      <a:lnTo>
                        <a:pt x="0" y="44"/>
                      </a:lnTo>
                      <a:lnTo>
                        <a:pt x="12" y="33"/>
                      </a:lnTo>
                      <a:lnTo>
                        <a:pt x="89" y="110"/>
                      </a:lnTo>
                      <a:lnTo>
                        <a:pt x="110" y="8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322680" y="6133680"/>
                  <a:ext cx="114120" cy="10764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110" y="89"/>
                      </a:moveTo>
                      <a:lnTo>
                        <a:pt x="33" y="11"/>
                      </a:lnTo>
                      <a:lnTo>
                        <a:pt x="45" y="0"/>
                      </a:lnTo>
                      <a:lnTo>
                        <a:pt x="0" y="0"/>
                      </a:lnTo>
                      <a:lnTo>
                        <a:pt x="0" y="44"/>
                      </a:lnTo>
                      <a:lnTo>
                        <a:pt x="12" y="33"/>
                      </a:lnTo>
                      <a:lnTo>
                        <a:pt x="89" y="110"/>
                      </a:lnTo>
                      <a:lnTo>
                        <a:pt x="110" y="8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422400" y="6084000"/>
                  <a:ext cx="64080" cy="136800"/>
                </a:xfrm>
                <a:custGeom>
                  <a:avLst/>
                  <a:gdLst/>
                  <a:ahLst/>
                  <a:rect l="l" t="t" r="r" b="b"/>
                  <a:pathLst>
                    <a:path w="62" h="140">
                      <a:moveTo>
                        <a:pt x="49" y="140"/>
                      </a:moveTo>
                      <a:lnTo>
                        <a:pt x="49" y="29"/>
                      </a:lnTo>
                      <a:lnTo>
                        <a:pt x="62" y="29"/>
                      </a:lnTo>
                      <a:lnTo>
                        <a:pt x="32" y="0"/>
                      </a:lnTo>
                      <a:lnTo>
                        <a:pt x="0" y="29"/>
                      </a:lnTo>
                      <a:lnTo>
                        <a:pt x="14" y="29"/>
                      </a:lnTo>
                      <a:lnTo>
                        <a:pt x="14" y="140"/>
                      </a:lnTo>
                      <a:lnTo>
                        <a:pt x="49" y="1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422400" y="6084000"/>
                  <a:ext cx="64080" cy="136800"/>
                </a:xfrm>
                <a:custGeom>
                  <a:avLst/>
                  <a:gdLst/>
                  <a:ahLst/>
                  <a:rect l="l" t="t" r="r" b="b"/>
                  <a:pathLst>
                    <a:path w="62" h="140">
                      <a:moveTo>
                        <a:pt x="49" y="140"/>
                      </a:moveTo>
                      <a:lnTo>
                        <a:pt x="49" y="29"/>
                      </a:lnTo>
                      <a:lnTo>
                        <a:pt x="62" y="29"/>
                      </a:lnTo>
                      <a:lnTo>
                        <a:pt x="32" y="0"/>
                      </a:lnTo>
                      <a:lnTo>
                        <a:pt x="0" y="29"/>
                      </a:lnTo>
                      <a:lnTo>
                        <a:pt x="14" y="29"/>
                      </a:lnTo>
                      <a:lnTo>
                        <a:pt x="14" y="140"/>
                      </a:lnTo>
                      <a:lnTo>
                        <a:pt x="49" y="1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473160" y="6133680"/>
                  <a:ext cx="114840" cy="10764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21" y="110"/>
                      </a:moveTo>
                      <a:lnTo>
                        <a:pt x="98" y="33"/>
                      </a:lnTo>
                      <a:lnTo>
                        <a:pt x="110" y="44"/>
                      </a:lnTo>
                      <a:lnTo>
                        <a:pt x="110" y="0"/>
                      </a:lnTo>
                      <a:lnTo>
                        <a:pt x="66" y="0"/>
                      </a:lnTo>
                      <a:lnTo>
                        <a:pt x="77" y="11"/>
                      </a:lnTo>
                      <a:lnTo>
                        <a:pt x="0" y="89"/>
                      </a:lnTo>
                      <a:lnTo>
                        <a:pt x="21" y="1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473160" y="6133680"/>
                  <a:ext cx="114840" cy="10764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21" y="110"/>
                      </a:moveTo>
                      <a:lnTo>
                        <a:pt x="98" y="33"/>
                      </a:lnTo>
                      <a:lnTo>
                        <a:pt x="110" y="44"/>
                      </a:lnTo>
                      <a:lnTo>
                        <a:pt x="110" y="0"/>
                      </a:lnTo>
                      <a:lnTo>
                        <a:pt x="66" y="0"/>
                      </a:lnTo>
                      <a:lnTo>
                        <a:pt x="77" y="11"/>
                      </a:lnTo>
                      <a:lnTo>
                        <a:pt x="0" y="89"/>
                      </a:lnTo>
                      <a:lnTo>
                        <a:pt x="21" y="1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495840" y="6226920"/>
                  <a:ext cx="144720" cy="61560"/>
                </a:xfrm>
                <a:custGeom>
                  <a:avLst/>
                  <a:gdLst/>
                  <a:ahLst/>
                  <a:rect l="l" t="t" r="r" b="b"/>
                  <a:pathLst>
                    <a:path w="140" h="63">
                      <a:moveTo>
                        <a:pt x="0" y="49"/>
                      </a:moveTo>
                      <a:lnTo>
                        <a:pt x="110" y="49"/>
                      </a:lnTo>
                      <a:lnTo>
                        <a:pt x="110" y="63"/>
                      </a:lnTo>
                      <a:lnTo>
                        <a:pt x="140" y="30"/>
                      </a:lnTo>
                      <a:lnTo>
                        <a:pt x="110" y="0"/>
                      </a:lnTo>
                      <a:lnTo>
                        <a:pt x="110" y="15"/>
                      </a:lnTo>
                      <a:lnTo>
                        <a:pt x="0" y="15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495840" y="6226920"/>
                  <a:ext cx="144720" cy="61560"/>
                </a:xfrm>
                <a:custGeom>
                  <a:avLst/>
                  <a:gdLst/>
                  <a:ahLst/>
                  <a:rect l="l" t="t" r="r" b="b"/>
                  <a:pathLst>
                    <a:path w="140" h="63">
                      <a:moveTo>
                        <a:pt x="0" y="49"/>
                      </a:moveTo>
                      <a:lnTo>
                        <a:pt x="110" y="49"/>
                      </a:lnTo>
                      <a:lnTo>
                        <a:pt x="110" y="63"/>
                      </a:lnTo>
                      <a:lnTo>
                        <a:pt x="140" y="30"/>
                      </a:lnTo>
                      <a:lnTo>
                        <a:pt x="110" y="0"/>
                      </a:lnTo>
                      <a:lnTo>
                        <a:pt x="110" y="15"/>
                      </a:lnTo>
                      <a:lnTo>
                        <a:pt x="0" y="15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473160" y="6274440"/>
                  <a:ext cx="114840" cy="108360"/>
                </a:xfrm>
                <a:custGeom>
                  <a:avLst/>
                  <a:gdLst/>
                  <a:ahLst/>
                  <a:rect l="l" t="t" r="r" b="b"/>
                  <a:pathLst>
                    <a:path w="110" h="111">
                      <a:moveTo>
                        <a:pt x="0" y="22"/>
                      </a:moveTo>
                      <a:lnTo>
                        <a:pt x="77" y="99"/>
                      </a:lnTo>
                      <a:lnTo>
                        <a:pt x="66" y="111"/>
                      </a:lnTo>
                      <a:lnTo>
                        <a:pt x="110" y="106"/>
                      </a:lnTo>
                      <a:lnTo>
                        <a:pt x="110" y="66"/>
                      </a:lnTo>
                      <a:lnTo>
                        <a:pt x="98" y="76"/>
                      </a:lnTo>
                      <a:lnTo>
                        <a:pt x="21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473160" y="6274440"/>
                  <a:ext cx="114840" cy="108360"/>
                </a:xfrm>
                <a:custGeom>
                  <a:avLst/>
                  <a:gdLst/>
                  <a:ahLst/>
                  <a:rect l="l" t="t" r="r" b="b"/>
                  <a:pathLst>
                    <a:path w="110" h="111">
                      <a:moveTo>
                        <a:pt x="0" y="22"/>
                      </a:moveTo>
                      <a:lnTo>
                        <a:pt x="77" y="99"/>
                      </a:lnTo>
                      <a:lnTo>
                        <a:pt x="66" y="111"/>
                      </a:lnTo>
                      <a:lnTo>
                        <a:pt x="110" y="106"/>
                      </a:lnTo>
                      <a:lnTo>
                        <a:pt x="110" y="66"/>
                      </a:lnTo>
                      <a:lnTo>
                        <a:pt x="98" y="76"/>
                      </a:lnTo>
                      <a:lnTo>
                        <a:pt x="21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422400" y="6295680"/>
                  <a:ext cx="64080" cy="136800"/>
                </a:xfrm>
                <a:custGeom>
                  <a:avLst/>
                  <a:gdLst/>
                  <a:ahLst/>
                  <a:rect l="l" t="t" r="r" b="b"/>
                  <a:pathLst>
                    <a:path w="62" h="140">
                      <a:moveTo>
                        <a:pt x="14" y="0"/>
                      </a:moveTo>
                      <a:lnTo>
                        <a:pt x="14" y="110"/>
                      </a:lnTo>
                      <a:lnTo>
                        <a:pt x="0" y="110"/>
                      </a:lnTo>
                      <a:lnTo>
                        <a:pt x="32" y="140"/>
                      </a:lnTo>
                      <a:lnTo>
                        <a:pt x="62" y="110"/>
                      </a:lnTo>
                      <a:lnTo>
                        <a:pt x="49" y="110"/>
                      </a:lnTo>
                      <a:lnTo>
                        <a:pt x="49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422400" y="6295680"/>
                  <a:ext cx="64080" cy="136800"/>
                </a:xfrm>
                <a:custGeom>
                  <a:avLst/>
                  <a:gdLst/>
                  <a:ahLst/>
                  <a:rect l="l" t="t" r="r" b="b"/>
                  <a:pathLst>
                    <a:path w="62" h="140">
                      <a:moveTo>
                        <a:pt x="14" y="0"/>
                      </a:moveTo>
                      <a:lnTo>
                        <a:pt x="14" y="110"/>
                      </a:lnTo>
                      <a:lnTo>
                        <a:pt x="0" y="110"/>
                      </a:lnTo>
                      <a:lnTo>
                        <a:pt x="32" y="140"/>
                      </a:lnTo>
                      <a:lnTo>
                        <a:pt x="62" y="110"/>
                      </a:lnTo>
                      <a:lnTo>
                        <a:pt x="49" y="110"/>
                      </a:lnTo>
                      <a:lnTo>
                        <a:pt x="49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322680" y="6274440"/>
                  <a:ext cx="114120" cy="108360"/>
                </a:xfrm>
                <a:custGeom>
                  <a:avLst/>
                  <a:gdLst/>
                  <a:ahLst/>
                  <a:rect l="l" t="t" r="r" b="b"/>
                  <a:pathLst>
                    <a:path w="110" h="111">
                      <a:moveTo>
                        <a:pt x="89" y="0"/>
                      </a:moveTo>
                      <a:lnTo>
                        <a:pt x="12" y="76"/>
                      </a:lnTo>
                      <a:lnTo>
                        <a:pt x="0" y="66"/>
                      </a:lnTo>
                      <a:lnTo>
                        <a:pt x="0" y="111"/>
                      </a:lnTo>
                      <a:lnTo>
                        <a:pt x="45" y="111"/>
                      </a:lnTo>
                      <a:lnTo>
                        <a:pt x="33" y="99"/>
                      </a:lnTo>
                      <a:lnTo>
                        <a:pt x="110" y="22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322680" y="6274440"/>
                  <a:ext cx="114120" cy="108360"/>
                </a:xfrm>
                <a:custGeom>
                  <a:avLst/>
                  <a:gdLst/>
                  <a:ahLst/>
                  <a:rect l="l" t="t" r="r" b="b"/>
                  <a:pathLst>
                    <a:path w="110" h="111">
                      <a:moveTo>
                        <a:pt x="89" y="0"/>
                      </a:moveTo>
                      <a:lnTo>
                        <a:pt x="12" y="76"/>
                      </a:lnTo>
                      <a:lnTo>
                        <a:pt x="0" y="66"/>
                      </a:lnTo>
                      <a:lnTo>
                        <a:pt x="0" y="111"/>
                      </a:lnTo>
                      <a:lnTo>
                        <a:pt x="45" y="111"/>
                      </a:lnTo>
                      <a:lnTo>
                        <a:pt x="33" y="99"/>
                      </a:lnTo>
                      <a:lnTo>
                        <a:pt x="110" y="22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387840" y="6199200"/>
                  <a:ext cx="127800" cy="118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396840" y="6206400"/>
                  <a:ext cx="127800" cy="119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393600" y="6203160"/>
                  <a:ext cx="126000" cy="118080"/>
                </a:xfrm>
                <a:prstGeom prst="ellipse">
                  <a:avLst/>
                </a:prstGeom>
                <a:solidFill>
                  <a:srgbClr val="e54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412320" y="6208920"/>
                  <a:ext cx="143280" cy="12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491160" y="6140160"/>
                  <a:ext cx="6768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406920" y="6206400"/>
                  <a:ext cx="143280" cy="12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484680" y="6140160"/>
                  <a:ext cx="6768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 rot="191400">
                <a:off x="6669000" y="6054840"/>
                <a:ext cx="95760" cy="287280"/>
              </a:xfrm>
              <a:prstGeom prst="donut">
                <a:avLst>
                  <a:gd name="adj" fmla="val 814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53800"/>
            <a:ext cx="7623360" cy="812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cesitamos el IPv6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965240"/>
            <a:ext cx="87631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75000"/>
              </a:lnSpc>
              <a:spcBef>
                <a:spcPts val="112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 IPv6 WG del IETF del comenzó a principios de los 90, a buscar soluciones para el crecimiento de las direcciones, pe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DR, NAT,… se desarrollar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12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recciones IPv4 de 32 bits ~ 4 mil millones de h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~ Aproximadamente el 37% del espacio de direcciones IPv4 aún no se ha asignado (08/02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12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iste una percepción general de que “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Pv6 aún no se ha afianzad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l agotamiento del espacio de direcciones aún no es una realidad (20, 25 años, nunca…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s datos en la infraestructura inalámbrica emergieron recientement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12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o el mundo se mueve en esa dirección para hacer sostenible el crecimiento de Internet y desarrollo de nuevas tecnologías!!!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v4: asignación de direccio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85840" indent="0">
              <a:lnSpc>
                <a:spcPct val="75000"/>
              </a:lnSpc>
              <a:spcBef>
                <a:spcPts val="14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981  -  se publica el IPv4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5000"/>
              </a:lnSpc>
              <a:spcBef>
                <a:spcPts val="14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985  ~ 1/16 del espacio tota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5000"/>
              </a:lnSpc>
              <a:spcBef>
                <a:spcPts val="14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990  ~ 1/8 del espacio tota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5000"/>
              </a:lnSpc>
              <a:spcBef>
                <a:spcPts val="14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995  ~ 1/3 del espacio tota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5000"/>
              </a:lnSpc>
              <a:spcBef>
                <a:spcPts val="14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00  ~ 1/2 del espacio tota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5000"/>
              </a:lnSpc>
              <a:spcBef>
                <a:spcPts val="14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03  ~ del espacio tota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5000"/>
              </a:lnSpc>
              <a:spcBef>
                <a:spcPts val="1562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5000"/>
              </a:lnSpc>
              <a:spcBef>
                <a:spcPts val="1562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ún a pesar de los esfuerzos continuos por conservar el espacio de direccion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0">
              <a:lnSpc>
                <a:spcPct val="65000"/>
              </a:lnSpc>
              <a:spcBef>
                <a:spcPts val="93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PP / DHCP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   NAT (network address translatio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0">
              <a:lnSpc>
                <a:spcPct val="65000"/>
              </a:lnSpc>
              <a:spcBef>
                <a:spcPts val="93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IDR (classless inter-domain routing)     algunas reclamaciones de direcc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5000"/>
              </a:lnSpc>
              <a:spcBef>
                <a:spcPts val="1063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ímite teórico del espacio de 32 bits:  ~4 mil millones de equipo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ímite práctico: ~250 millones de equipos 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(RFC 3194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267080" y="1447920"/>
          <a:ext cx="4646880" cy="280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447920"/>
                    <a:ext cx="4646880" cy="28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5416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mente necesitamos un espacio mayo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964880"/>
            <a:ext cx="8610480" cy="405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88000"/>
          </a:bodyPr>
          <a:p>
            <a:pPr marL="254160" indent="-254160">
              <a:lnSpc>
                <a:spcPct val="85000"/>
              </a:lnSpc>
              <a:spcBef>
                <a:spcPts val="125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blación” de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~600M usuarios a principios del 2002, ~945M a finales del 2004 – solamente un 10-15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cimiento futuro estimado (~9000M en el año 205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 crecimiento de nuevos países y su conexión a la red, ej: China usa aproximadamente 2 clases A (11/2002), ~20 clases A se necesitarían si cada estudiante fuera a acceder a Intern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75000"/>
              </a:lnSpc>
              <a:spcBef>
                <a:spcPts val="125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 era de las comunicaciones móviles introduce una nueva generación de equipos con posibilidad de conexión a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7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DA (~20M en 2004), teléfonos móviles (~1500M en 200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125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portación – Redes móv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85000"/>
              </a:lnSpc>
              <a:spcBef>
                <a:spcPts val="11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1000M autos previstos para el 2008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85000"/>
              </a:lnSpc>
              <a:spcBef>
                <a:spcPts val="11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cceso a Internet en aviones (Lufthansa) y trenes (Narita expres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5000"/>
              </a:lnSpc>
              <a:spcBef>
                <a:spcPts val="125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licaciones industriales y para el hog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osión de nuevos “equipos IP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3414600"/>
            <a:ext cx="2286000" cy="1641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52280" y="5191200"/>
            <a:ext cx="2362320" cy="1346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6019920" y="40384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4800600" y="14479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6934320" y="14479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2590920" y="44197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2590920" y="1447920"/>
            <a:ext cx="1942920" cy="2438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4724280" y="3124080"/>
            <a:ext cx="22100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7627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tablecer la arquitectura de extremo a extrem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3133800"/>
            <a:ext cx="3962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0000"/>
          </a:bodyPr>
          <a:p>
            <a:pPr marL="259920" indent="-259920">
              <a:lnSpc>
                <a:spcPct val="85000"/>
              </a:lnSpc>
              <a:spcBef>
                <a:spcPts val="112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comenzó con conectividad de extremo a extremo para todas las aplica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5000"/>
              </a:lnSpc>
              <a:spcBef>
                <a:spcPts val="112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y, NAT y gateways de aplicación conectan las re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100000"/>
              </a:lnSpc>
              <a:buClr>
                <a:srgbClr val="008bc2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8bc2"/>
                </a:solidFill>
                <a:latin typeface="Arial"/>
              </a:rPr>
              <a:t>Aplicaciones Peer-to-Peer o Server-to-Client</a:t>
            </a:r>
            <a:r>
              <a:rPr b="1" lang="en-US" sz="1800" spc="-1" strike="noStrike">
                <a:solidFill>
                  <a:srgbClr val="008bc2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8bc2"/>
                </a:solidFill>
                <a:latin typeface="Arial"/>
              </a:rPr>
              <a:t>necesitan direcciones reales cuando te conectas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lefonía IP, Fax, Video Con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óbiles, Residenciales,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uego distribui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nitoreo Remo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412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419720" cy="2801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flipV="1">
            <a:off x="6172200" y="3200040"/>
            <a:ext cx="380880" cy="1523880"/>
          </a:xfrm>
          <a:prstGeom prst="line">
            <a:avLst/>
          </a:prstGeom>
          <a:ln w="50760">
            <a:solidFill>
              <a:srgbClr val="cf0e3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572000" y="5105520"/>
            <a:ext cx="588960" cy="784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486400" y="5486400"/>
            <a:ext cx="1014480" cy="500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7924680" y="2666880"/>
            <a:ext cx="1014480" cy="5000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6781680" y="5334120"/>
            <a:ext cx="685800" cy="609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4191120" y="2590920"/>
            <a:ext cx="1371600" cy="76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620120" y="5334120"/>
            <a:ext cx="1371600" cy="761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6553080" y="2209680"/>
            <a:ext cx="685800" cy="609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7391520" y="220968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0"/>
          <a:stretch/>
        </p:blipFill>
        <p:spPr>
          <a:xfrm>
            <a:off x="6172200" y="6095880"/>
            <a:ext cx="685800" cy="587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1"/>
          <a:stretch/>
        </p:blipFill>
        <p:spPr>
          <a:xfrm>
            <a:off x="5562720" y="4876920"/>
            <a:ext cx="906480" cy="5331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2"/>
          <a:stretch/>
        </p:blipFill>
        <p:spPr>
          <a:xfrm>
            <a:off x="5715000" y="2209680"/>
            <a:ext cx="588960" cy="784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3"/>
          <a:stretch/>
        </p:blipFill>
        <p:spPr>
          <a:xfrm>
            <a:off x="6629400" y="2895480"/>
            <a:ext cx="906480" cy="533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16120" y="1359000"/>
            <a:ext cx="7329240" cy="830160"/>
          </a:xfrm>
          <a:prstGeom prst="rect">
            <a:avLst/>
          </a:prstGeom>
          <a:gradFill rotWithShape="0">
            <a:gsLst>
              <a:gs pos="0">
                <a:srgbClr val="f0a92a"/>
              </a:gs>
              <a:gs pos="50000">
                <a:srgbClr val="ffffff"/>
              </a:gs>
              <a:gs pos="100000">
                <a:srgbClr val="f0a9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371600"/>
            <a:ext cx="79484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evas tecnologías/aplicaciones para el ho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-on’—Cable, DSL, Ethernet-to-the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e, Wireless,…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46560" y="3657600"/>
            <a:ext cx="15901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324480" y="3352680"/>
            <a:ext cx="381240" cy="1524240"/>
          </a:xfrm>
          <a:prstGeom prst="line">
            <a:avLst/>
          </a:prstGeom>
          <a:ln w="50760">
            <a:solidFill>
              <a:srgbClr val="cf0e3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477120" y="3504960"/>
            <a:ext cx="380880" cy="1523880"/>
          </a:xfrm>
          <a:prstGeom prst="line">
            <a:avLst/>
          </a:prstGeom>
          <a:ln w="50760">
            <a:solidFill>
              <a:srgbClr val="cf0e3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Pv6 O.S. y soporte de aplic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760" y="1964880"/>
            <a:ext cx="8224560" cy="405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4000"/>
          </a:bodyPr>
          <a:p>
            <a:pPr marL="271440" indent="-27144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odos los vendedores de software oficialmente soportan IPv6 en sus últimas versiones de O.S. 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pple MAC OS X, HP (HP-UX, Tru64 y OpenVMS), IBM zSeries &amp; AIX, Microsoft Windows XP y 2003, .NET, CE; Sun Solaris,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*BSD, Linux,…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2003 en adelante: 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Soporte para las aplicacion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as aplicaciones deben desconocer el entorno (IPv4 o IPv6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asta el momento se ha logrado una buena portabilidad de las aplicacion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Pv6 – para una Internet ubicu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4206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37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nectar cualquier cosa a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ncilla (Plug &amp; Play) y segu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37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isponer de Internet dondequier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viones, trenes, autos, teléfonos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hina, India, Africa,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37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prendizaje y juegos en Internet para todo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plicaciones Peer to Peer y Cliente/Servid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238880" y="1752480"/>
            <a:ext cx="16830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3T23:58:20Z</dcterms:created>
  <dc:creator>Elena Grimany López</dc:creator>
  <dc:description/>
  <dc:language>en-US</dc:language>
  <cp:lastModifiedBy>Elena Grimany López</cp:lastModifiedBy>
  <cp:lastPrinted>1999-01-27T00:54:54Z</cp:lastPrinted>
  <dcterms:modified xsi:type="dcterms:W3CDTF">2004-11-11T15:43:46Z</dcterms:modified>
  <cp:revision>0</cp:revision>
  <dc:subject>IPv6 Evento Redes</dc:subject>
  <dc:title>IPv6</dc:title>
</cp:coreProperties>
</file>